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F64-FE7C-42F5-AEC8-F5CF1AA6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F7A-140D-489C-ADA5-3E4D5B07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7DF-49EE-4731-982D-8E9E8491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79A-128D-4AF0-864B-92F347BB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35C-2089-46F0-A1BA-BAA7E953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901-F558-424A-94AB-2DD85677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26C-4EC0-427E-9290-CD69D502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530-77B3-4171-9B40-7D0F3D16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02D-6FD1-4941-8201-B1CF30B4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11E-6053-4768-BE46-D249190F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E42-6207-4C92-95FB-28B7557D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08D-F871-4A41-AA7A-B3301F43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10AF-ADC0-45CF-833D-C8BFDFF94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ssp.org/" TargetMode="External"/><Relationship Id="rId2" Type="http://schemas.openxmlformats.org/officeDocument/2006/relationships/hyperlink" Target="http://www.issp.org/" TargetMode="External"/><Relationship Id="rId3" Type="http://schemas.openxmlformats.org/officeDocument/2006/relationships/hyperlink" Target="http://www.issp.org/" TargetMode="External"/><Relationship Id="rId4" Type="http://schemas.openxmlformats.org/officeDocument/2006/relationships/hyperlink" Target="http://www.issp.org/" TargetMode="External"/><Relationship Id="rId5" Type="http://schemas.openxmlformats.org/officeDocument/2006/relationships/hyperlink" Target="http://www.europeansocialsurvey.org/" TargetMode="External"/><Relationship Id="rId6" Type="http://schemas.openxmlformats.org/officeDocument/2006/relationships/hyperlink" Target="http://www.europeanvaluesstudy.eu/" TargetMode="External"/><Relationship Id="rId7" Type="http://schemas.openxmlformats.org/officeDocument/2006/relationships/hyperlink" Target="http://www.worldvaluessurvey.org/" TargetMode="External"/><Relationship Id="rId8" Type="http://schemas.openxmlformats.org/officeDocument/2006/relationships/hyperlink" Target="http://www.isjp.de/" TargetMode="External"/><Relationship Id="rId9" Type="http://schemas.openxmlformats.org/officeDocument/2006/relationships/hyperlink" Target="http://www.isjp.de/" TargetMode="External"/><Relationship Id="rId10" Type="http://schemas.openxmlformats.org/officeDocument/2006/relationships/hyperlink" Target="http://www.isjp.de/" TargetMode="External"/><Relationship Id="rId11" Type="http://schemas.openxmlformats.org/officeDocument/2006/relationships/hyperlink" Target="http://ec.europa.eu/public_opinion/" TargetMode="External"/><Relationship Id="rId12" Type="http://schemas.openxmlformats.org/officeDocument/2006/relationships/hyperlink" Target="http://zacat.gesis.org/" TargetMode="Externa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7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ýza kvantitativních dat I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0200" y="2491920"/>
            <a:ext cx="82821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ezinárodní komparativní výzkumné projekty: 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 pro sekundární analýzu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Historická sociolog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(LS 2014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373720"/>
            <a:ext cx="7921440" cy="14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ří Ša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99"/>
                </a:solidFill>
                <a:latin typeface="Arial"/>
              </a:rPr>
              <a:t>jiri.safr(AT)seznam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slední aktualizace </a:t>
            </a:r>
            <a:r>
              <a:rPr b="1" lang="cs-CZ" sz="1400" spc="-1" strike="noStrike">
                <a:solidFill>
                  <a:srgbClr val="990000"/>
                </a:solidFill>
                <a:latin typeface="Arial"/>
              </a:rPr>
              <a:t>11/5/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zinárodní komparativní projek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data pro sekundární analý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ISSP – International Social Survey Programme</a:t>
            </a:r>
            <a:br>
              <a:rPr sz="2300"/>
            </a:br>
            <a:r>
              <a:rPr b="0" lang="cs-CZ" sz="2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ssp</a:t>
            </a:r>
            <a:r>
              <a:rPr b="0" lang="cs-CZ" sz="2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r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ESS – European Social Survey </a:t>
            </a:r>
            <a:r>
              <a:rPr b="0" lang="cs-CZ" sz="23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peansocialsurvey.org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EVS – European Values Survey</a:t>
            </a:r>
            <a:br>
              <a:rPr sz="2300"/>
            </a:br>
            <a:r>
              <a:rPr b="0" lang="cs-CZ" sz="2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europeanvaluesstudy.e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WVS – World Values Survey</a:t>
            </a:r>
            <a:br>
              <a:rPr sz="2300"/>
            </a:br>
            <a:r>
              <a:rPr b="0" lang="cs-CZ" sz="23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worldvaluessurvey.org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ISJP –  International Social Justice Project</a:t>
            </a:r>
            <a:br>
              <a:rPr sz="2300"/>
            </a:br>
            <a:r>
              <a:rPr b="0" lang="cs-CZ" sz="23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</a:t>
            </a:r>
            <a:r>
              <a:rPr b="0" lang="cs-CZ" sz="23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isjp</a:t>
            </a:r>
            <a:r>
              <a:rPr b="0" lang="cs-CZ" sz="23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de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Eurobarome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2300"/>
            </a:br>
            <a:r>
              <a:rPr b="0" lang="cs-CZ" sz="23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ec.europa.eu/public_opinion/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 data v </a:t>
            </a:r>
            <a:r>
              <a:rPr b="0" lang="cs-CZ" sz="23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zacat.gesis.org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IACC, SIALS, IALS – Mezinárodní výzkumy gramotnosti  dospělých: Předpoklady úspěchu v práci a v životě </a:t>
            </a:r>
            <a:br>
              <a:rPr sz="2300"/>
            </a:b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http://www.oecd.org/site/piaac   http://www.piaac.cz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issp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HiSo zřejmě nejatraktivnější datová základna pr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zinárodní i časové komparativní analýz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 od roku 1985, dnes skoro 50 zemí, každý rok šetření na zvolené téma, opakují se tyto tématické modu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le vlády (1985, 1990, 1996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ciální sítě (1986)/ Sociální vztahy a systémy podpory 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ciální nerovnosti (1987, 1992, 1999,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dina a genderové role (1988, 1994, 2002,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ovní orientace (1989, 1997, 2005,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boženství (1991, 1998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votní prostředí (1993, 2000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rodní identita (1995, 2003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čanství (2004, 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ný čas a sport (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aví (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ská republika se účastní ISSP pravidelně od roku 19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08720" y="4149720"/>
            <a:ext cx="3456000" cy="1987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078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zinárodní komparativní projekt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→ data pro sekundární analýz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opulace žáků (ZŠ/SŠ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ISA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gramme for International Student Assessment → kompetence patnáctiletých žáků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www.oecd.org/pi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nternational Association for the Educational Achievemen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– IEA (Mezinárodní asociace pro hodnocení výsledků vzdělávání), koordinuje mj. výzkum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IRLS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– čtenářská gramotnost 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TIMSS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– matematická a přírodovědná gramotnost 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ICILS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počítačová a informační gramotnost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CivED (ICCS)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čanská výchova (postoje) 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www.iea.nl </a:t>
            </a:r>
            <a:br>
              <a:rPr sz="26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ttp://www.csicr.cz/Prave-menu/Mezinarodni-setre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ata (download) a více 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SDA - Český sociálněvědní datový archiv SOÚ AV ČR, v.v.i. http://archiv.soc.cas.c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ětší databáze českých výzkumů od 70. let 20. století do součas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a z některých mezinárodních projektů realizovaných v ČR  (ISSP, SSVE 199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CAT – Social science data porta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IS - Leibniz Institute for the Social Scienc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ttp://zacat.gesis.or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SSP, Eurobarometer, EVS, Studies from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ciologická data a datové archiv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MH0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Dr. Martin Vávra, Ph.D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r. Tomáš Číž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83664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íce se o datových archívech a práci s nimi dozvíte v kur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11:33:30Z</dcterms:created>
  <dc:creator>Jiri Safr</dc:creator>
  <dc:description/>
  <dc:language>en-US</dc:language>
  <cp:lastModifiedBy>Jiri Safr</cp:lastModifiedBy>
  <dcterms:modified xsi:type="dcterms:W3CDTF">2014-05-12T18:28:55Z</dcterms:modified>
  <cp:revision>214</cp:revision>
  <dc:subject/>
  <dc:title>Mezinárodní komparativní výzkumné projekty</dc:title>
</cp:coreProperties>
</file>