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24C-DE9D-40D2-ABAC-F1C1D1C9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02A-9B4F-4FA9-BAFB-10FF8168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5C0-01D4-42E7-B247-5A3F6A32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CE2-2CF4-47E5-BF7A-1CF35164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8BF-64E6-43BA-BCB3-B357A28D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7E6E-F58B-4E74-8A52-CC4A876E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97A-51A2-4B1E-A521-B4FBF8C7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D7F-F97B-499A-A950-C3528A78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3A0-488D-444A-B53A-18FE5BA0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D6B-0994-4217-9604-1CCE3824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661-656F-4AA0-9407-D5E753C3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76A0-C1BA-4163-B674-847C196A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16A6-2D8A-4260-87F7-6E7A53CF3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Analýza kvantitativních dat I.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opisné statistiky v grafech 1.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(třídění 1. stupně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ří Šafr</a:t>
            </a:r>
            <a:br>
              <a:rPr sz="24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jiri.safr(zavináč)seznam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0360" y="6237360"/>
            <a:ext cx="46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sled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cc3300"/>
                </a:solidFill>
                <a:latin typeface="Arial"/>
              </a:rPr>
              <a:t>aktualizace 28. 3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404640"/>
            <a:ext cx="784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UK F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Historická sociologie, Řízení a superv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(LS 2011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-2014</a:t>
            </a: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em and Leaf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→ četnosti/ hustota kardinálního (numerického – spojitého) znaku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vě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 dospělé populace Č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ek Stem-and-Leaf P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53,00        1 .  88888888888899999999999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104,00        2 .  000000000000000111111111111222222223333333333444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62,00        2 .  555555666667777778888888899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89,00        3 .  00000000001111112222222222333333333344444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76,00        3 .  5555555566666667777788888888889999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95,00        4 .  00000000111122222222222333333333334444444444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107,00        4 .  5555555555666666666666677777788888888888899999999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112,00        5 .  00000000000000111111111222222222222333333333344444444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135,00        5 .  555555555555666666666666777777777778888888888888888999999999999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112,00        6 .  00000000000000011111111112222222222233333333333334444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118,00        6 .  5555555555555555666666666677777777777777788888888889999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75,00        7 .  0000000000000111111222222333334444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84,00        7 .  55555555555666666677777888888888999999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em width: 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Each leaf:       2 case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8DD-F528-41E8-827B-96BC2896CA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láčový graf (Pie chart), v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381720"/>
            <a:ext cx="18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ISSP2007, Č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696000" cy="53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DC7-7477-494D-869F-4443CD6889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láčový graf (Pie chart), v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6978" r="7976" b="-2444"/>
          <a:stretch/>
        </p:blipFill>
        <p:spPr>
          <a:xfrm>
            <a:off x="1332000" y="1298520"/>
            <a:ext cx="6696000" cy="5559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6381720"/>
            <a:ext cx="27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TV&amp;knihy 2013, studenti F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D46-F4D7-4911-84F7-F2A474CDDD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785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oxplo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vousaté krabičky, graf rozptý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146400" cy="4752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0" r="22815" b="2950"/>
          <a:stretch/>
        </p:blipFill>
        <p:spPr>
          <a:xfrm>
            <a:off x="0" y="476280"/>
            <a:ext cx="4711680" cy="4751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5373720"/>
            <a:ext cx="914400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VARTILY dělí statistický soubor na desetin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olní Q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,25 (Q1) a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orní Q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,denní5 (Q3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cc3300"/>
                </a:solidFill>
                <a:latin typeface="Arial"/>
              </a:rPr>
              <a:t>medián, kvartily (II. a III.), přilehlá (outliers) a vzdálená (extremes) pozor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terkvartilové rozpětí (vnitřní hradb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horní kvartil + 1,5 násobku interkvartilového roz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dolní kvartil + 1,5 násobku interkvartilového roz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56F-4A1F-4450-96B3-6E233E392E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yntax pro základní grafy v SP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8567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dnoduše v rámci příkazu </a:t>
            </a:r>
            <a:r>
              <a:rPr b="0" lang="cs-CZ" sz="2600" spc="-1" strike="noStrike">
                <a:solidFill>
                  <a:srgbClr val="0033cc"/>
                </a:solidFill>
                <a:latin typeface="Arial"/>
              </a:rPr>
              <a:t>FREQUENCIES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REQ vek /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ISTO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REQ vek /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ARCHA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ERC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REQ vek /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ARCHA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FREQ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REQ vek /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IECHA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ERC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amostatný příkaz </a:t>
            </a:r>
            <a:r>
              <a:rPr b="0" lang="cs-CZ" sz="2600" spc="-1" strike="noStrike">
                <a:solidFill>
                  <a:srgbClr val="0033cc"/>
                </a:solidFill>
                <a:latin typeface="Arial"/>
              </a:rPr>
              <a:t>GRAPH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jde o původní zadávání v SPSS, které je přehledné a lze jednoduše zadávat ze syntaxu. Novější verze SPSS maj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ran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í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art Builder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Interactiv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, které je v podstatě nutné zadávat klikáním přes ok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GRAPH  /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=ve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RAPH /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AR(SIMPLE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GB" sz="2600" spc="-1" strike="noStrike">
                <a:solidFill>
                  <a:srgbClr val="cc3300"/>
                </a:solidFill>
                <a:latin typeface="Arial"/>
              </a:rPr>
              <a:t>PC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BY vekk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RAPH /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AR(SIMPLE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GB" sz="2600" spc="-1" strike="noStrike">
                <a:solidFill>
                  <a:srgbClr val="cc3300"/>
                </a:solidFill>
                <a:latin typeface="Arial"/>
              </a:rPr>
              <a:t>PC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BY q14b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30.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*</a:t>
            </a:r>
            <a:r>
              <a:rPr b="1" lang="cs-CZ" sz="1500" spc="-1" strike="noStrike">
                <a:solidFill>
                  <a:srgbClr val="cc3300"/>
                </a:solidFill>
                <a:latin typeface="Arial"/>
              </a:rPr>
              <a:t>2. stupeň</a:t>
            </a:r>
            <a:r>
              <a:rPr b="0" lang="cs-CZ" sz="1500" spc="-1" strike="noStrike">
                <a:solidFill>
                  <a:srgbClr val="cc3300"/>
                </a:solidFill>
                <a:latin typeface="Arial"/>
              </a:rPr>
              <a:t>: </a:t>
            </a:r>
            <a:r>
              <a:rPr b="1" lang="cs-CZ" sz="15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cs-CZ" sz="15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1" lang="cs-CZ" sz="15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cs-CZ" sz="15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GRAPH /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I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2600" spc="-1" strike="noStrike">
                <a:solidFill>
                  <a:srgbClr val="cc3300"/>
                </a:solidFill>
                <a:latin typeface="Arial"/>
              </a:rPr>
              <a:t>PC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BY vekk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arametr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cc3300"/>
                </a:solidFill>
                <a:latin typeface="Arial"/>
              </a:rPr>
              <a:t>COUN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→ absolutní četnosti,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600" spc="-1" strike="noStrike">
                <a:solidFill>
                  <a:srgbClr val="cc3300"/>
                </a:solidFill>
                <a:latin typeface="Arial"/>
              </a:rPr>
              <a:t>PC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oc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alší grafy pro třídění 2. a 3. stupně viz prezentaci 7. Grafy třídění 2.&amp;3.st. http://metodykv.wz.cz/AKD1_Grafy2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692-1182-4976-8D16-2AA29B01CB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-and-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052640"/>
            <a:ext cx="8686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ámci příkazu EXPLORE resp. EXAM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Arial"/>
              </a:rPr>
              <a:t>EXAMI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VARIABLES=v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PLOT 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BOXPLOT</a:t>
            </a:r>
            <a:r>
              <a:rPr b="0" lang="en-GB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HISTOGRA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EM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COMPAR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STATISTICS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CINTERVAL 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MISSING LIST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NO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*specifikac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TISTICS=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píná zobrazení výpočtů statistik – tabulek příkazu Explor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/STATISTICS=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opak zobrazí všechn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635-03DA-488B-864A-2BCD52728F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OXPLOT (fousaté krabičk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A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S=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k BY vzd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PLOT=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OXPL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STATISTICS=N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NOTO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*pro třídění 2. stupně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ěk podle vzdělání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A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S=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k BY vzd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PLOT=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OXPL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STATISTICS=N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NOTO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D27-92B1-470C-BFDF-5B3F5A7869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ídění 2. stupně pro kategoriální proměn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35080" y="3933360"/>
            <a:ext cx="68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robně v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rafy třídění 2. a 3. stup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http://metodykv.wz.cz/AKD1_Grafy2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rt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často pro třídění 2.stupně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: </a:t>
            </a: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Zájem o politiku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pohla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3153" t="0" r="22720" b="2709"/>
          <a:stretch/>
        </p:blipFill>
        <p:spPr>
          <a:xfrm>
            <a:off x="1403280" y="1386000"/>
            <a:ext cx="5977080" cy="54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F19-6368-4B06-BEE3-7E69FDCFD4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odyhový (cifrový) graf 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em-and-Leaf Plot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k Stem-and-Leaf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Ste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,00       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,00       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,00       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m width:     1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leaf:       1 cas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13123" r="86032" b="62286"/>
          <a:stretch/>
        </p:blipFill>
        <p:spPr>
          <a:xfrm>
            <a:off x="4500720" y="2276640"/>
            <a:ext cx="4114800" cy="417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842920" y="3141720"/>
            <a:ext cx="5041800" cy="107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987280" y="4508280"/>
            <a:ext cx="496908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65000"/>
            <a:ext cx="9144000" cy="147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azuje distribuci dat: hustotu a rozložení; identifikace outlierů (extrémů)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hodný pouze pro data s menším počtem případů → histogram nebo box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u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hodnoty znaku vzestupně uspořádáme; určíme úroveň dle číslice: lodyha (stem) = např. desítky a listy (leafs) = např. jednotk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771280" y="4724280"/>
            <a:ext cx="525636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28A-0C1F-49AC-9F20-E334CAAC37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20640"/>
            <a:ext cx="871380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upcový graf, v němž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aždé kategorii přiřadíme její četnost (nejde procenta!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Zobrazu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istribuci kategorií numerického- kardinálního (nebo ordinálního) znak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roto ho někdy doplňujeme o distribuční křivku normálního rozděle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a Y znázorňuje počet případů (četnost) v dané kategorii. Osa X – intervaly, ty jsou stejné šířky. Pozo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správná šířka intervalu můž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resl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4392" t="17065" r="22408" b="3705"/>
          <a:stretch/>
        </p:blipFill>
        <p:spPr>
          <a:xfrm>
            <a:off x="1763640" y="2048040"/>
            <a:ext cx="5543640" cy="480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AC4-2894-42DD-8F8C-B5399AF26C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loupcový graf – B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char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, v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3051" t="9408" r="-554" b="3411"/>
          <a:stretch/>
        </p:blipFill>
        <p:spPr>
          <a:xfrm>
            <a:off x="684360" y="1495440"/>
            <a:ext cx="7488000" cy="5362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838080"/>
            <a:ext cx="8424720" cy="105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 je zadán v % znázorňuje relativní podíly kategorií (ty lze dále je porovnávat pro určité podskupin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073-EA58-472D-8747-B22AC1F399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loupcový graf – Barchar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bsolutní če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3822" t="9543" r="590" b="2946"/>
          <a:stretch/>
        </p:blipFill>
        <p:spPr>
          <a:xfrm>
            <a:off x="611280" y="1523880"/>
            <a:ext cx="7273800" cy="5334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907920"/>
            <a:ext cx="86421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 ho zadáme v absolutních četnostech, dostaneme vlastně hist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ale viz rozdí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BBA-4CF3-4588-B910-14C309948C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istogram a Sloupcový graf  (Barchart) 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S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3822" t="9543" r="590" b="2946"/>
          <a:stretch/>
        </p:blipFill>
        <p:spPr>
          <a:xfrm>
            <a:off x="4284720" y="1368360"/>
            <a:ext cx="4859280" cy="3892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4392" t="17065" r="22408" b="591"/>
          <a:stretch/>
        </p:blipFill>
        <p:spPr>
          <a:xfrm>
            <a:off x="468360" y="1700280"/>
            <a:ext cx="4030560" cy="3635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1280" y="544500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istogram není příliš vhodný pro malý počet případ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EC9-5B6E-4027-B759-4094A7D5B5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rt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→ četnosti kategorií kategorizovaného znaku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(zde nominální znak </a:t>
            </a: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Kraj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3611" t="17598" r="-2305" b="2284"/>
          <a:stretch/>
        </p:blipFill>
        <p:spPr>
          <a:xfrm>
            <a:off x="468360" y="1566720"/>
            <a:ext cx="8137440" cy="5291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6381720"/>
            <a:ext cx="18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ISSP2007, Č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4E1-BF93-4F1E-B9C7-D6E406CA53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chart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četnosti kategorií kategoriálního znaku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(zde ordinální kategorie </a:t>
            </a: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věku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3611" t="0" r="0" b="3810"/>
          <a:stretch/>
        </p:blipFill>
        <p:spPr>
          <a:xfrm>
            <a:off x="1403280" y="1563840"/>
            <a:ext cx="6624720" cy="5294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6381720"/>
            <a:ext cx="18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ISSP2007, Č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B91-5B46-4BB5-B5AA-C151D6CAFA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→ četnosti/ hustota kardinálního (numerického – spojitého) znaku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vě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 dospělé populace ČR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3051" t="18425" r="23515" b="1886"/>
          <a:stretch/>
        </p:blipFill>
        <p:spPr>
          <a:xfrm>
            <a:off x="1403280" y="1568520"/>
            <a:ext cx="6085080" cy="5289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381720"/>
            <a:ext cx="18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ISSP2007, Č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BB7-FB4E-4EE1-88A9-79B4530BDA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3:54:20Z</dcterms:created>
  <dc:creator>Jiri Safr</dc:creator>
  <dc:description/>
  <dc:language>en-US</dc:language>
  <cp:lastModifiedBy>Jiri Safr</cp:lastModifiedBy>
  <dcterms:modified xsi:type="dcterms:W3CDTF">2014-03-28T19:43:03Z</dcterms:modified>
  <cp:revision>81</cp:revision>
  <dc:subject/>
  <dc:title> Analýza kvantitativních dat I.  Popisné statistiky a grafy</dc:title>
</cp:coreProperties>
</file>