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1AB-F0F2-4E2C-AFEB-B4804AAA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813-BA92-4411-A837-482EF53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DD8-375B-40B7-8AEB-D4DA79E0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38F-43A2-4668-BEB3-D8E5F7D0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5E6-3B85-4521-A7F9-42A46CD9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A18-E2D5-40F9-A7AB-87D0BC6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89A-ABBA-4DAF-B3D1-BF31F693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201-17B7-4E37-82BA-16A7528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E02-1B24-48DC-9E67-7C02764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D91-F08B-4458-B5A2-FB170EE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5B8-3783-464F-8F50-AEA2C6C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E82-65E1-41D9-83D4-C4FBC2F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C0C-BD5F-41BA-977B-C24918BD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nalýza kvantitativních dat I. (II.)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pisné statistiky v grafech 2.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třídění 2. a 3. stupně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6237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sled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aktualizace 31.5. 2015 </a:t>
            </a: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(13. 4. 20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0464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ZS 2012 –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7640" y="508464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GRAPH</a:t>
            </a:r>
            <a:r>
              <a:rPr b="0" lang="cs-CZ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BAR(GROUPED)=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MEAN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prijem)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vzd4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s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4141800" cy="5226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fy třídění 3.stup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Závislá proměn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000080"/>
            <a:ext cx="453708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16000" y="2133720"/>
            <a:ext cx="189216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v SPSS do grafu dostat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řídění 3. stupn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pr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Grafy tříděn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.stupně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vislá proměnná j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ategoriál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tuace je komplikovanější, pokud všechny tři proměnné jsou kategoriální (tj. včetně závis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výhodou můžeme využít podobný princip jako pokud bychom měli kardinální proměnnou a ukazovali průměry v podskup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vislou proměnnou nejprve rekódujeme na dichotomi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ak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kazujeme % pro jednu – „pozitivní“ kategori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pravděpodobnost (což je vlastně průměr z dichotomie 0/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ternativně lze v BARCHARTu (u ordinálních znaků) nechat zobraz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% nad/pod určitou hodnot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nže to jde pouze tam, kde lze závislou proměnnou vyjádřit dichotomií (tedy tam kde lze kategorie slučovat, většinou, pokud je ordinální) nebo vyjádřit jako určitou (krajní) hodno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rafické znázornění interakcí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adání v syntaxu SP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ast ve volbá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q34), data ISSP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 1) →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cen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inside“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 kategoriie 1 až 1, tj. 1=vol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 lze </a:t>
            </a:r>
            <a:r>
              <a:rPr b="1" lang="cs-CZ" sz="2000" spc="-1" strike="noStrike">
                <a:solidFill>
                  <a:srgbClr val="800000"/>
                </a:solidFill>
                <a:latin typeface="Arial"/>
              </a:rPr>
              <a:t>PG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% větší než (hodnota), </a:t>
            </a:r>
            <a:r>
              <a:rPr b="1" lang="cs-CZ" sz="2000" spc="-1" strike="noStrike">
                <a:solidFill>
                  <a:srgbClr val="800000"/>
                </a:solidFill>
                <a:latin typeface="Arial"/>
              </a:rPr>
              <a:t>PL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% menší než (hodnota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PH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/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1)(volil) BY vek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/LIN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/B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Pokud máme kontrolní proměnnou dichotomickou, lze ukázat rozdíl mezi jejími kategoriemi (zde vzdělání jen s/bez VŠ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GRAPH  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6600"/>
                </a:solidFill>
                <a:latin typeface="Arial"/>
              </a:rPr>
              <a:t>HIL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IMPLE)=</a:t>
            </a:r>
            <a:r>
              <a:rPr b="0" lang="cs-CZ" sz="2400" spc="-1" strike="noStrike">
                <a:solidFill>
                  <a:srgbClr val="800000"/>
                </a:solidFill>
                <a:latin typeface="Arial"/>
              </a:rPr>
              <a:t>P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 1)(volil) BY vek3 BY vzd_V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Vždy si sestavte také kontingenční tabulku a a kontrolujte absolutní počty případů v buň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34 BY vek3 BY vz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34 BY vek3 BY vzd3 /C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ST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čast ve volbá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q34), data ISSP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836640"/>
          <a:ext cx="3467160" cy="15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46716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632320" cy="210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13349" b="-1076"/>
          <a:stretch/>
        </p:blipFill>
        <p:spPr>
          <a:xfrm>
            <a:off x="0" y="3789360"/>
            <a:ext cx="3059280" cy="285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0" t="0" r="13919" b="-1068"/>
          <a:stretch/>
        </p:blipFill>
        <p:spPr>
          <a:xfrm>
            <a:off x="6156360" y="4076640"/>
            <a:ext cx="2736720" cy="257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27640" y="3006720"/>
            <a:ext cx="2916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% rozdíl pro VŠ /osta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PH  /HILO(SIMP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P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 1)(volil) BY vek3 BY vzd_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rcRect l="0" t="0" r="12707" b="1007"/>
          <a:stretch/>
        </p:blipFill>
        <p:spPr>
          <a:xfrm>
            <a:off x="3022560" y="3860640"/>
            <a:ext cx="30970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22560" y="3068640"/>
            <a:ext cx="30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  /BAR(SIMPL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310824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  /LINE(SIMPL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 1)(volil) BY vek3 BY vzd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907920"/>
            <a:ext cx="230328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variátní vztah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volil podle věk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 /LINE(SIMPL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PIN(1 1)(volil) BY vek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q34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1=volil, 2=nevolil)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→</a:t>
            </a:r>
            <a:br>
              <a:rPr sz="1200"/>
            </a:br>
            <a:r>
              <a:rPr b="1" lang="it-IT" sz="1200" spc="-1" strike="noStrike">
                <a:solidFill>
                  <a:srgbClr val="cc3300"/>
                </a:solidFill>
                <a:latin typeface="Arial"/>
              </a:rPr>
              <a:t>PI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1 1)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= procento pro kategoriie 1 až 1, tj. 1=vol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7082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olil podle věku s kontrolou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59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[ISSP 2007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 data = konting. tabulka třídění 3.stup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23611" b="2945"/>
          <a:stretch/>
        </p:blipFill>
        <p:spPr>
          <a:xfrm>
            <a:off x="4716360" y="1341360"/>
            <a:ext cx="4310280" cy="439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4464000" cy="321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92360" y="4797360"/>
            <a:ext cx="23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4076640"/>
            <a:ext cx="23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357720"/>
            <a:ext cx="237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92280"/>
            <a:ext cx="5113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Závislá p. dichotom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/zájem o politi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rozdíl v zájmu o politiku mezi muži a ženami uvnitř vzdělanostních kategorií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jem o politiku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rekód na zájem/nezájem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dle pohlaví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i kontrole vlivu vzdě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781360"/>
            <a:ext cx="720720" cy="2448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5661000"/>
            <a:ext cx="892800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rve je třeb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vislou proměnnou rekódovat na dichotomi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zde zájem/nezájem o politi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/BAR(GROUPED)=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PGT(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j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l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BY s30 BY vzd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dpovídající kontin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ulk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SSTAB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it BY s30 BY vzd3/cel 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raf pro závislou proměnnou (v %) a 2 vysvětlují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R(GROUPE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800" spc="-1" strike="noStrike" u="sng">
                <a:solidFill>
                  <a:srgbClr val="cc3300"/>
                </a:solidFill>
                <a:uFillTx/>
                <a:latin typeface="Arial"/>
              </a:rPr>
              <a:t>PGT(0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800080"/>
                </a:solidFill>
                <a:latin typeface="Arial"/>
              </a:rPr>
              <a:t>readEnj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0080"/>
                </a:solidFill>
                <a:latin typeface="Arial"/>
              </a:rPr>
              <a:t>Egp3R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0080"/>
                </a:solidFill>
                <a:latin typeface="Arial"/>
              </a:rPr>
              <a:t>EU_3k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guje al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ze pro dichotomickou závislou proměnn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zde Čte pro radost kódovanou (0=nečte/ 1=čte)→ ukazujeme podíl s hodnotou vyšší než 0 →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GT(0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obrazí procento případů s hodnotou vyšší než 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 obráceně pro „ne-čtenáře“ </a:t>
            </a: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T(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zobrazí procento případů s hodnotou nižší než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56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 se závislou a 2 vysvětlujícími proměnn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6600"/>
                </a:solidFill>
                <a:uFillTx/>
                <a:latin typeface="Arial"/>
              </a:rPr>
              <a:t>Čtení pro rad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enně) u patnáctiletých žáků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dle </a:t>
            </a:r>
            <a:r>
              <a:rPr b="1" lang="cs-CZ" sz="2000" spc="-1" strike="noStrike" u="sng">
                <a:solidFill>
                  <a:srgbClr val="cc3300"/>
                </a:solidFill>
                <a:uFillTx/>
                <a:latin typeface="Arial"/>
              </a:rPr>
              <a:t>sociální tří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rodičů v </a:t>
            </a:r>
            <a:r>
              <a:rPr b="1" lang="cs-CZ" sz="2000" spc="-1" strike="noStrike" u="sng">
                <a:solidFill>
                  <a:srgbClr val="cc3300"/>
                </a:solidFill>
                <a:uFillTx/>
                <a:latin typeface="Arial"/>
              </a:rPr>
              <a:t>evropských zemí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ISA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23659" b="11194"/>
          <a:stretch/>
        </p:blipFill>
        <p:spPr>
          <a:xfrm>
            <a:off x="1332000" y="1628640"/>
            <a:ext cx="540072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pcový graf (%) pro závislou a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nezávislé proměn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48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6600"/>
                </a:solidFill>
                <a:uFillTx/>
                <a:latin typeface="Arial"/>
              </a:rPr>
              <a:t>Názory rodičů na důležitost dalšího studi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o maturitě</a:t>
            </a:r>
            <a:br>
              <a:rPr sz="1800"/>
            </a:br>
            <a:r>
              <a:rPr b="1" lang="cs-CZ" sz="1800" spc="-1" strike="noStrike" u="sng">
                <a:solidFill>
                  <a:srgbClr val="cc3300"/>
                </a:solidFill>
                <a:uFillTx/>
                <a:latin typeface="Arial"/>
              </a:rPr>
              <a:t>podle vzdělání rodič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 u="sng">
                <a:solidFill>
                  <a:srgbClr val="cc3300"/>
                </a:solidFill>
                <a:uFillTx/>
                <a:latin typeface="Arial"/>
              </a:rPr>
              <a:t>typu studi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ČR 2003, procenta souhla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435" t="0" r="8881" b="0"/>
          <a:stretch/>
        </p:blipFill>
        <p:spPr>
          <a:xfrm>
            <a:off x="1258920" y="2276640"/>
            <a:ext cx="5618160" cy="450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PISA 2003; N = min 34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 samé pomocí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hart Bu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Chart Bui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GRAPHDATASET NAME="graphdataset" VARIABLES=skoly COUNT()[name="COUNT"] PA1_Vzd3[LEVEL=ORDINAL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NG=LISTWISE REPORTMISSING=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GRAPHSPEC SOURCE=IN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GIN G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s=userSource(id("graphdataset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: skoly=col(source(s), name("skoly"), unit.category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: COUNT=col(source(s), name("COUNT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: PA1_Vzd3=col(source(s), name("PA1_Vzd3"), unit.category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: rect(dim(1,2), cluster(3,0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UIDE: axis(dim(3), label("Školy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UIDE: axis(dim(2), label("Percent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UIDE: legend(aesthetic(aesthetic.color.interior), label("Vzdělanostní aspirace žáků (dle 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profese 1, přímý kód)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: cat(dim(3), include("1", "2", "3", "4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: linear(dim(2), include(0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: cat(aesthetic(aesthetic.color.interior), include("1", "2", "3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: cat(dim(1), include("1", "2", "3"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: interval(position(summary.percent(PA1_Vzd3*COUNT*skoly, base.coordinate(dim(3)))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.interior(PA1_Vzd3), shape.interior(shape.square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G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9178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jprve připomenutí: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afy třídění 1. a 2.stupn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92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D graf &amp; panely: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vislá proměnná a 3 nezávis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6600"/>
                </a:solidFill>
                <a:uFillTx/>
                <a:latin typeface="Arial"/>
              </a:rPr>
              <a:t>Aspirace patnáctiletých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na studium na VŠ podle </a:t>
            </a:r>
            <a:r>
              <a:rPr b="1" lang="cs-CZ" sz="2000" spc="-1" strike="noStrike" u="sng">
                <a:solidFill>
                  <a:srgbClr val="cc3300"/>
                </a:solidFill>
                <a:uFillTx/>
                <a:latin typeface="Arial"/>
              </a:rPr>
              <a:t>aspirací rodič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a jejich </a:t>
            </a:r>
            <a:r>
              <a:rPr b="1" lang="cs-CZ" sz="2000" spc="-1" strike="noStrike" u="sng">
                <a:solidFill>
                  <a:srgbClr val="cc3300"/>
                </a:solidFill>
                <a:uFillTx/>
                <a:latin typeface="Arial"/>
              </a:rPr>
              <a:t>vzděl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 u="sng">
                <a:solidFill>
                  <a:srgbClr val="cc3300"/>
                </a:solidFill>
                <a:uFillTx/>
                <a:latin typeface="Arial"/>
              </a:rPr>
              <a:t>studenti ZŠ a VG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ČR 2003, procen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073240"/>
          <a:ext cx="84600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73240"/>
                    <a:ext cx="84600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24000" y="638172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droj: PISA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at map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raf tř. 3 st.: závislá kardinální (průměr) podle dvou kategoriálních proměnných.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4791" t="4630" r="6034" b="6586"/>
          <a:stretch/>
        </p:blipFill>
        <p:spPr>
          <a:xfrm>
            <a:off x="412920" y="1125360"/>
            <a:ext cx="8316720" cy="5502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38172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droj: PISA 2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at map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raf tř. 3 st.: závislá kardinální (průměr) podle dvou kategoriálních proměnných.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52098" t="0" r="0" b="0"/>
          <a:stretch/>
        </p:blipFill>
        <p:spPr>
          <a:xfrm>
            <a:off x="324000" y="1557360"/>
            <a:ext cx="2052360" cy="111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3168720" cy="277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96000" y="1484280"/>
            <a:ext cx="3168720" cy="2776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4437000"/>
            <a:ext cx="856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G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/GRAPHDATASET NAME="graphdatase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VARIABLES=vekkat[LEVEL=nominal] vzd4[LEVEL=ordinal] prijem[LEVEL=ratio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MISSING=LISTWISE REPORTMISSING=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/GRAPHSPEC SOURCE=VIZTEMPLATE(NAME="Heat Map"[LOCATION=LOCA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MAPPING( "color"="prijem"[DATASET="graphdataset"] "rows"="vekkat"[DATASET="graphdataset"] "columns"="vzd4"[DATASET="graphdataset"]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VIZSTYLESHEET="Traditional"[LOCATION=LOCA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LABEL="Heat Map: vzd4-vekkat-prije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DEFAULTTEMPLATE=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3 D-density: vztah dvou číselných proměnný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5769" t="3926" r="4199" b="3926"/>
          <a:stretch/>
        </p:blipFill>
        <p:spPr>
          <a:xfrm>
            <a:off x="633240" y="549360"/>
            <a:ext cx="3938760" cy="403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3970080" cy="3480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8920" y="4638600"/>
            <a:ext cx="84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G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/GRAPHDATASET NAME="graphdatase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VARIABLES=isei[LEVEL=ratio] prijem[LEVEL=ratio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MISSING=LISTWISE REPORTMISSING=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/GRAPHSPEC SOURCE=VIZTEMPLATE(NAME="3-D Density"[LOCATION=LOCA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MAPPING( "z"="prijem"[DATASET="graphdataset"] "x"="isei"[DATASET="graphdataset"]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VIZSTYLESHEET="Traditional"[LOCATION=LOCA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LABEL="3-D Density: prijem-isei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DEFAULTTEMPLATE=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pcový graf (Barchart) pro třídění 1. stup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ámci příkazu Frequencies (pouze pro 1. stupeň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q14b </a:t>
            </a:r>
            <a:r>
              <a:rPr b="0" lang="cs-CZ" sz="2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9999"/>
                </a:solidFill>
                <a:latin typeface="Arial"/>
              </a:rPr>
              <a:t>BARCHAR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PERCE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 přes zadání grafu (zde lze i třídění 2 a vyššího stupně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cs-CZ" sz="2400" spc="-1" strike="noStrike">
                <a:solidFill>
                  <a:srgbClr val="009999"/>
                </a:solidFill>
                <a:latin typeface="Arial"/>
              </a:rPr>
              <a:t>B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SIMP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cs-CZ" sz="2400" spc="-1" strike="noStrike">
                <a:solidFill>
                  <a:srgbClr val="cc6600"/>
                </a:solidFill>
                <a:latin typeface="Arial"/>
              </a:rPr>
              <a:t>P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Y q14b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771" t="0" r="0" b="3741"/>
          <a:stretch/>
        </p:blipFill>
        <p:spPr>
          <a:xfrm>
            <a:off x="2987640" y="620640"/>
            <a:ext cx="55069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87640" y="2205000"/>
            <a:ext cx="35892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st.: Vstupní data grafu → kontingenční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le platí pravidlo o orientaci procent: Sloupcová %, pokud závislá proměnná je v řádcích a nezávislá ve sloupcích.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bo obráceně: řádková % a závislá se sloupcích a v řádcích nezávis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, SPSS umí sloupcový graf rovnou v rámci příkaz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OSSTAB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ze pro absolutní čet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y chceme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605" t="12006" r="23080" b="2512"/>
          <a:stretch/>
        </p:blipFill>
        <p:spPr>
          <a:xfrm>
            <a:off x="5435640" y="2349360"/>
            <a:ext cx="3527280" cy="329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515" t="0" r="0" b="0"/>
          <a:stretch/>
        </p:blipFill>
        <p:spPr>
          <a:xfrm>
            <a:off x="111240" y="2708280"/>
            <a:ext cx="5181480" cy="275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3573360"/>
            <a:ext cx="28764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24000" y="2349360"/>
            <a:ext cx="3024360" cy="338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805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ROSSTAB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14b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30/cel col /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BARCHA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573360"/>
            <a:ext cx="863640" cy="194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573360"/>
            <a:ext cx="863640" cy="194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2997360"/>
            <a:ext cx="1727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r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ro třídění 2.stupně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Zájem o politiku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153" t="0" r="22720" b="2709"/>
          <a:stretch/>
        </p:blipFill>
        <p:spPr>
          <a:xfrm>
            <a:off x="900000" y="1386000"/>
            <a:ext cx="5977080" cy="54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80360" y="655308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916280"/>
            <a:ext cx="1403280" cy="1296720"/>
          </a:xfrm>
          <a:prstGeom prst="wedgeRoundRectCallout">
            <a:avLst>
              <a:gd name="adj1" fmla="val 115384"/>
              <a:gd name="adj2" fmla="val -48407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Nezávislá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 proměnn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Součet v kategoriích = 10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89720"/>
            <a:ext cx="1368360" cy="576000"/>
          </a:xfrm>
          <a:prstGeom prst="wedgeRoundRectCallout">
            <a:avLst>
              <a:gd name="adj1" fmla="val 107541"/>
              <a:gd name="adj2" fmla="val 11997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Závislá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 proměnn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3771" t="0" r="0" b="3741"/>
          <a:stretch/>
        </p:blipFill>
        <p:spPr>
          <a:xfrm>
            <a:off x="6838920" y="1484280"/>
            <a:ext cx="2305080" cy="2049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3860640"/>
            <a:ext cx="2340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ději si vždy zkontrolujte, zda součet %, tj. typ/orientace % je správně, buď vložením hodnot nebo pomocí CROSSTA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yntax: sloupcový graf třídění 2. stu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az </a:t>
            </a:r>
            <a:r>
              <a:rPr b="1" lang="cs-CZ" sz="2600" spc="-1" strike="noStrike">
                <a:solidFill>
                  <a:srgbClr val="333399"/>
                </a:solidFill>
                <a:latin typeface="Arial"/>
              </a:rPr>
              <a:t>GRAPH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jde o původní zadávání v SPSS, které je přehledné a lze jednoduše zadávat ze syntaxu. Novější verze SPSS mají Chart Builder a Interactive, které je v podstatě možné zadávat pouze klikáním přes ok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cházíme ze základního zadání třídění 1. stupn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808080"/>
                </a:solidFill>
                <a:latin typeface="Arial"/>
              </a:rPr>
              <a:t>GRAPH /</a:t>
            </a:r>
            <a:r>
              <a:rPr b="1" lang="en-GB" sz="2600" spc="-1" strike="noStrike">
                <a:solidFill>
                  <a:srgbClr val="808080"/>
                </a:solidFill>
                <a:latin typeface="Arial"/>
              </a:rPr>
              <a:t>BAR(SIMPLE)</a:t>
            </a:r>
            <a:r>
              <a:rPr b="0" lang="en-GB" sz="2600" spc="-1" strike="noStrike">
                <a:solidFill>
                  <a:srgbClr val="808080"/>
                </a:solidFill>
                <a:latin typeface="Arial"/>
              </a:rPr>
              <a:t>=PCT BY vek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dat lze rozdělení do klastrů-rozdělených sloupců např. podle pohlaví (s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R(SIMPL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q14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1" lang="en-GB" sz="2600" spc="-1" strike="noStrike" u="sng">
                <a:solidFill>
                  <a:srgbClr val="333399"/>
                </a:solidFill>
                <a:uFillTx/>
                <a:latin typeface="Arial"/>
              </a:rPr>
              <a:t>s30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66"/>
                </a:solidFill>
                <a:latin typeface="Arial"/>
              </a:rPr>
              <a:t>Pozor ale na orientaci procent (sloupcová vs. řádková)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66"/>
                </a:solidFill>
                <a:latin typeface="Arial"/>
              </a:rPr>
              <a:t>Frequency of cases in each category expressed as a </a:t>
            </a: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percentage of the whole</a:t>
            </a:r>
            <a:r>
              <a:rPr b="0" lang="en-GB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arametr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cc3300"/>
                </a:solidFill>
                <a:latin typeface="Arial"/>
              </a:rPr>
              <a:t>COUN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→ absolutní četnosti,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→ proc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f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řídění 3. stup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fy třídění 3.stup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Závislá proměn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není pokud j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vislá proměnná kardinál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íselná), pak ukazujem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ůmě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pod / pod skupinách (2. a 3. kategoriální proměnn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165" t="0" r="23683" b="3847"/>
          <a:stretch/>
        </p:blipFill>
        <p:spPr>
          <a:xfrm>
            <a:off x="4691160" y="2060640"/>
            <a:ext cx="4155840" cy="432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2522" t="0" r="23309" b="3637"/>
          <a:stretch/>
        </p:blipFill>
        <p:spPr>
          <a:xfrm>
            <a:off x="324000" y="2060640"/>
            <a:ext cx="4248000" cy="4421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6381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GRAPH</a:t>
            </a:r>
            <a:r>
              <a:rPr b="0" lang="cs-CZ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BAR(GROUPED)=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MEAN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prijem)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vzd4 </a:t>
            </a: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s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96000" y="638172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99"/>
                </a:solidFill>
                <a:latin typeface="Arial Narrow"/>
              </a:rPr>
              <a:t>GRAPH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/ERRORBAR(CI 95)=prijem </a:t>
            </a:r>
            <a:r>
              <a:rPr b="1" lang="cs-CZ" sz="1600" spc="-1" strike="noStrike">
                <a:solidFill>
                  <a:srgbClr val="cc3300"/>
                </a:solidFill>
                <a:latin typeface="Arial Narrow"/>
              </a:rPr>
              <a:t>BY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 vzd4 </a:t>
            </a:r>
            <a:r>
              <a:rPr b="1" lang="cs-CZ" sz="1600" spc="-1" strike="noStrike">
                <a:solidFill>
                  <a:srgbClr val="cc3300"/>
                </a:solidFill>
                <a:latin typeface="Arial Narrow"/>
              </a:rPr>
              <a:t>BY </a:t>
            </a:r>
            <a:r>
              <a:rPr b="0" lang="cs-CZ" sz="1600" spc="-1" strike="noStrike">
                <a:solidFill>
                  <a:srgbClr val="000000"/>
                </a:solidFill>
                <a:latin typeface="Arial Narrow"/>
              </a:rPr>
              <a:t>s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fy třídění 3.stup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Závislá proměn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je jedna vysvětlující proměnná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rdin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a ose X), pak lze 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niov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graf, který vyjadřuje trendy v podskup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611" t="0" r="21738" b="3810"/>
          <a:stretch/>
        </p:blipFill>
        <p:spPr>
          <a:xfrm>
            <a:off x="455760" y="1305000"/>
            <a:ext cx="4116240" cy="424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9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877000"/>
            <a:ext cx="518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33399"/>
                </a:solidFill>
                <a:latin typeface="Arial Narrow"/>
              </a:rPr>
              <a:t>GRAPH</a:t>
            </a:r>
            <a:r>
              <a:rPr b="0" lang="cs-CZ" sz="1700" spc="-1" strike="noStrike">
                <a:solidFill>
                  <a:srgbClr val="000000"/>
                </a:solidFill>
                <a:latin typeface="Arial Narrow"/>
              </a:rPr>
              <a:t>  /</a:t>
            </a:r>
            <a:r>
              <a:rPr b="1" lang="cs-CZ" sz="1700" spc="-1" strike="noStrike">
                <a:solidFill>
                  <a:srgbClr val="006600"/>
                </a:solidFill>
                <a:latin typeface="Arial Narrow"/>
              </a:rPr>
              <a:t>LINE</a:t>
            </a:r>
            <a:r>
              <a:rPr b="0" lang="cs-CZ" sz="1700" spc="-1" strike="noStrike">
                <a:solidFill>
                  <a:srgbClr val="000000"/>
                </a:solidFill>
                <a:latin typeface="Arial Narrow"/>
              </a:rPr>
              <a:t>(MULTIPLE)=MEAN(prijem) BY vzd4 BY s30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2382" t="0" r="23200" b="2672"/>
          <a:stretch/>
        </p:blipFill>
        <p:spPr>
          <a:xfrm>
            <a:off x="4678200" y="1268280"/>
            <a:ext cx="4465800" cy="468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78200" y="6234120"/>
            <a:ext cx="4465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99"/>
                </a:solidFill>
                <a:latin typeface="Arial Narrow"/>
              </a:rPr>
              <a:t>GRAPH</a:t>
            </a: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  /</a:t>
            </a:r>
            <a:r>
              <a:rPr b="1" lang="cs-CZ" sz="1400" spc="-1" strike="noStrike">
                <a:solidFill>
                  <a:srgbClr val="006600"/>
                </a:solidFill>
                <a:latin typeface="Arial Narrow"/>
              </a:rPr>
              <a:t>LINE</a:t>
            </a:r>
            <a:r>
              <a:rPr b="0" lang="cs-CZ" sz="1400" spc="-1" strike="noStrike">
                <a:solidFill>
                  <a:srgbClr val="000000"/>
                </a:solidFill>
                <a:latin typeface="Arial Narrow"/>
              </a:rPr>
              <a:t>(MULTIPLE)=MEAN(prijem) BY vzd4 BY s30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400" spc="-1" strike="noStrike">
                <a:solidFill>
                  <a:srgbClr val="006600"/>
                </a:solidFill>
                <a:latin typeface="Arial"/>
              </a:rPr>
              <a:t>INTERVAL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CI(95.0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0:21:12Z</dcterms:created>
  <dc:creator>Jiri Safr</dc:creator>
  <dc:description/>
  <dc:language>en-US</dc:language>
  <cp:lastModifiedBy>Jiri Safr</cp:lastModifiedBy>
  <dcterms:modified xsi:type="dcterms:W3CDTF">2015-05-31T22:54:46Z</dcterms:modified>
  <cp:revision>134</cp:revision>
  <dc:subject/>
  <dc:title> Analýza kvantitativních dat I.  Popisné statistiky v grafech 2. (třídění 2. a 3. stupně)</dc:title>
</cp:coreProperties>
</file>