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.png" ContentType="image/png"/>
  <Override PartName="/ppt/media/image25.wmf" ContentType="image/x-wmf"/>
  <Override PartName="/ppt/media/image26.png" ContentType="image/png"/>
  <Override PartName="/ppt/media/image3.png" ContentType="image/png"/>
  <Override PartName="/ppt/media/image41.png" ContentType="image/png"/>
  <Override PartName="/ppt/media/image35.png" ContentType="image/png"/>
  <Override PartName="/ppt/media/image5.png" ContentType="image/png"/>
  <Override PartName="/ppt/media/image13.wmf" ContentType="image/x-wmf"/>
  <Override PartName="/ppt/media/image33.wmf" ContentType="image/x-wmf"/>
  <Override PartName="/ppt/media/image39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31.jpeg" ContentType="image/jpeg"/>
  <Override PartName="/ppt/media/image42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C62-4F2E-4A0D-8F6F-24B57704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811-553D-4E1A-8A3D-20A0A6D2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584-04D4-478B-A94E-DB9AE558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3DF-72FD-464A-B1B5-EAC4EF45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855-A0BD-4E76-92B0-BD91FD7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465-630C-4100-90E8-8384A592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849-5FCD-4578-BA2D-7DEAC61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876-ECE7-48DD-9E4F-AC94D3F9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1F4-2C15-4505-B5BB-4B535ED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7DD-AB89-4B28-B16B-78783A21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AE0-21B7-427C-9D05-1E61954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44D-0ADD-4CED-8D66-07016932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8C9-3877-49F6-B6D6-DF820DF6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metodykv.wz.cz/AKD2_variacni_koef.ppt" TargetMode="External"/><Relationship Id="rId2" Type="http://schemas.openxmlformats.org/officeDocument/2006/relationships/hyperlink" Target="http://iastat.vse.cz/Nominalni.html" TargetMode="External"/><Relationship Id="rId3" Type="http://schemas.openxmlformats.org/officeDocument/2006/relationships/hyperlink" Target="http://iastat.vse.cz/Nominalni.html" TargetMode="External"/><Relationship Id="rId4" Type="http://schemas.openxmlformats.org/officeDocument/2006/relationships/hyperlink" Target="http://iastat.vse.cz/Nominalni.html" TargetMode="External"/><Relationship Id="rId5" Type="http://schemas.openxmlformats.org/officeDocument/2006/relationships/hyperlink" Target="http://iastat.vse.cz/Nominalni.html" TargetMode="External"/><Relationship Id="rId6" Type="http://schemas.openxmlformats.org/officeDocument/2006/relationships/hyperlink" Target="http://iastat.vse.cz/Nominalni.html" TargetMode="External"/><Relationship Id="rId7" Type="http://schemas.openxmlformats.org/officeDocument/2006/relationships/hyperlink" Target="http://iastat.vse.cz/Nominalni.html" TargetMode="External"/><Relationship Id="rId8" Type="http://schemas.openxmlformats.org/officeDocument/2006/relationships/hyperlink" Target="http://iastat.vse.cz/Nominalni.html" TargetMode="External"/><Relationship Id="rId9" Type="http://schemas.openxmlformats.org/officeDocument/2006/relationships/hyperlink" Target="http://iastat.vse.cz/Nominalni.html" TargetMode="External"/><Relationship Id="rId10" Type="http://schemas.openxmlformats.org/officeDocument/2006/relationships/hyperlink" Target="http://iastat.vse.cz/Nominalni.html" TargetMode="External"/><Relationship Id="rId11" Type="http://schemas.openxmlformats.org/officeDocument/2006/relationships/hyperlink" Target="http://iastat.vse.cz/Nominalni.html" TargetMode="External"/><Relationship Id="rId1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metodykv.wz.cz/index.htm#webnastroje" TargetMode="External"/><Relationship Id="rId2" Type="http://schemas.openxmlformats.org/officeDocument/2006/relationships/hyperlink" Target="http://www.metodykv.wz.cz/index.htm#webnastroje" TargetMode="External"/><Relationship Id="rId3" Type="http://schemas.openxmlformats.org/officeDocument/2006/relationships/hyperlink" Target="http://www.metodykv.wz.cz/index.htm#webnastroje" TargetMode="External"/><Relationship Id="rId4" Type="http://schemas.openxmlformats.org/officeDocument/2006/relationships/hyperlink" Target="http://www.metodykv.wz.cz/index.htm#webnastroje" TargetMode="External"/><Relationship Id="rId5" Type="http://schemas.openxmlformats.org/officeDocument/2006/relationships/hyperlink" Target="http://www.metodykv.wz.cz/index.htm#webnastroje" TargetMode="External"/><Relationship Id="rId6" Type="http://schemas.openxmlformats.org/officeDocument/2006/relationships/hyperlink" Target="http://www.metodykv.wz.cz/index.htm#webnastroje" TargetMode="External"/><Relationship Id="rId7" Type="http://schemas.openxmlformats.org/officeDocument/2006/relationships/hyperlink" Target="http://www.metodykv.wz.cz/index.htm#webnastroje" TargetMode="External"/><Relationship Id="rId8" Type="http://schemas.openxmlformats.org/officeDocument/2006/relationships/hyperlink" Target="http://www.metodykv.wz.cz/index.htm#webnastroje" TargetMode="External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alýza kvantitativních dat I.</a:t>
            </a:r>
            <a:br>
              <a:rPr sz="4000"/>
            </a:b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pisné statistiky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 explorační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ednorozměrná analýz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iří Šafr</a:t>
            </a:r>
            <a:br>
              <a:rPr sz="28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jiri.safr(zavináč)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6237360"/>
            <a:ext cx="52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3300"/>
                </a:solidFill>
                <a:latin typeface="Arial"/>
              </a:rPr>
              <a:t>poslední aktualizace 25. 3. 2015</a:t>
            </a:r>
            <a:r>
              <a:rPr b="1" lang="cs-CZ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(vytvořeno 29. 6. 20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0464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(LS 2014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ardinál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znaky/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rdinální znaky rozlišujeme n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intervalov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mají přirozený počáte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obsahový smysl má rozdíl ale nikoliv podíl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 „Dnes je o 10 st. C tepleji“, ale ne „o 25% tepleji.“ / IQ nemá n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měrov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j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irozený počáte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0 má význam), tudíž lze uvažovat i podíl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 „nulové“ i „dvojnásobné tržby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E8E-B40E-496F-9C89-D74693743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Nominální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naky/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ominální znaky rozlišujeme n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íce-kategoriál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jí tři a více hodno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např. rodinný stav: svobodný/ná; ženatý/á; rozvedený/á; vdovec/vdova) </a:t>
            </a:r>
            <a:br>
              <a:rPr sz="24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hlediska analýzy jsou nejobtížněji analyzovatelné a výsledky interpretovatel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dichotomick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j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n dvě hodnot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ze je kódovat 0/1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 má význam jev nenastal; 1 jev nastal (např. proměnná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e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1 = žena a 0 = muž(+ostatní)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hlediska analýzy mají určité výhody (např. pravděpodobnost (tj. %) odpovídá průmě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-kategoriální lze převést na sadu dichotomických proměnných (tzv. dummy zna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768-85B5-475C-A445-0573E2BF53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incip zpracování kvantitativních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zpracovat získané odpovědi v dotaznících (nebo jinak generovaná dat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prve je třeba vytvořit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atovou mat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25929" r="0" b="0"/>
          <a:stretch/>
        </p:blipFill>
        <p:spPr>
          <a:xfrm>
            <a:off x="4859280" y="2781360"/>
            <a:ext cx="410544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80000" y="3213000"/>
            <a:ext cx="93636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2200" y="4842000"/>
            <a:ext cx="849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to pořízená data je tře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prve „vyčistit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značit uživatelsky definované chybějící hodnoty),případně dále upravit (např. rekódovat, vytvořit nové syntetické znaky, popsat hodnoty/názvy-labelovat) →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ta-manag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rve potom můžeme přistoupit k samotné analýze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tomu všemu nám může napomoci specializovaný statistický software, například SP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B44-A421-47B6-BF45-E0DD297AEF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1000" y="1413000"/>
            <a:ext cx="8839080" cy="5229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35280" y="692280"/>
            <a:ext cx="2376720" cy="1366560"/>
          </a:xfrm>
          <a:prstGeom prst="wedgeEllipseCallout">
            <a:avLst>
              <a:gd name="adj1" fmla="val -74851"/>
              <a:gd name="adj2" fmla="val 11411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roměn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92280"/>
            <a:ext cx="2952720" cy="1150920"/>
          </a:xfrm>
          <a:prstGeom prst="wedgeEllipseCallout">
            <a:avLst>
              <a:gd name="adj1" fmla="val -45430"/>
              <a:gd name="adj2" fmla="val 236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řípady (respon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981000"/>
            <a:ext cx="2160720" cy="1008000"/>
          </a:xfrm>
          <a:prstGeom prst="wedgeEllipseCallout">
            <a:avLst>
              <a:gd name="adj1" fmla="val -4078"/>
              <a:gd name="adj2" fmla="val 27693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í různé typy dat (datových matic), pro nás bude zákla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vourozměrná datová matice (2-way data): PŘÍPADY × PROMĚNN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F7D-BF58-4387-B2D3-3C13463AB2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-wa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PŘÍPAD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PROMĚNNÉ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280" y="692280"/>
            <a:ext cx="9001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rson is the ‘‘object’’ and level of education is the ‘‘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’’ for which the researcher wants a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ssigned to each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Nejen) v SPSS se lze setkat se 2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základními typy 2-way da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ěkdy označovaná také jako „SPSS data“)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tj. data uspořádaná tak, že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řípad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sou v řádcích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oměn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e sloupcích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Individuální mikrodat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data kde případy jsou individuální pozorování, nejčastěji respondenti, ale např. také novinové články</a:t>
            </a:r>
            <a:br>
              <a:rPr sz="2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lad: Důvěra lidí v prezidenta (informace o hodnotě proměnné u každého responden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Agregovaná dat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individuální data sloučená za určitou vyšší organizační jednotku (např. školy, regiony nebo státy) většinou sumované z individuálních údaj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 mohou mít dále různou pod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ombinovaná individuální mikrodata s kontextuálními daty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buď na agregované úrovni nebo jako kontext společný určité skupině individuí např. z oficiálních statistik nebo jiné formy výzkum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ividuální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ikrodat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 opakovaným měření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 panelové stud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istují ale i jiné typy – uspořádání dat, která lze analyzovat, mj.: tabelární data (např. kontingenční tabulka), distanční data (např. korelační matice), časové řady a d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774-D25D-4DB8-8344-5577E073B8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ednoduché popisné statis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třídění dat 1. stupně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í hodn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y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třední hodno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minální znak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o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dinální zna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dián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ritmetický průmě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valové zna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ritmetický prů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í „jednoho čísla“ vyjadřujeme vlastnost znak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typická hodnota datové ř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2F0-BD4B-4F44-9E1D-74C6C6B328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du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kategorie s největší četností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lze s ním provádět žádné algebraické operace. Může existovat i více modálních kategori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dián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hodnota, která je ve prostředku všech pozorování seřazených podle hodnot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jinak řečeno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odnota proměnné, před níž je polovina pozorování majících menší hodnotu a za níž je druhá polovina pozorování majících větší hodnotu než má medián. 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sudém počtu hodnot: průměr dvou prostředních hod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ritmetický průmě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= součet hodnot dělený počtem pozorová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 symetrické rozložení hodnot je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ladní střední hodnoty (míry centrální ten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BB7-808D-4CF7-8F56-1085379820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odus (m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2760" y="63086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Babbie 199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1600200"/>
          <a:ext cx="79214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00200"/>
                    <a:ext cx="7921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D2A-5053-4D53-855B-13A50025BC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28640"/>
          <a:ext cx="82296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28640"/>
                    <a:ext cx="82296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356600" y="625788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Babbie 199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589720"/>
            <a:ext cx="842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50021"/>
                </a:solidFill>
                <a:latin typeface="Arial"/>
              </a:rPr>
              <a:t>Poznámka: zde je důležité, aby </a:t>
            </a:r>
            <a:r>
              <a:rPr b="1" lang="cs-CZ" sz="1200" spc="-1" strike="noStrike">
                <a:solidFill>
                  <a:srgbClr val="a50021"/>
                </a:solidFill>
                <a:latin typeface="Arial"/>
              </a:rPr>
              <a:t>hodnoty znaku byly seřazeny</a:t>
            </a:r>
            <a:r>
              <a:rPr b="0" lang="cs-CZ" sz="12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50021"/>
                </a:solidFill>
                <a:latin typeface="Arial"/>
              </a:rPr>
              <a:t>Máme 31 případů (žáků) seřazených podle věku, tj. </a:t>
            </a:r>
            <a:r>
              <a:rPr b="1" lang="cs-CZ" sz="1200" spc="-1" strike="noStrike">
                <a:solidFill>
                  <a:srgbClr val="a50021"/>
                </a:solidFill>
                <a:latin typeface="Arial"/>
              </a:rPr>
              <a:t>medián</a:t>
            </a:r>
            <a:r>
              <a:rPr b="0" lang="cs-CZ" sz="1200" spc="-1" strike="noStrike">
                <a:solidFill>
                  <a:srgbClr val="a50021"/>
                </a:solidFill>
                <a:latin typeface="Arial"/>
              </a:rPr>
              <a:t> je uprostřed (16. žák): 50 % případů je pod a 50 % nad ní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50021"/>
                </a:solidFill>
                <a:latin typeface="Arial"/>
              </a:rPr>
              <a:t>Zde je medián zároveň modusem i průměr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893-D59B-4248-B6CD-2FDBC10933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0600" y="728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alýza kvantitativních dat (obecné princi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va základní typy statistik / přístupy ve stati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pomenutí základních pojmů 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typy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duché popisné statistiky </a:t>
            </a:r>
            <a:br>
              <a:rPr sz="2400"/>
            </a:b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→ třídění dat 1. stupně (jednorozměrná analý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řední hodno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modus, medián, prů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ariance-rozptýlení d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rozptyl, směrodatná odchy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míry variability-rozptýl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rozpětí, kvantily, špičatost, šik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řední hodnoty a míry variability v programu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íry variability pro kategoriální proměnné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úvod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datná odchylka pro dichotomickou proměn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riační poměr –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osti rozdělení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ěření normality rozložení 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 co si dát v datech po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izace na z-skó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309-56E1-412C-92DD-6DB2633A96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ů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6400" y="1600200"/>
          <a:ext cx="8071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600200"/>
                    <a:ext cx="8071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356600" y="625788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Babbie 199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F72-A1E2-4FD9-AFE8-8A65C01983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třední hodnoty a jejich li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→ popis rozložení hodnot znaku „pomocí jednoho „typického“ čísla“ – těžiště uspořádání hodnot zn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má pochopitelně lim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jedno číslo k popisu znaku většinou nestač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málokdy mají všechny případy přibližně stejnou hodnot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neříká nic o variabilitě – rozptýlení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moc se nehodí pro kategoriální znaky</a:t>
            </a:r>
            <a:r>
              <a:rPr b="0" lang="cs-CZ" sz="28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→ místo modusu ukazujeme raději celou distribuci hodnot v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je vždy používám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roveň s údaji o variabilitě, rozptyl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“kvalitativní“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49F-B0BB-4ED0-AAB3-E5F0DFCBB7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charakteristiky variability </a:t>
            </a:r>
            <a:br>
              <a:rPr sz="36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→  „Kvalitativní“ charakteristika středních hodnot (u kardinálních-číselných znak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15920"/>
            <a:ext cx="86868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 = střední hodnota kvadrátů odchylek od střední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ěrodatná odchylk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odmocnina z rozptylu náhodné veličiny (na rozdíl od rozptylu je v původních jednotkách proměn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běrová směrodatná odchylk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dtto ale ve výběrovém souboru → malinká úprava ve vzorci, logicky jde o odmocninu z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běrovéh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ozpty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uvidíme dále variabilitu hodnot proměnné lze popsat i podrobněji pomocí dalších mě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6EE-5D34-4187-8499-64DB35E855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arakteristiky variability kardinálních znaků: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ptyl a Směrodatná odchy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ávají koncentraci nebo rozptýlení kolem střední hodnoty. Ukazují na „kvalitu“ průmě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součet kvadratických odchylek od průměru dělený rozsahem výběru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(pokud jde o výběrový soubor tak navíc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zmenšeným o 1)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nglick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odmocnina z rozpty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nglick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tandard Deviation – STDD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datná odchylka je míra rozptýlení hodnot od průměrné (střední) hodnoty vyjádřená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původních hodnotá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v nichž proměnnou měříme (např. u věku v letech)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roti tomu samotný rozptyl je bezrozměrný a špatně se tak interpret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453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ují také míry variability pro kategoriální (nominální) znaky, viz dá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F84-8139-4EA3-A2D8-38B137A326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ýpočet směrodatné odchyl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55640" y="3726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6920" y="201924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Máme pozorová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oučet řa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očet případ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rům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40/10 = </a:t>
            </a:r>
            <a:r>
              <a:rPr b="1" lang="cs-CZ" sz="2400" spc="-1" strike="noStrike" u="sng">
                <a:solidFill>
                  <a:srgbClr val="cc33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odchylky od průměru (</a:t>
            </a:r>
            <a:r>
              <a:rPr b="0" lang="cs-CZ" sz="2400" spc="-1" strike="noStrike">
                <a:solidFill>
                  <a:srgbClr val="cc3300"/>
                </a:solidFill>
                <a:latin typeface="Arial"/>
              </a:rPr>
              <a:t>X=4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(součet odchylek je 9 – 9 = </a:t>
            </a:r>
            <a:r>
              <a:rPr b="1" lang="cs-CZ" sz="2400" spc="-1" strike="noStrike">
                <a:solidFill>
                  <a:srgbClr val="4d4d4d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čtverce odchy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9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oučet čtverců odchyl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čtvercová odchylka tj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 52/10=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měrodatná odchylk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dmocnina z rozptylu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s =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2,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0930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a50021"/>
                </a:solidFill>
                <a:latin typeface="Arial"/>
              </a:rPr>
              <a:t>Existují dva vzorečky: pro </a:t>
            </a:r>
            <a:r>
              <a:rPr b="1" lang="cs-CZ" sz="1600" spc="-1" strike="noStrike">
                <a:solidFill>
                  <a:srgbClr val="a50021"/>
                </a:solidFill>
                <a:latin typeface="Arial"/>
              </a:rPr>
              <a:t>populační směrodatnou odchylku</a:t>
            </a:r>
            <a:r>
              <a:rPr b="0" lang="cs-CZ" sz="1600" spc="-1" strike="noStrike">
                <a:solidFill>
                  <a:srgbClr val="a50021"/>
                </a:solidFill>
                <a:latin typeface="Arial"/>
              </a:rPr>
              <a:t> (zde – pro celou populaci) a pro </a:t>
            </a:r>
            <a:r>
              <a:rPr b="1" lang="cs-CZ" sz="1600" spc="-1" strike="noStrike">
                <a:solidFill>
                  <a:srgbClr val="a50021"/>
                </a:solidFill>
                <a:latin typeface="Arial"/>
              </a:rPr>
              <a:t>výběrovou</a:t>
            </a:r>
            <a:r>
              <a:rPr b="0" lang="cs-CZ" sz="1600" spc="-1" strike="noStrike">
                <a:solidFill>
                  <a:srgbClr val="a50021"/>
                </a:solidFill>
                <a:latin typeface="Arial"/>
              </a:rPr>
              <a:t>, tj. jen pro vzorek z populace, v níž je ve jmenovateli místo „n „</a:t>
            </a:r>
            <a:r>
              <a:rPr b="1" lang="cs-CZ" sz="1600" spc="-1" strike="noStrike">
                <a:solidFill>
                  <a:srgbClr val="a50021"/>
                </a:solidFill>
                <a:latin typeface="Arial"/>
              </a:rPr>
              <a:t>n-1</a:t>
            </a:r>
            <a:r>
              <a:rPr b="0" lang="cs-CZ" sz="1600" spc="-1" strike="noStrike">
                <a:solidFill>
                  <a:srgbClr val="a50021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3700" t="740" r="14799" b="93031"/>
          <a:stretch/>
        </p:blipFill>
        <p:spPr>
          <a:xfrm>
            <a:off x="5651640" y="836640"/>
            <a:ext cx="3097080" cy="1184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aphicFrame>
        <p:nvGraphicFramePr>
          <p:cNvPr id="118" name=""/>
          <p:cNvGraphicFramePr/>
          <p:nvPr/>
        </p:nvGraphicFramePr>
        <p:xfrm>
          <a:off x="395280" y="836640"/>
          <a:ext cx="5040000" cy="1152000"/>
        </p:xfrm>
        <a:graphic>
          <a:graphicData uri="http://schemas.openxmlformats.org/drawingml/2006/table">
            <a:tbl>
              <a:tblPr/>
              <a:tblGrid>
                <a:gridCol w="1573920"/>
                <a:gridCol w="364680"/>
                <a:gridCol w="311400"/>
                <a:gridCol w="311760"/>
                <a:gridCol w="364320"/>
                <a:gridCol w="364320"/>
                <a:gridCol w="397800"/>
                <a:gridCol w="363960"/>
                <a:gridCol w="312120"/>
                <a:gridCol w="363960"/>
                <a:gridCol w="311760"/>
              </a:tblGrid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zorování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chylky od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prů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tverce odchyl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704-AAF2-4F1C-9BE5-4572840C11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ýpočet směrodatné odchylky (př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3384720" cy="135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755640" y="3726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01924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íklad 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áme pozorová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čet řa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33;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ům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33/9 =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3,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od průmě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1,6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,34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,34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0,6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2,6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,34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1,6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,3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1,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čet odchylek je =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tverce odchy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,76;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,80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,12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0,44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7,08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18,84; 2,76;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,48;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,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čet čtverců odchylek 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2,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čtvercová odchylka tj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2,04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9=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,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měrodatná odchylk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dmocnina z rozptylu) =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2,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836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né jako předchozí příklad, ale vynechali jsme jedno – poslední pozorování (n=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27F-31A4-45DA-8750-DDD386D459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 k procvičení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ATA: Věk AKD1 LS 2012</a:t>
            </a:r>
            <a:br>
              <a:rPr sz="3600"/>
            </a:b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Porovnejte střední hodnoty (průměr, medián) a směrodatnou odchylku u skupin studentů z Denního a Kombinovaného stu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0" y="198864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mbin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97F-E83E-4ED5-8892-166E9AB0E4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měrodatná odchylka v Exce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032000" cy="293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4776840" cy="2400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859280" y="1557360"/>
            <a:ext cx="403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STDEVP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pro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základn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soub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STDEVA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pro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výběrový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soub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934920" cy="1727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2781360"/>
            <a:ext cx="37447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výpočet pr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běrov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měrodatnou odchyl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tD (tj. pro vzorek z popul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069-7370-4493-AEF4-35B1BB30FB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lší popisné statistiky - variabi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nální (číselné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mě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imum /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pě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= max -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nti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dolní a horní kvartil 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kvartilové rozpětí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sou ale jiné členění do stejně početně zastoupených skupin, např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rci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3 % / 33 % / 33 %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ci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0 % / 10 %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eficient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ikmost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kewn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eficient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pičatost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Kur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riační koeficien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= podíl směr.odchylky a průměru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tegoriál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mě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y variability (variační koeficient a jeho varianty) – viz AKD II. 9. Míry variability: variační koeficient a další indexy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http://metodykv.wz.cz/AKD2_variacni_koef.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C4A-57E5-4753-9E98-8FA8326408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ůzné typy proměnných a odpovídající popisné statistiky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třední hodnoty, míry variability, grafy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10917" r="0" b="0"/>
          <a:stretch/>
        </p:blipFill>
        <p:spPr>
          <a:xfrm>
            <a:off x="395280" y="907920"/>
            <a:ext cx="7848720" cy="5668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16720" y="645336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: [Rachad 2003: 81]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6F7-840C-4189-BBB1-38DC276E8B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kvantitativ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mětem statistického zkoumání jsou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romadné je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výskyt vlastností u velkého počtu prvků – statistických jednotek (osoby, organizace, události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jich vlastnosti vyjadřuj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tistické znak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měn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ntitativ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íselné)/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tativ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lov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ískání dat pomoc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etř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plné-vyčerpávající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běrové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uze u části populace →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běrový soub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ý reprezentuje základní soub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[Cyhelský, Hustopecký, Závodský 197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C78-305F-4DFC-9327-6D37334CB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Šikmost a špičat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ikmost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kewnes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ulová šikm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hodnoty rovnoměrně rozděleny vlevo a vpravo od střední hodno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metrická rozdělení maj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ikmost nu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ladná šikm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vpravo od průměru se vyskytují odlehlejší hodnoty nežli vlevo (rozdělení má tz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avý oc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a většina hodnot se nachází blízko vlevo od průměru. U záporné šikmosti je to naop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rozdělení s kladnou šikmostí obvykle platí, že jeho modus je menší nežli medián a ten je menší nežli střední hodnota. Pro zápornou šikmost opět naop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pičatost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Kurtosi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ální rozdělení má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pičatost nu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ladná špičat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většina hodnot leží blízko střední hodnoty a hlavní vliv na rozptyl mají málo pravděpodobné odlehlé hodnoty. Křivka hustoty je špičatější, nežli u normálního rozděl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áporná špičat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rozdělení je rovnoměrnější a jeho křivka hustoty je plošší nežli u normálního rozděl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55D-71DA-4E4C-BA7E-58C5B1E984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Šikmost a špičat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557360"/>
          <a:ext cx="914400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-6120" y="65833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Hanousek, Charamza 1992: 2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640" y="8366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odchylky od symetrie (šikmost) a variability (špičatost/ploch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D96-A8CE-4838-B4C5-66D994FE2C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řední hodnoty a míry variability v S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dispozici máme více možností, např. pomocí příkazů: FREQUENCIES, MEANS, DESCRIPTIVES a EXA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REQUENCIE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k /STATISTICS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MEAN STDDEV  MEDIAN MO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průměr, směrodatná odchylka, medián a Modus (v rámci STATISTICS) + tabulka frekvencí (počty a %), kterou lze vypnout pomocí přidání </a:t>
            </a:r>
            <a:r>
              <a:rPr b="0" lang="cs-CZ" sz="1800" spc="-1" strike="noStrike">
                <a:solidFill>
                  <a:srgbClr val="a50021"/>
                </a:solidFill>
                <a:latin typeface="Arial"/>
              </a:rPr>
              <a:t>/FORMAT NOT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AN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k /CELLS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MEAN STDDEV MEDIAN COU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průměr, směrodatná odchylka, medián a počet platných případ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DESCRIPTIVE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průměr, směrodatná odchylka, počet platných případů; vhodné pro porovnání hodnot u více proměnných (bohužel neumí mediá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EXAMIN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k /PLOT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velké množství statistik pro střední hodnoty a variabilitu, zde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PLOT NON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graf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FE7-90C2-4F1B-A682-C39DA4864E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řední hodnoty a míry variability v SPSS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(output)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647720"/>
            <a:ext cx="2095560" cy="178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16360" y="1484280"/>
            <a:ext cx="2886120" cy="1009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28720" y="3429000"/>
            <a:ext cx="5686560" cy="3343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73440" y="32446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Exp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4520" y="1197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7080" y="112536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572000" y="2452680"/>
            <a:ext cx="4427640" cy="976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14880" y="2060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escrip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088-94FE-40EF-872E-2770539677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měrodatná odchylka pro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ichotomickou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proměnnou (podí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78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Vari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*q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resp. q)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avděpodob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tj. p = % / 100)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*q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(1-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 = 0,29  q = 0,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= √0,29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0,71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0,45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20609" b="0"/>
          <a:stretch/>
        </p:blipFill>
        <p:spPr>
          <a:xfrm>
            <a:off x="4716360" y="2637000"/>
            <a:ext cx="4211640" cy="2411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H="1">
            <a:off x="3419280" y="3573360"/>
            <a:ext cx="511308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4818240" cy="877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14200" y="5084640"/>
            <a:ext cx="8713800" cy="733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kud mám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odnoty dichotomické proměnné kódovány jako 0/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např. 0=nepracuje, 1=pracuje), pak lze v SPSS použít výpočet pro kardinální znak, např. Descriptives (vzorec není ale stejný – výsledek se může nepatrně liši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708280"/>
            <a:ext cx="29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známka: Všimněte si, že hodnota rozptyl/StD je zcela závislá na hodnotě parametru (%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325-B9B4-482D-AAAB-A0152A0C69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nti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obecně) 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lenění d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ejně početně zastoupený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rci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i skup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33 % / 33 % / 33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ci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eset skupi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10 % / 10 %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varti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tyři skup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25 % / 25 % / 25 % / 25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zikvartilové rozpět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orní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lní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vartilu (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7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brazujeme je (spolu s mediánem) v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xpl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jejich poloha ukáže na zešikmení 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čím blíže je H nebo D kvartil k mediánu, tím větší zešikm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čení kvantilů v SPSS pomoc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TIL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FREQUENCI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k /</a:t>
            </a:r>
            <a:r>
              <a:rPr b="1" lang="cs-CZ" sz="2400" spc="-1" strike="noStrike">
                <a:solidFill>
                  <a:srgbClr val="008000"/>
                </a:solidFill>
                <a:latin typeface="Arial"/>
              </a:rPr>
              <a:t>NTILE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íslo v závor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určuje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kolik stejných skupin chceme určit hranice hodno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a jejich základě můžeme dále rekódovat kardinální-spojitý znak na ordinální-kategoriál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4719" r="0" b="1969"/>
          <a:stretch/>
        </p:blipFill>
        <p:spPr>
          <a:xfrm>
            <a:off x="7731000" y="3357720"/>
            <a:ext cx="1312920" cy="244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1358640" cy="14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CA4-313F-4246-BB05-9ED9D133DA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xpl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ousaté krabičky: vizualizace distrib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60920" y="476280"/>
            <a:ext cx="3146400" cy="475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0" t="0" r="22815" b="2950"/>
          <a:stretch/>
        </p:blipFill>
        <p:spPr>
          <a:xfrm>
            <a:off x="0" y="476280"/>
            <a:ext cx="4711680" cy="4751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373720"/>
            <a:ext cx="91440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RTILY dělí statistický soubor na desetin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olní Q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25 (Q1) 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orní Q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,denní5 (Q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terkvartilové rozpě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horní kvartil + 1,5 násobku interkvartilového roz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dolní kvartil + 1,5 násobku interkvartilového roz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568-46E1-4F89-AB39-039B3A3629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abilita hodnot u nominálního zn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6665" t="3825" r="0" b="2313"/>
          <a:stretch/>
        </p:blipFill>
        <p:spPr>
          <a:xfrm>
            <a:off x="4716360" y="2320920"/>
            <a:ext cx="4319640" cy="3481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9272" t="0" r="36675" b="0"/>
          <a:stretch/>
        </p:blipFill>
        <p:spPr>
          <a:xfrm>
            <a:off x="324000" y="2349360"/>
            <a:ext cx="2305080" cy="4372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69228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rozdíl od kardinálních-numerických znak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ar rozložení nedává smys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 histogramu), protož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egorie nemají žádný číselný - hierarchický 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 ordinálních znaků tvar rozložení ovšem určitou informaci podáv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riabilita znaku je dána rozptýleností / koncentrací podílů (%) v jednotlivých kategoriích (nulová je tehdy jsou-li kategorie % stejně zastoupené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800440" y="5589720"/>
            <a:ext cx="354312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18E-1241-4DF5-9414-6916A1889C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íry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ariability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ro </a:t>
            </a:r>
            <a:r>
              <a:rPr b="1" lang="cs-CZ" sz="3600" spc="-1" strike="noStrike">
                <a:solidFill>
                  <a:srgbClr val="cc3300"/>
                </a:solidFill>
                <a:latin typeface="Arial"/>
              </a:rPr>
              <a:t>kategoriáln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roměnné</a:t>
            </a:r>
            <a:br>
              <a:rPr sz="36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někud složitější situace (než u kardinálních znaků), zde jen úvo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nominální proměnn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ariační poměr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ominální rozptyl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omvar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niho koeficient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relativní počet všech dvojic, které nejsou ve stejné kategor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rmalizovaný nominální rozpty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orm. nom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IQ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tropi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rmalizovaná entropie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 H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ordinální proměn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rdinální rozpty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r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riační koeficient a jeho varianty – viz AKD II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9. Míry variability: variační koeficient a další index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AKD2_variacni_koef.ppt</a:t>
            </a:r>
            <a:r>
              <a:rPr b="0" lang="cs-CZ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 také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astat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se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Nominalni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058-2A6C-4CCF-885F-C48107201C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lastnosti měr variability kategoriálních znak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vyšší hodnota tím vyšší heterogenita sou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rovn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dyž je celý soubor soustředěn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 jedné kategori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lové rozptýlení) → úplná homoge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ximální hodnota = rovnoměrné rozložení da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kategorií) → úplná heteroge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azují do jaké míry, jsou data koncentrována kolem své charakteristické hodnoty (→ modální kategorie), tj. jak moc je tato hodnota typická pro celý soub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38172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[Řehák, Řeháková 1986: 66-6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7D5-27CA-492F-B9AF-99AB3609DA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va základní typy statistiky/ přístupy ve statis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pisná statistik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: metody pro zjišťování a sumarizaci informací → grafy, tabulky, popisné charakteristiky (průměr, rozptyl percentily,..). Cílem je explorace – průzkum d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Inferenční statistik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statistická indukce): metody pro přijímání a měření spolehlivosti závěrů o populaci založených na informacích získaných z jejího výběru (odhad parametru na základě výběru z populace).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ílem je ověřování hypoté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3D2-E5D5-4239-913E-DB59E42B5C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Variační poměr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cs-CZ" sz="4200" spc="-1" strike="noStrike">
                <a:solidFill>
                  <a:srgbClr val="000000"/>
                </a:solidFill>
                <a:latin typeface="Arial"/>
              </a:rPr>
              <a:t>v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jednodušší míra vari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d je více modálních kategorií uvažujeme nejvyšší četnost pouze jedn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hodou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jednoduchost výpoč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výhodou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, že j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založeno pouze na modální čet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ormv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pracnější,ale  odráží celou strukturu tabulk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6453" r="0" b="0"/>
          <a:stretch/>
        </p:blipFill>
        <p:spPr>
          <a:xfrm>
            <a:off x="900000" y="1701720"/>
            <a:ext cx="6551640" cy="105264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50920" y="65530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[Řehák, Řeháková 1986: 6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9B1-D421-4E41-B56C-2E22D215FC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: Variační pomě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480360" cy="5491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8000" y="6629400"/>
            <a:ext cx="655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[Řehák, Řeháková 1986: 68-70; Agresti, Agresti 1978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869000"/>
            <a:ext cx="684216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ACE-D3FD-478D-8A41-B2A2603A9F7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íklad: Variační pom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ůsob získávání denního tisku u pravidelných čtenářů, pr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eriodikum 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 = 12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989000"/>
          <a:ext cx="8496000" cy="674640"/>
        </p:xfrm>
        <a:graphic>
          <a:graphicData uri="http://schemas.openxmlformats.org/drawingml/2006/table">
            <a:tbl>
              <a:tblPr/>
              <a:tblGrid>
                <a:gridCol w="1008000"/>
                <a:gridCol w="928440"/>
                <a:gridCol w="1447920"/>
                <a:gridCol w="1079640"/>
                <a:gridCol w="1368360"/>
                <a:gridCol w="863640"/>
                <a:gridCol w="647640"/>
                <a:gridCol w="1152360"/>
              </a:tblGrid>
              <a:tr h="3603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ředplác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puj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 disp. v prá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ůjčuje 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72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ískává jina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k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z celk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72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4000" y="2852640"/>
          <a:ext cx="8029440" cy="6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80294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rcRect l="0" t="0" r="11056" b="0"/>
          <a:stretch/>
        </p:blipFill>
        <p:spPr>
          <a:xfrm>
            <a:off x="3851280" y="3892680"/>
            <a:ext cx="5292720" cy="1022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4437000"/>
            <a:ext cx="3600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= 1 – (56,028 / 116) = </a:t>
            </a:r>
            <a:r>
              <a:rPr b="1" lang="cs-CZ" sz="2000" spc="-1" strike="noStrike">
                <a:solidFill>
                  <a:srgbClr val="993300"/>
                </a:solidFill>
                <a:latin typeface="Arial"/>
              </a:rPr>
              <a:t>0,5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237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655308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: [Řehák, Řeháková 1986: 68-6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rcRect l="0" t="6342" r="0" b="0"/>
          <a:stretch/>
        </p:blipFill>
        <p:spPr>
          <a:xfrm>
            <a:off x="324000" y="3716280"/>
            <a:ext cx="2879640" cy="46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3924360" y="3645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8000"/>
                </a:solidFill>
                <a:latin typeface="Arial"/>
              </a:rPr>
              <a:t>lze spočítat v Excel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000" y="5157720"/>
            <a:ext cx="8982000" cy="13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může sloužit k porovnání variability rozložení několika znaků (např. zde různých periodik) nebo podskupin v třídění 2.stup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odobně jako Směrod.odchylka u kardinálních znaků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e způsoby získávání u různých periodik: např. periodikum J (v=0,517) má dvojnásobný variační poměr než periodikum H (v=0,224), tj. způsoby jeho získávání jsou mnohem variabilnější (všimněte si, že u tiskoviny H představuje modus „Kupuje“ celých 77,6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841-B857-465D-9DF7-708B868754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ominální variance (</a:t>
            </a: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nomvar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Index diversity (</a:t>
            </a: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omv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de: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– podíl pozorování v dané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-té kategor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všech dvojic jednotek, které nemají stejnou hodnotu znak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 ta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dva náhodně vybraní jedinci z populace budou patřit do rozdílných kategori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 je tím vyšší, čím více je kategorií a čím více jsou pozorování rozptýlena rovnoměrně v těchto kategori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095640" cy="12607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250920" y="6381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Řehák, Řeháková 1986: 68-70; Agresti, Agresti 197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D63-1BE0-480C-B00E-02CA9C436B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8920" y="836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íce k varianci kategoriálních znaků v AKD II.</a:t>
            </a:r>
            <a:br>
              <a:rPr sz="40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http://metodykv.wz.cz/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KD2_variacni_koef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pp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6920" y="2491920"/>
            <a:ext cx="7201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SS míry variability pro kategoriální proměnné neumí, ale na již hotovou tabulk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FREQUENCIES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lze v outputu použít skript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íry variability pro kategorizova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http://acrea.cz/cz/skripty/mira-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780000" y="4076640"/>
            <a:ext cx="1947600" cy="2484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8000" y="4221000"/>
            <a:ext cx="3564000" cy="204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2219400" cy="20383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867280" y="501336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lastnosti rozdělení zna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isná statistka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rdinální znaky v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ickém znázor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metrie, variabil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1600200"/>
          <a:ext cx="914400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73160" y="65833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Hanousek, Charamza 1992: 2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765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Vlastnosti rozložení hodnot znaku, </a:t>
            </a:r>
            <a:br>
              <a:rPr sz="2000"/>
            </a:b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jsou dány střední hodnotou (průměrem) a rozptylem hod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6EE-69F5-4C17-A5D2-ECD833B23F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imodální (dvouvrcholové) rozlož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měnnou nejlépe reprezentují dvě střední hodnoty (průmě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659560" cy="2638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3240" y="658332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[Howell 2011: 5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7A0-CF8F-44AA-91FF-D783F374818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Šikmost a špičat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1557360"/>
          <a:ext cx="914400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-6120" y="65833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Hanousek, Charamza 1992: 2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640" y="8366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odchylky od symetrie (šikmost) a variability (špičatost/ploch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901-992A-429A-971A-BDD065CB1E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Normální rozložení hodnot a směrodatná odchy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001080" cy="4608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68360" y="64911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stat.tamu.edu/~west/applets/normaldemo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445000"/>
            <a:ext cx="9144000" cy="113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de o teoretické rozložení hodnot, v praxi vždy dochází k nějaké odchylce od tohoto normálního rozložení. Pro většinu analýz kardinálních znaků (např. průměr nebo korelace) potřebujeme, aby se rozložení proměnných co nejméně odchylovalo od tohoto tvaru (gaussovy křivk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836640"/>
            <a:ext cx="2737080" cy="146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, že v ploše pod křivkou vymezené +/- 1 směrodatnou odchylkou od průměru je 68 % případů (cca 2/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692280"/>
            <a:ext cx="2519280" cy="2209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žení hodnot (tvar křivky) je dán průměrem a rozpty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rm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ndardiz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rmální roz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0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8B2-8E6C-498B-8B71-099A26CD80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oces analýzy dat musíme promyslet již ve stadiu plánování dotazník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modelu vztahů a hypotéz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 k čemu variance–variabilita dat (směrodatná odchylka) j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785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datná odchylka ukazuje na to, jak „kvalitně“ popisuje průměr data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ulová STDEV = všechny případy mají stejnou hodnotu, tj. průměr)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→ uvádíme-li průměr, tak vždy uvedeme i směrodatnou odchylku (StD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tribuci hodnot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arianci v datech musíme věcně interpretov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dDev, míry šikmosti, percentily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 výpočt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 numerické proměnné (korelace, průměr, …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věřujeme rozložení hodn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zda se (výrazněji) nevychyluje od normálního rozlož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pro výběrová data, tj. náhodný(!) vzorek z populace pla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ální rozdělení  je vlastně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ákonem chy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ěř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 to i těch o nichž nevíme, tj. přímo jsme je neměřili). A na tom jsou postaveny principy inferenční statistiky (testování hypoté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datná odchylka slouží k výpoč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chyby (S.E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→ kvantifikace chyb měření (výběrové chy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658-9B35-478E-933E-376EA4F22F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znam variance hodnot zna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ednodušeně řečeno: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ším záměrem je, aby v datech–proměnné byla „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ostateč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 variabilita (tj. proměnlivost hodnot), která bude nenáhodná, tj. budeme ji schopni (většinou pomocí dalších „nezávislých“) proměnných vysvětl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variabilita prakticky nulová (či pouze náhodná), pak není co vysvětlovat (to v podstatě platí i, pokud je naopak extrémně vysoká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abychom v datech dosáhli „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ostateč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 variability, to je úkol již pro přípravné fáze výzkum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formulace modelu vztahů (výzkumných otázek/hypotéz) → rozhodnutí o zahrnutí indikátorů/proměnných, jejich operacionalizace, stanovení jednotek sběru dat a analýzy, velikosti a metodě výběru 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A5C-E50C-40FB-839E-28BCAED8A1F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co si dát v datech dát poz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riance a střední hodn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zájemná poloha průměru a medián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573" t="0" r="0" b="57647"/>
          <a:stretch/>
        </p:blipFill>
        <p:spPr>
          <a:xfrm>
            <a:off x="0" y="2374920"/>
            <a:ext cx="9144000" cy="21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3AE-CE88-4304-A976-E45CB04AB2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měr a rozptyl nejsou všech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708360" y="2424240"/>
            <a:ext cx="5292720" cy="4433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50920" y="1052280"/>
            <a:ext cx="5111640" cy="11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0000"/>
                </a:solidFill>
                <a:uFillTx/>
                <a:latin typeface="Arial"/>
              </a:rPr>
              <a:t>Ve všech čtyřech případech je stejn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00"/>
                </a:solidFill>
                <a:latin typeface="Arial"/>
              </a:rPr>
              <a:t>maximum</a:t>
            </a:r>
            <a:r>
              <a:rPr b="0" lang="cs-CZ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0000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průměr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směrodatná odchylka 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25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79280" y="1557360"/>
          <a:ext cx="3240360" cy="4527360"/>
        </p:xfrm>
        <a:graphic>
          <a:graphicData uri="http://schemas.openxmlformats.org/drawingml/2006/table">
            <a:tbl>
              <a:tblPr/>
              <a:tblGrid>
                <a:gridCol w="1008000"/>
                <a:gridCol w="536760"/>
                <a:gridCol w="565200"/>
                <a:gridCol w="565200"/>
                <a:gridCol w="565200"/>
              </a:tblGrid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ýsledek testu (interval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hodno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řípad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řípad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řípad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řípad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-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-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-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-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-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-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-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-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ikm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pičat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79280" y="6453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[Hanousek, Charamza 1992: 38-39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D28-1BE5-477E-AB1B-8C48D6779EB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ariabilita rozložení hodnot - doporu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240" y="1628280"/>
            <a:ext cx="8807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ardinální zn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 a směrodatná odchylka nestačí, uvádějte ještě alespoň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diá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ztah průměru a mediánu ukazuje na směr vychý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fické znázornění variabil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řípad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xpl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chceme variabilitu popsat čísly: Koeficienty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ikmost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kewness)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pičatost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urtosis) neb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zikvartilové rozpě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rozdíl horního a dolního kvarti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ždy věnujeme nejprv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ornost extrémním hodnotá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ategoriální (nominální) zn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bulka frekven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 %)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 graficky → Bar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CD3-3CD5-4CEA-B78B-2B847612EE4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věření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ormality rozložení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d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istogra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vizuálně orientač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robněji a přesně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-Q graf (quantile-quantile)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kazuje kvantily pozorované distribuce proměnné proti kvantilů zvolené distribuč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rmálně rozložená da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mkový ch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66"/>
                </a:solidFill>
                <a:latin typeface="Arial"/>
              </a:rPr>
              <a:t>v SPS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: Analyze, Descriptive statistics, Q-Q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mogorov-Smirnov tes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0 = data jsou normálně rozložena,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 na interpretaci výsledk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nízké!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(&lt; 0,05) → distribuce dat se statisticky signifikantně lišší od normální distribuce. </a:t>
            </a:r>
            <a:br>
              <a:rPr sz="2400"/>
            </a:br>
            <a:r>
              <a:rPr b="0" i="1" lang="cs-CZ" sz="2000" spc="-1" strike="noStrike">
                <a:solidFill>
                  <a:srgbClr val="000066"/>
                </a:solidFill>
                <a:latin typeface="Arial"/>
              </a:rPr>
              <a:t>v SPS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: Analyze, Nonparametric Tests, 1-Sample K-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jde-li k porušení normality rozložení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rekódování, transformace (např. logaritmická), použití neparametrických met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647-A1D2-43CF-83A6-8016A5092AF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3167" t="9538" r="0" b="2983"/>
          <a:stretch/>
        </p:blipFill>
        <p:spPr>
          <a:xfrm>
            <a:off x="4727520" y="476280"/>
            <a:ext cx="4416480" cy="3959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3683" t="11958" r="0" b="1382"/>
          <a:stretch/>
        </p:blipFill>
        <p:spPr>
          <a:xfrm>
            <a:off x="0" y="333360"/>
            <a:ext cx="4687920" cy="4176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rcRect l="2954" t="16790" r="24655" b="1882"/>
          <a:stretch/>
        </p:blipFill>
        <p:spPr>
          <a:xfrm>
            <a:off x="1042920" y="4406760"/>
            <a:ext cx="2727360" cy="2451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rcRect l="3605" t="17998" r="24276" b="2475"/>
          <a:stretch/>
        </p:blipFill>
        <p:spPr>
          <a:xfrm>
            <a:off x="5796000" y="4419720"/>
            <a:ext cx="2760480" cy="24382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ložení četností a Q-Q 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9AF-1FA3-4D18-876F-8A8E60FC01E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ndardizace na z-skóre </a:t>
            </a:r>
            <a:br>
              <a:rPr sz="4000"/>
            </a:br>
            <a:r>
              <a:rPr b="0" lang="cs-CZ" sz="2600" spc="-1" strike="noStrike">
                <a:solidFill>
                  <a:srgbClr val="a50021"/>
                </a:solidFill>
                <a:latin typeface="Arial"/>
              </a:rPr>
              <a:t>odstranění původní metriky u kardinálních-číselných zna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– skóry: průměr X=0 a StD =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transformované proměnné je aritmetický průměr roven nule a směrodatná odchylka je je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chylka od průměru / směrodatnou odchylko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Od každého pozorování odečteme průměr a vydělíme směrodatnou odchylko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-skóre = kolik standardních odchylek je danná hodnota vzdálena od střední hodnoty (aritmetického průměr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tšina nově transformovaných hodnot j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rozmezí od -3 do 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možňuj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rovnat znaky s odlišnou metriko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354480" y="2990880"/>
            <a:ext cx="25858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DEF-508B-4B8E-8768-0FE1D7E57A4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SPSS jednoduše pomocí Descriptives přidáním SA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333399"/>
                </a:solidFill>
                <a:latin typeface="Arial"/>
              </a:rPr>
              <a:t>DESCRIPTIVES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ar1 /</a:t>
            </a:r>
            <a:r>
              <a:rPr b="1" lang="cs-CZ" sz="2200" spc="-1" strike="noStrike">
                <a:solidFill>
                  <a:srgbClr val="a50021"/>
                </a:solidFill>
                <a:latin typeface="Arial"/>
              </a:rPr>
              <a:t>SAV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datech vznikne proměnná automaticky pojmenovaná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ar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v Labelu je uvedeno „Zscore:“ a původní pojmenová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a50021"/>
                </a:solidFill>
                <a:latin typeface="Arial"/>
              </a:rPr>
              <a:t>Pozor: Proměnná musí mít přibližně normální rozložení!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kontrolujeme aspoň vizuálně pomocí Histogramu)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Pokud ne, pak lze </a:t>
            </a: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transformovat na percentil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Existují i jiné principy standardizace dat, např. přímá standardiza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ndardizace na z-skó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4032360" cy="2467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932360" y="3141720"/>
            <a:ext cx="1871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174-D3AF-4C1A-986D-2ACD3EB03D1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jprve malé připomenutí základních pojm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ěkteré webové nástroje pro analýz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507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of On-line Stats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physics.csbsju.edu/stats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act r×c Contingency Table:</a:t>
            </a:r>
            <a:br>
              <a:rPr sz="2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www.physics.csbsju.edu/stats/exact_NROW_NCOLUMN_form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al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statpages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. Webster West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stat.tamu.edu/~wes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stat.tamu.edu/~west/p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i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sta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ypertextová interaktivní učebnice statistiky pro ek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stahroun.me.cz/intersta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not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 in Multivariate Analysis, by G. David Ga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http://faculty.chass.ncsu.edu/garson/PAdenní65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lektronická učebnice statistiky (anglicky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statsoft.cz/page/index2.php?pg=navigace&amp;nav=31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www.statsoft.com/text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3068640"/>
            <a:ext cx="4321080" cy="1013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 na webu v sekc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ové nástroje pro analýzu da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todykv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z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z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ndex.htm#webnastro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A0D-BBD3-4197-A0BA-B209888F5D0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ejprve se ptej, k čemu analýza tvá má sloužit,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tom teprv výběrem metody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ej se souž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[Hanousek, Charamza 1992 : 6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412640"/>
            <a:ext cx="78469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dnorozměrnou analýzou tj. tříděním dat prvního stupně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univariate analysis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o teprve vše začíná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ourozměrná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 vícerozměrná) analýza, elaborace vztahů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navíc, pokud máme výběrová data → inferenční statistika (intervalové odhady, statistické testování hypotéz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bbie, E. 1995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actice of social Research. 7th E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lmont: Wadsworth. → kapito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– Elementary Analy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Vaus, D., A. (1985) 2002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urveys in Social Research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ifth Edi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St Leonards NSW: Allen &amp; Unwin / London: Routledge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→ kapito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 analy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man, M. 1993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ak se vyrábí sociologická znal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Karolinum. → kapitol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 – Já ti to spočítám aneb statistika pro úplně beznadějné přípa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jen do st. 1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nousek, Charamza. 1992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erní metody zpracování dat. Matematická statistika pro každé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G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hák, J., B. Řeháková. 1986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nalýza kategorizovaných dat v sociolog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Acad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ll, D. C. 2014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damental Statistics for the Behavioral Sci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elmont: Wadswo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250-FB66-4CF5-A2C8-99C30C57213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sou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ý soubor (vzor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ový sou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ění dat (jedno a vícestupň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bsolutní če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lativní (poměrná) če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mulativní če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řední hod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tribuce (rozdělení) hodnot promě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8CB-E1EE-449E-B03D-8ABCE77A3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ypy znaků – proměnný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tegori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min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tegorie jsou rovnocenné (na úrovni jm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pohlaví, jména, typ rodiny, barva vlasů, prof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řadové (ordinál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tegorie lze seřadit do hierarc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ze se ptát: vyšší/nižší apod., ale ne o ko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: spokojenost, stupeň souhl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rdinální (intervalové/poměrové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sel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ze se ptát větší/ menší a o ko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věk, příjem, počet dě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→ </a:t>
            </a:r>
            <a:r>
              <a:rPr b="1" lang="cs-CZ" sz="2800" spc="-1" strike="noStrike">
                <a:solidFill>
                  <a:srgbClr val="993300"/>
                </a:solidFill>
                <a:latin typeface="Arial"/>
              </a:rPr>
              <a:t>Různé typy znaků vyžadují v analýze odlišné přístupy (statistické mír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24F-9371-4275-A240-02B81BC8B7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ypy znaků – proměnných z hlediska úrovně m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5246640" cy="630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38560" y="47628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800" spc="-1" strike="noStrike">
                <a:solidFill>
                  <a:srgbClr val="000066"/>
                </a:solidFill>
                <a:latin typeface="Arial"/>
              </a:rPr>
              <a:t>Dichotomick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476280"/>
            <a:ext cx="1008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800" spc="-1" strike="noStrike">
                <a:solidFill>
                  <a:srgbClr val="000066"/>
                </a:solidFill>
                <a:latin typeface="Arial"/>
              </a:rPr>
              <a:t>Vícekategoriáln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GB" sz="800" spc="-1" strike="noStrike">
                <a:solidFill>
                  <a:srgbClr val="000066"/>
                </a:solidFill>
                <a:latin typeface="Arial"/>
              </a:rPr>
              <a:t>polynomický</a:t>
            </a:r>
            <a:r>
              <a:rPr b="1" i="1" lang="cs-CZ" sz="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76280"/>
            <a:ext cx="574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00" spc="-1" strike="noStrike">
                <a:solidFill>
                  <a:srgbClr val="000000"/>
                </a:solidFill>
                <a:latin typeface="Arial"/>
              </a:rPr>
              <a:t>př:  Kraj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907920"/>
            <a:ext cx="358920" cy="2665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221000"/>
            <a:ext cx="358920" cy="2232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57960 h 2232360"/>
              <a:gd name="textAreaBottom" fmla="*/ 2174400 h 22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916280"/>
            <a:ext cx="20890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3300"/>
                </a:solidFill>
                <a:latin typeface="Arial"/>
              </a:rPr>
              <a:t>Kategor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3300"/>
                </a:solidFill>
                <a:latin typeface="Arial"/>
              </a:rPr>
              <a:t>(kategorizov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869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3300"/>
                </a:solidFill>
                <a:latin typeface="Arial"/>
              </a:rPr>
              <a:t>Kardinální – číselné (numerick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659772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adaptováno podle [Babbie 1995: 137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C86-470F-45F0-947B-9F7E1818AF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8:37:16Z</dcterms:created>
  <dc:creator>Jiri Safr</dc:creator>
  <dc:description/>
  <dc:language>en-US</dc:language>
  <cp:lastModifiedBy>Jiri Safr</cp:lastModifiedBy>
  <dcterms:modified xsi:type="dcterms:W3CDTF">2015-04-08T16:43:21Z</dcterms:modified>
  <cp:revision>762</cp:revision>
  <dc:subject/>
  <dc:title>AKDI.: Popisné statistiky v analýze dat </dc:title>
</cp:coreProperties>
</file>