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png" ContentType="image/png"/>
  <Override PartName="/ppt/media/image30.wmf" ContentType="image/x-wmf"/>
  <Override PartName="/ppt/media/image28.wmf" ContentType="image/x-wmf"/>
  <Override PartName="/ppt/media/image29.wmf" ContentType="image/x-wmf"/>
  <Override PartName="/ppt/media/image11.png" ContentType="image/png"/>
  <Override PartName="/ppt/media/image6.png" ContentType="image/png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7.wmf" ContentType="image/x-wmf"/>
  <Override PartName="/ppt/media/image12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C1B-35DC-4F3D-99E9-727B7FC2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CB7-BF76-4433-A6CA-04EA1C76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96A-1BEC-4426-AE11-C529CA1D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2AD-269C-41DC-B342-8CFA42D8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04F-E317-458D-9A8A-A483930A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1EF-818D-4180-9AF9-700B2AEF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76C-5B7D-4A09-BF49-7AAFA814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B23-FA3A-4AE9-A054-DC1F2BF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2E7-2060-4D01-8DF4-E830C21B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D26-C646-4346-852D-EFF9F75F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209-CAA4-4DB1-89A7-958EC63C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CC7-6758-4F85-A701-DED81B03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3C8F-B172-46D2-9010-184F2C54A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etodykv.wz.cz/spss2_tabulky.ppt" TargetMode="Externa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metodykv.wz.cz/AKD2_korelace.ppt" TargetMode="External"/><Relationship Id="rId2" Type="http://schemas.openxmlformats.org/officeDocument/2006/relationships/hyperlink" Target="http://metodykv.wz.cz/AKD2_odds_ratio.ppt" TargetMode="External"/><Relationship Id="rId3" Type="http://schemas.openxmlformats.org/officeDocument/2006/relationships/hyperlink" Target="http://metodykv.wz.cz/AKD2_variacni_koef.ppt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metodykv.wz.cz/AKD2_kontg_tab_standardizace.ppt" TargetMode="External"/><Relationship Id="rId2" Type="http://schemas.openxmlformats.org/officeDocument/2006/relationships/hyperlink" Target="http://metodykv.wz.cz/AKD2_hypotezy1.ppt" TargetMode="External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8497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ýza kvantitativních dat I./II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Praktikum elementární analýzy da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708280"/>
            <a:ext cx="770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Kontingenční tabulk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alýza kategoriálních d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Třídění 3. stupně – úvod do elaborace a míry asoci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ří Ša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jiri.safr(zavináč)seznam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63817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00"/>
                </a:solidFill>
                <a:latin typeface="Arial"/>
              </a:rPr>
              <a:t>poslední aktualizace </a:t>
            </a:r>
            <a:r>
              <a:rPr b="1" lang="cs-CZ" sz="1400" spc="-1" strike="noStrike">
                <a:solidFill>
                  <a:srgbClr val="990000"/>
                </a:solidFill>
                <a:latin typeface="Arial"/>
              </a:rPr>
              <a:t>31/5/2015 </a:t>
            </a:r>
            <a:r>
              <a:rPr b="0" lang="cs-CZ" sz="1400" spc="-1" strike="noStrike">
                <a:solidFill>
                  <a:srgbClr val="990000"/>
                </a:solidFill>
                <a:latin typeface="Arial"/>
              </a:rPr>
              <a:t>(5/6/20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44600"/>
            <a:ext cx="78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Historická sociologie a Řízení a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(2011 až 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řídění 3 st.: kontrola vlivu 3 proměnné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pretace a uspořádání (2x3x3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bul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6280" y="1844640"/>
          <a:ext cx="87314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844640"/>
                    <a:ext cx="8731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V="1">
            <a:off x="1547640" y="2707560"/>
            <a:ext cx="576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203640" y="2707560"/>
            <a:ext cx="576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995640" y="2707560"/>
            <a:ext cx="576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651640" y="2707560"/>
            <a:ext cx="576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443640" y="2707560"/>
            <a:ext cx="576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8028000" y="2707560"/>
            <a:ext cx="576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285264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85264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2852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2200" y="4967280"/>
            <a:ext cx="8497800" cy="190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áme 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Nacházíme rozdíly v X (věk) a Y (volil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vnitř kategorií kontrolní proměnné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zdělání)? Porovnáme s tabulkou třídění 2. st. Pro X a 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Js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díly mezi krajními kategoriemi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ěk) v rámci kategorií kontrolní proměnné Z (vzdělání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j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2200" y="4508640"/>
            <a:ext cx="8497800" cy="48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Rozdíly </a:t>
            </a:r>
            <a:r>
              <a:rPr b="1" lang="cs-CZ" sz="1400" spc="-1" strike="noStrike">
                <a:solidFill>
                  <a:srgbClr val="800000"/>
                </a:solidFill>
                <a:latin typeface="Arial"/>
              </a:rPr>
              <a:t>mezi krajními kategoriemi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 věku </a:t>
            </a:r>
            <a:r>
              <a:rPr b="1" lang="cs-CZ" sz="1400" spc="-1" strike="noStrike">
                <a:solidFill>
                  <a:srgbClr val="800000"/>
                </a:solidFill>
                <a:latin typeface="Arial"/>
              </a:rPr>
              <a:t>v procentních bodech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14 %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13 %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3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013360"/>
            <a:ext cx="7057800" cy="38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atímco v případě ZŠ a SŠ jsou rozdíly mezi nejmladšími a nejstaršími stejné, tak u VŠ je rozdíl větší. → Vzdělání tedy do vztahu mezi volební účastí a věkem částečně intervenu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836640"/>
            <a:ext cx="8352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visí účast ve volbách s věkem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 při kontrole vlivu vzděl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(hypotetická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197000"/>
            <a:ext cx="8353440" cy="58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inální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závislých proměnných porovnává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ntní rozdí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jních kategorií odděleně mezi kategoriemi kontrolního fakto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614-E3B2-4CD2-B762-DABBC0A298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terakč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ditiv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ef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fekt 1 na 2 proměnnou závisí na 3 proměn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terakční efek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Dvě proměnné navzájem interagují 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tváří u 3 proměnné jiný výsledek než by měla každá zvláš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absenci interakčního efektu lze uvažovat 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ditivním efekt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dy vlivy jsou v principu podobné ale podél kategorií jedné proměnné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esilují/ oslab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řetí možností pochopitelně je, že žádný společný efekt dvou nezávislých proměnných není a uplatňuje se vliv pouze jedné z n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616-62E1-4F81-8D56-AC8C2422B1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terakč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ditiv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ef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628640"/>
          <a:ext cx="8229600" cy="19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8229600" cy="19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79280" y="4437000"/>
          <a:ext cx="8425080" cy="20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437000"/>
                    <a:ext cx="842508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076640"/>
            <a:ext cx="9144000" cy="84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800000"/>
                </a:solidFill>
                <a:latin typeface="Arial"/>
              </a:rPr>
              <a:t>Aditivní efekt</a:t>
            </a:r>
            <a:r>
              <a:rPr b="0" lang="cs-CZ" sz="2400" spc="-1" strike="noStrike">
                <a:solidFill>
                  <a:srgbClr val="800000"/>
                </a:solidFill>
                <a:latin typeface="Arial"/>
              </a:rPr>
              <a:t> – efekty obou proměnných se</a:t>
            </a:r>
            <a:br>
              <a:rPr sz="2400"/>
            </a:br>
            <a:r>
              <a:rPr b="0" lang="cs-CZ" sz="2400" spc="-1" strike="noStrike">
                <a:solidFill>
                  <a:srgbClr val="800000"/>
                </a:solidFill>
                <a:latin typeface="Arial"/>
              </a:rPr>
              <a:t>navzájem přid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84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800000"/>
                </a:solidFill>
                <a:latin typeface="Arial"/>
              </a:rPr>
              <a:t>Interakční efekt</a:t>
            </a:r>
            <a:r>
              <a:rPr b="0" lang="cs-CZ" sz="2400" spc="-1" strike="noStrike">
                <a:solidFill>
                  <a:srgbClr val="800000"/>
                </a:solidFill>
                <a:latin typeface="Arial"/>
              </a:rPr>
              <a:t> – efekt jedné proměnné na </a:t>
            </a:r>
            <a:br>
              <a:rPr sz="2400"/>
            </a:br>
            <a:r>
              <a:rPr b="0" lang="cs-CZ" sz="2400" spc="-1" strike="noStrike">
                <a:solidFill>
                  <a:srgbClr val="800000"/>
                </a:solidFill>
                <a:latin typeface="Arial"/>
              </a:rPr>
              <a:t>druhou závisí na hodnotě třetí proměně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6453360"/>
            <a:ext cx="3889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2852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2852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6680" y="5734080"/>
            <a:ext cx="0" cy="50328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17080" y="2781360"/>
            <a:ext cx="358560" cy="503280"/>
          </a:xfrm>
          <a:prstGeom prst="upDownArrow">
            <a:avLst>
              <a:gd name="adj1" fmla="val 50000"/>
              <a:gd name="adj2" fmla="val 279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491160"/>
            <a:ext cx="75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Podobný vliv věku v kategoriích vzdělání, pouze na „odlišné hladině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573360"/>
            <a:ext cx="9144000" cy="56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Odlišný vliv věku v kategoriích vzdělání: </a:t>
            </a:r>
            <a:r>
              <a:rPr b="0" lang="cs-CZ" sz="1300" spc="-1" strike="noStrike">
                <a:solidFill>
                  <a:srgbClr val="800000"/>
                </a:solidFill>
                <a:latin typeface="Arial"/>
              </a:rPr>
              <a:t>u Mladých žádný rozdíl, u Starších se % Volení zvyšuje s vyšším vzděláním. Nejvyšší volební účast je u starších vysokoškoláků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44640"/>
            <a:ext cx="248436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počet do 100 %  je %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Nevol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5734080"/>
            <a:ext cx="0" cy="50328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5734080"/>
            <a:ext cx="0" cy="50328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5734080"/>
            <a:ext cx="1368360" cy="531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tejný rozdíl mezi katg. věku v katg. vzdělá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2781360"/>
            <a:ext cx="0" cy="50328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2781360"/>
            <a:ext cx="144360" cy="504720"/>
          </a:xfrm>
          <a:prstGeom prst="upDownArrow">
            <a:avLst>
              <a:gd name="adj1" fmla="val 50000"/>
              <a:gd name="adj2" fmla="val 696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3284640"/>
            <a:ext cx="863640" cy="144360"/>
          </a:xfrm>
          <a:prstGeom prst="rightArrow">
            <a:avLst>
              <a:gd name="adj1" fmla="val 50000"/>
              <a:gd name="adj2" fmla="val 14956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3070080"/>
            <a:ext cx="863640" cy="358920"/>
          </a:xfrm>
          <a:prstGeom prst="rightArrow">
            <a:avLst>
              <a:gd name="adj1" fmla="val 50000"/>
              <a:gd name="adj2" fmla="val 60155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rcRect l="2078" t="2585" r="3676" b="4738"/>
          <a:stretch/>
        </p:blipFill>
        <p:spPr>
          <a:xfrm>
            <a:off x="7164360" y="4005360"/>
            <a:ext cx="1979640" cy="1444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rcRect l="2567" t="3547" r="3942" b="5317"/>
          <a:stretch/>
        </p:blipFill>
        <p:spPr>
          <a:xfrm>
            <a:off x="7020000" y="907920"/>
            <a:ext cx="2124000" cy="15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90D-D639-4AC0-9F2B-305B3E0667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dhalení vlivu 3. proměnné pomocí asociačních koeficien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ou identifikaci vlivu 3. proměnné můžeme provést pomocí asociačních koeficientů spočítaných zvlášť v jejích kategorií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nominální znaky: Lambda, Phi, Cramérovo V, Koeficient kontin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ordinální znaky: ordinální korelace (Kendaullovo Tau-B a Tau-C, Spermanův korelační koefic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03D-36B2-49FC-829F-D476628F11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ování vlivu dalšího fakt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ovnáme intenzitu souvislosti v původní tabulce se souvislosti zjištěnou v nových tabulkách s kontrolou 3 faktoru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dyž v nových tabulkách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ouvisl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ezi původními daty </a:t>
            </a:r>
            <a:r>
              <a:rPr b="1" lang="cs-CZ" sz="3200" spc="-1" strike="noStrike">
                <a:solidFill>
                  <a:srgbClr val="800000"/>
                </a:solidFill>
                <a:latin typeface="Arial"/>
              </a:rPr>
              <a:t>zmiz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bo je podstatně </a:t>
            </a:r>
            <a:r>
              <a:rPr b="1" lang="cs-CZ" sz="3200" spc="-1" strike="noStrike">
                <a:solidFill>
                  <a:srgbClr val="800000"/>
                </a:solidFill>
                <a:latin typeface="Arial"/>
              </a:rPr>
              <a:t>oslabena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3200" spc="-1" strike="noStrike">
                <a:solidFill>
                  <a:srgbClr val="800000"/>
                </a:solidFill>
                <a:latin typeface="Arial"/>
              </a:rPr>
              <a:t>souvislost v původní tabulce je funkcí třetího fak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ále je uvedeno, jak odhalit skrytý vztah rychle pomocí asociačních koeficientů v podskupinách 3-kontrolního faktoru (pro nominální znaky Lambda, Phi, CramV a ordinální korel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AKD II. si pak také ukážeme jak tabulku standardizovat (převážit) podle faktoru Z, tj. jako kdyby všichni v kategoriích X měli stejné podíly v kategoriích Z (např. stejné vzdělání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ECA-858C-4CD0-A41C-94132B5EB2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062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2880" indent="-542880" algn="ctr">
              <a:lnSpc>
                <a:spcPct val="75000"/>
              </a:lnSpc>
              <a:buClr>
                <a:srgbClr val="000000"/>
              </a:buClr>
              <a:buFont typeface="Arial"/>
              <a:buAutoNum type="arabicPeriod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jistit a popsat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akční (aditivní) efekt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řitom můžeme objevit</a:t>
            </a: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Nepravou souvislost </a:t>
            </a:r>
            <a:br>
              <a:rPr sz="4000"/>
            </a:b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(falešnou asociace/korelace)</a:t>
            </a:r>
            <a:br>
              <a:rPr sz="4000"/>
            </a:b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Potlačenou – skrytou souvislost</a:t>
            </a:r>
            <a:br>
              <a:rPr sz="4000"/>
            </a:b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ásledující dva příklady to osvětl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609300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eficienty asociace (jako např. zde Lambda) jsou vysvětleny dále, viz tak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todykv.wz.cz/spss2_tabulky.pp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4560" y="260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oč provádíme elaborac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000" y="486900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ílem j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čistý vztah mezi dvěma proměnným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v tabulc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 kontrolou vlivu 3 fakt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íklad I.: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epravá souvislost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1. bivariátní vztah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třídění 2.s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403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6165720"/>
            <a:ext cx="32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[Disman 1993: 219-22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3357720"/>
            <a:ext cx="10810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2565360"/>
            <a:ext cx="1728720" cy="3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3141720"/>
            <a:ext cx="1008000" cy="35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3141720"/>
            <a:ext cx="718920" cy="35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5734080"/>
            <a:ext cx="23032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6308640"/>
            <a:ext cx="4753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a první pohled silná souvislost, a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249-488F-49F3-A9BC-F827519188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Při kontrole vlivu vzdělání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třídění 3 s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623700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6040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19640" y="3068640"/>
            <a:ext cx="10810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981000"/>
            <a:ext cx="2376360" cy="3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6165720"/>
            <a:ext cx="32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[Disman 1993: 219-22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F0E-BEA0-4DD7-87AE-8B4E7EF4CF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820360" cy="4837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219640" y="3068640"/>
            <a:ext cx="10810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981000"/>
            <a:ext cx="2519280" cy="3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Při kontrole vlivu vzdělání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třídění 3 s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52140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[Disman 1993: 219-22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5877000"/>
            <a:ext cx="813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ouvislost zmizí jakmile kontrolujeme vliv vzdělání → faktor v pozadí mající vliv jak na zbožnost tak preferované jíd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5445000"/>
            <a:ext cx="230328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25D-59A9-4731-B217-9475C2ACB7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íklad II.: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otlačená souvislost (nepravá nezávislost) </a:t>
            </a:r>
            <a:br>
              <a:rPr sz="40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1. bivariátní vzta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třídění 2.s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48360" cy="4473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356000" y="3141720"/>
            <a:ext cx="5050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6308640"/>
            <a:ext cx="32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[Disman 1993: 219-22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6021360"/>
            <a:ext cx="230328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6491160"/>
            <a:ext cx="4753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a první pohled žádná souvislost, a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935-72F3-4409-AF94-304CBCC7A9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640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řídění třetího stupně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v kontingenční tabulce </a:t>
            </a:r>
            <a:br>
              <a:rPr sz="20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úvod do vícerozměrné analýz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stování/ kontrola vlivu dalšího faktoru (3. proměnná) → Elabo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spořádání tabulky a její interpr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va příklady proč provádíme elaboraci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Nepravá souvislos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falešná asociace/kore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Potlačená – skrytá souvis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řídění 3. stupně v SPSS → CROSS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íry asociace a pořadové korelace v kontingenční tabul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úv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ypy kontingenčních tabulek se 3 proměnnými a míry asociace/kore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rafické znázornění interakčních efektů, zadání v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klad elaborace: Vzdělanostní aspirace žá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347-2C3A-41DF-A05B-0AC8091939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s kontrolou pohlaví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třídění 3 s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8000"/>
                </a:solidFill>
                <a:latin typeface="Arial"/>
              </a:rPr>
              <a:t>muž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cc3300"/>
                </a:solidFill>
                <a:latin typeface="Arial"/>
              </a:rPr>
              <a:t>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498920" cy="3417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572000" cy="3297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24000" y="2421000"/>
            <a:ext cx="5050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720" y="2492280"/>
            <a:ext cx="50472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48360" y="4653000"/>
            <a:ext cx="57636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941720"/>
            <a:ext cx="88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rola 3 faktoru odhalila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otlačenou souvisl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(nepravou nezávislost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zi dvěma proměnný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čina zkreslení →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vztah mezi dvěma proměnnými existuje pouze v části populace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(u ž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314-06F0-467D-9A3F-B12BD47CE0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řídění 3. stupně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 CROSSTABS v SP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tegoriální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vysvětlovaná-závislá)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kategoriální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vysvětlující- nezávislá) </a:t>
            </a:r>
            <a:r>
              <a:rPr b="0" lang="en-US" sz="3000" spc="-1" strike="noStrike">
                <a:solidFill>
                  <a:srgbClr val="a50021"/>
                </a:solidFill>
                <a:latin typeface="Arial"/>
                <a:ea typeface="Arial"/>
              </a:rPr>
              <a:t>×</a:t>
            </a:r>
            <a:r>
              <a:rPr b="0" lang="cs-CZ" sz="3000" spc="-1" strike="noStrike">
                <a:solidFill>
                  <a:srgbClr val="a50021"/>
                </a:solidFill>
                <a:latin typeface="Arial"/>
              </a:rPr>
              <a:t> kategoriální </a:t>
            </a:r>
            <a:r>
              <a:rPr b="1" lang="cs-CZ" sz="3000" spc="-1" strike="noStrike">
                <a:solidFill>
                  <a:srgbClr val="a50021"/>
                </a:solidFill>
                <a:latin typeface="Arial"/>
              </a:rPr>
              <a:t>kontrolní fak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CROSSTAB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ar1-závislá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ar2-nezávislá </a:t>
            </a:r>
            <a:br>
              <a:rPr sz="3000"/>
            </a:b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var3-kontroln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centa zůstávají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sloupcová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cc3300"/>
                </a:solidFill>
                <a:latin typeface="Arial"/>
              </a:rPr>
              <a:t>COLUMN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nebo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řádková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cc3300"/>
                </a:solidFill>
                <a:latin typeface="Arial"/>
              </a:rPr>
              <a:t>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CROSSTABS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var1-</a:t>
            </a:r>
            <a:r>
              <a:rPr b="1" i="1" lang="cs-CZ" sz="3000" spc="-1" strike="noStrike">
                <a:solidFill>
                  <a:srgbClr val="990099"/>
                </a:solidFill>
                <a:latin typeface="Arial"/>
              </a:rPr>
              <a:t>závislá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var2-</a:t>
            </a:r>
            <a:r>
              <a:rPr b="1" i="1" lang="cs-CZ" sz="3000" spc="-1" strike="noStrike">
                <a:solidFill>
                  <a:srgbClr val="990099"/>
                </a:solidFill>
                <a:latin typeface="Arial"/>
              </a:rPr>
              <a:t>nezávislá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BY </a:t>
            </a:r>
            <a:r>
              <a:rPr b="1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var3-</a:t>
            </a:r>
            <a:r>
              <a:rPr b="1" i="1" lang="cs-CZ" sz="3000" spc="-1" strike="noStrike" u="sng">
                <a:solidFill>
                  <a:srgbClr val="990099"/>
                </a:solidFill>
                <a:uFillTx/>
                <a:latin typeface="Arial"/>
              </a:rPr>
              <a:t>kontrolní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3000" spc="-1" strike="noStrike">
                <a:solidFill>
                  <a:srgbClr val="006600"/>
                </a:solidFill>
                <a:latin typeface="Arial"/>
              </a:rPr>
              <a:t>/CELLS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 u="sng">
                <a:solidFill>
                  <a:srgbClr val="cc3300"/>
                </a:solidFill>
                <a:uFillTx/>
                <a:latin typeface="Arial"/>
              </a:rPr>
              <a:t>COL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bo otočeně: pořadí proměnných je obráceně a počítáme řádková %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CROSSTAB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ar2-</a:t>
            </a:r>
            <a:r>
              <a:rPr b="0" i="1" lang="cs-CZ" sz="3000" spc="-1" strike="noStrike">
                <a:solidFill>
                  <a:srgbClr val="990099"/>
                </a:solidFill>
                <a:latin typeface="Arial"/>
              </a:rPr>
              <a:t>nezávisl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ar1-</a:t>
            </a:r>
            <a:r>
              <a:rPr b="0" i="1" lang="cs-CZ" sz="3000" spc="-1" strike="noStrike">
                <a:solidFill>
                  <a:srgbClr val="990099"/>
                </a:solidFill>
                <a:latin typeface="Arial"/>
              </a:rPr>
              <a:t>závislá </a:t>
            </a:r>
            <a:br>
              <a:rPr sz="3000"/>
            </a:b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BY 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var3-</a:t>
            </a:r>
            <a:r>
              <a:rPr b="0" i="1" lang="cs-CZ" sz="3000" spc="-1" strike="noStrike" u="sng">
                <a:solidFill>
                  <a:srgbClr val="990099"/>
                </a:solidFill>
                <a:uFillTx/>
                <a:latin typeface="Arial"/>
              </a:rPr>
              <a:t>kontroln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6600"/>
                </a:solidFill>
                <a:latin typeface="Arial"/>
              </a:rPr>
              <a:t>/CELL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ROW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dání CROSSTABS pro 3 znaky je opět podobné jako v MEA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cc"/>
                </a:solidFill>
                <a:latin typeface="Arial"/>
              </a:rPr>
              <a:t>MEAN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ar1-závislá-číseln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var2-nezávislá-kategoriáln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 u="sng">
                <a:solidFill>
                  <a:srgbClr val="cc3300"/>
                </a:solidFill>
                <a:uFillTx/>
                <a:latin typeface="Arial"/>
              </a:rPr>
              <a:t>BY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var3-kontrolní-kategoriáln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cs-CZ" sz="3000" spc="-1" strike="noStrike">
                <a:solidFill>
                  <a:srgbClr val="006600"/>
                </a:solidFill>
                <a:latin typeface="Arial"/>
              </a:rPr>
              <a:t>/CELL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MEAN STDDEV COU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2997360"/>
            <a:ext cx="8353440" cy="863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B9E-730F-44DD-8B39-E91078530A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zor n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solutní četnosti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i třídění vyššího stupn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třídění 3. a vyššího stupně vždy bedlivě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olujte absolutní počty v jednotlivých polích tabul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ejména u malých soub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OSSTA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/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kud jsou četnosti v tabulkách velmi malé, pak je jejich interpretace ze statistického i věcného hlediska v podstatě bezcenn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3EC-DF7F-453F-826C-E95EB4045E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íry asociace / korel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 kontingenční tabul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kategoriální zn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920" y="-100080"/>
            <a:ext cx="8856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íry asocia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 kontingenční tabul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interpretaci i měření souvislosti je důležité, zda jsou jedna nebo obě proměnné nominální nebo ordinál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m nástrojem analýzy jsou vždy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ocentní rozdí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víc můžeme měřit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íru těsnosti vzájemného vzta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mo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minál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ky koeficientů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ontingenční koeficient, Cramérovo V, Lambda atd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rdinál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naky naví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romě koeficientů asociace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oeficientů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řadové korel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Spermanovo Rho, Gamma, Kendallovo Tau B, 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adání nominálních asociací a pořadových korelací v SPSS uvádíme dále; podrobně viz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2. Korelace a asociace: vztahy mezi kardinálními/ ordinálními znaky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lang="cs-CZ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todykv.wz.cz/AKD2_korelace.ppt</a:t>
            </a:r>
            <a:r>
              <a:rPr b="0" lang="cs-CZ" sz="1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800000"/>
                </a:solidFill>
                <a:latin typeface="Arial"/>
              </a:rPr>
              <a:t>Pokud máme výběrová data (vzorek z populace), pak bychom měli testovat statistickou významnost koeficientů asociace/korelace (to se naučíme v AKD II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 jednoduché analýze kontingenční tabulky také používáme např.: 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odds ratio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poměry šancí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(→ vzájemně podmíněné pravděpodobnosti)</a:t>
            </a:r>
            <a:br>
              <a:rPr sz="1800"/>
            </a:b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odrobně viz </a:t>
            </a:r>
            <a:r>
              <a:rPr b="0" i="1" lang="cs-CZ" sz="1300" spc="-1" strike="noStrike">
                <a:solidFill>
                  <a:srgbClr val="000000"/>
                </a:solidFill>
                <a:latin typeface="Arial"/>
              </a:rPr>
              <a:t>5. Poměry šancí (Odds Ratio)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etodykv.wz.cz/AKD2_odds_ratio.ppt</a:t>
            </a:r>
            <a:r>
              <a:rPr b="0" lang="cs-CZ" sz="1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míry rozptýlení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např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Index nepodobnosti (</a:t>
            </a:r>
            <a:r>
              <a:rPr b="1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300"/>
            </a:b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i="1" lang="cs-CZ" sz="1300" spc="-1" strike="noStrike">
                <a:solidFill>
                  <a:srgbClr val="000000"/>
                </a:solidFill>
                <a:latin typeface="Arial"/>
              </a:rPr>
              <a:t>9. Míry variability: variační koeficient a další indexy </a:t>
            </a:r>
            <a:r>
              <a:rPr b="0" i="1" lang="cs-CZ" sz="1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etodykv.wz.cz/AKD2_variacni_koef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C67-A53A-4801-B866-F43D5FE082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íry asociac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ro nominální proměnn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Obecně pro 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koeficienty asociace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latí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Mají rozpětí 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 žádná souvislost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až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 dokonalá souvislost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mezi znak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V principu říkají kolik – jaký podíl variability jedné proměnné lze vysvětlit pomocí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druhé. Ale pozor, „vysvětlení“ je třeba chápat ve smyslu redukce statistického rozptýlení dat, nikoliv ve smyslu kauzální interpretace.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[Řehák, Řeháková 1986: 250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Nevyjadřují směr asociace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(jako tomu je v případě korelací, nicméně některé koeficienty asociace jsou asymetrické (directional), tj. musíme definovat, která proměnná je závislá a které nezávislá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Kontingenční koeficient C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(C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Nejjednodušší na výpočet. Ale nepoužívejte je, tam kde porovnáváte míru asociace mezi tabulkami s různým počtem kategori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 u="sng">
                <a:solidFill>
                  <a:srgbClr val="000000"/>
                </a:solidFill>
                <a:uFillTx/>
                <a:latin typeface="Arial"/>
              </a:rPr>
              <a:t>Cramér's V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(CV nebo Cr)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obecně ho lze doporučit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(ale má také nedostatk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okud jsou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 obě proměnné dichotomické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(2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2 tabulka) používáme </a:t>
            </a:r>
            <a:br>
              <a:rPr sz="1900"/>
            </a:br>
            <a:r>
              <a:rPr b="1" lang="cs-CZ" sz="1900" spc="-1" strike="noStrike" u="sng">
                <a:solidFill>
                  <a:srgbClr val="000000"/>
                </a:solidFill>
                <a:uFillTx/>
                <a:latin typeface="Arial"/>
              </a:rPr>
              <a:t>Phi koeficient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(pro 2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2 tabulku je stejný jako CV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Lambda Λ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(symetrická/ asymetrická) měří procentní zlepšení odhadu jedné proměnné na základě hodnot jiné proměnné (oboustranné – symetrická nebo pouze predikující závislou proměnnou – asymetrická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Všechny tyto koeficienty jsou k dispozici v SPSS pomocí CROSSTABS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(viz dál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EC3-455F-43BF-A9BF-805967668C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zo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kud nenaměříme korelac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zi znaky stále ještě může být (nominální) asocia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není přítomná ordinální závislost – korelace, tak to automaticky neznamená statistickou nezávislost. Znamená to pouze, že není ordinálně uspořádaný vztah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earita). Stále mezi znaky ale může bý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vzájemný spoluvýskyt hodnot je např. kumulován do jednoho políčka tabulky (nebo několika políček mimo diagonálu resp. bez jakéhokoliv jiného „trendu“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uto situaci indiku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gnifikantní koeficient asoci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př. Cramerovo V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tímc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rdinální korelace je přibližně nulov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př. Gamma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uze absence nominální závislosti – asociace znamená (celkovou) statistickou nezávisl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př. CV 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očítejte oba ty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oeficientů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Cramer‘s V atd.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 ordinál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rel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Gamma atd.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rovnejte j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724-EE86-49F6-9C7B-B9B01DBD4C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íry asociace v kontingenční tabulce a Elabo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ry asociace/korelace využíváme také při elabor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j. v třídění dat 3. stupně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vč. popisných cílů analýz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ou asocia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podskupinách podl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kontrolní proměnn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 zásadě stejn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bo se liší jejich intenzita, či dokonce v případě korelací i směr souvislo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873-7C2B-4C78-B014-A463A57847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íry asociace v třídění (2) a 3. stupn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 CROSS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V rámci CROSSTABS můžeme spočítat míry asociace a korelace pro proměnné Y x X (bivariátně) a navíc i 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odděleně v kategoriích kontrolního faktoru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Z → což nám pomůže rychle posoudit interakce a zhodnotit „falešné“ vliv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a50021"/>
                </a:solidFill>
                <a:latin typeface="Arial"/>
              </a:rPr>
              <a:t>nominální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znaky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Y, X, Z-kontrolní faktor)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100" spc="-1" strike="noStrike">
                <a:solidFill>
                  <a:srgbClr val="a50021"/>
                </a:solidFill>
                <a:latin typeface="Arial"/>
              </a:rPr>
              <a:t>koeficienty asociace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mají hodnoty 0-1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cc"/>
                </a:solidFill>
                <a:latin typeface="Arial"/>
              </a:rPr>
              <a:t>CROSSTABS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var1 </a:t>
            </a:r>
            <a:r>
              <a:rPr b="0" lang="cs-CZ" sz="21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var2 </a:t>
            </a:r>
            <a:r>
              <a:rPr b="0" lang="cs-CZ" sz="21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var3-kontrolní</a:t>
            </a:r>
            <a:r>
              <a:rPr b="1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00"/>
                </a:solidFill>
                <a:latin typeface="Arial"/>
              </a:rPr>
              <a:t>/CELLS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cc3300"/>
                </a:solidFill>
                <a:latin typeface="Arial"/>
              </a:rPr>
              <a:t>COL </a:t>
            </a:r>
            <a:r>
              <a:rPr b="0" lang="cs-CZ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cs-CZ" sz="2400" spc="-1" strike="noStrike">
                <a:solidFill>
                  <a:srgbClr val="006600"/>
                </a:solidFill>
                <a:latin typeface="Arial"/>
              </a:rPr>
              <a:t>STATISTICS</a:t>
            </a:r>
            <a:r>
              <a:rPr b="0" lang="cs-CZ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cs-CZ" sz="2100" spc="-1" strike="noStrike" u="sng">
                <a:solidFill>
                  <a:srgbClr val="a50021"/>
                </a:solidFill>
                <a:uFillTx/>
                <a:latin typeface="Arial"/>
              </a:rPr>
              <a:t>CC  PHI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oeficienty asocice: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 CC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ingenční koeficient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ramérovo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+ ekvivalent pro dichotomické znaky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h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; jsou zde k dispozici i další koeficienty asociace a korelace (např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Lambd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a50021"/>
                </a:solidFill>
                <a:latin typeface="Arial"/>
              </a:rPr>
              <a:t>ordinální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znaky</a:t>
            </a:r>
            <a:r>
              <a:rPr b="1" lang="cs-CZ" sz="21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(A, B) a nominální/ordinální kontrolní faktor (C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víc krom asociací i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100" spc="-1" strike="noStrike">
                <a:solidFill>
                  <a:srgbClr val="a50021"/>
                </a:solidFill>
                <a:latin typeface="Arial"/>
              </a:rPr>
              <a:t>pořadové korelace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hodnoty -1–0–1 →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směr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cc"/>
                </a:solidFill>
                <a:latin typeface="Arial"/>
              </a:rPr>
              <a:t>CROSSTABS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var1 </a:t>
            </a:r>
            <a:r>
              <a:rPr b="0" lang="cs-CZ" sz="21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var2 </a:t>
            </a:r>
            <a:r>
              <a:rPr b="0" lang="cs-CZ" sz="21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var3-kontrolní</a:t>
            </a:r>
            <a:r>
              <a:rPr b="1" i="1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6600"/>
                </a:solidFill>
                <a:latin typeface="Arial"/>
              </a:rPr>
              <a:t>/CELLS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cc3300"/>
                </a:solidFill>
                <a:latin typeface="Arial"/>
              </a:rPr>
              <a:t>COL </a:t>
            </a:r>
            <a:r>
              <a:rPr b="0" lang="cs-CZ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cs-CZ" sz="2400" spc="-1" strike="noStrike">
                <a:solidFill>
                  <a:srgbClr val="006600"/>
                </a:solidFill>
                <a:latin typeface="Arial"/>
              </a:rPr>
              <a:t>STATISTICS</a:t>
            </a:r>
            <a:r>
              <a:rPr b="0" lang="cs-CZ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CC PHI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a50021"/>
                </a:solidFill>
                <a:uFillTx/>
                <a:latin typeface="Arial"/>
              </a:rPr>
              <a:t>GAMMA  CORR  BTAU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orelační koeficienty:</a:t>
            </a: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 GAMMA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oodman&amp;Kruskalov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am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T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Kendaullov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au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R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rmanov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h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+ Pearsonův korel. koef. R pro kardinální znak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zor, nenaměříme-li korelaci, neznamená to, že mezi znaky nemusí být silná závislost – asociace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víc u ordinálních znaků nám porovnání korelací a koeficientů asociace může napovědět o (nelineární) povaze vztah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známka: v případě průměrů v podskupinách v MEANS lze počítat koeficient(y)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Eta</a:t>
            </a:r>
            <a:r>
              <a:rPr b="1" lang="cs-CZ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(pro kardinální x nominální znak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00cc"/>
                </a:solidFill>
                <a:latin typeface="Arial"/>
              </a:rPr>
              <a:t>MEANS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var1-závislá-číselná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var2-nezávislá-kateg.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cc3300"/>
                </a:solidFill>
                <a:latin typeface="Arial"/>
              </a:rPr>
              <a:t>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ar3-kontrolní-kategoriální </a:t>
            </a:r>
            <a:r>
              <a:rPr b="0" lang="cs-CZ" sz="1700" spc="-1" strike="noStrike">
                <a:solidFill>
                  <a:srgbClr val="006600"/>
                </a:solidFill>
                <a:latin typeface="Arial"/>
              </a:rPr>
              <a:t>/CELLS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MEAN STDDEV COUNT </a:t>
            </a:r>
            <a:r>
              <a:rPr b="0" lang="cs-CZ" sz="1800" spc="-1" strike="noStrike">
                <a:solidFill>
                  <a:srgbClr val="006600"/>
                </a:solidFill>
                <a:latin typeface="Arial"/>
              </a:rPr>
              <a:t>/STATISTICS</a:t>
            </a:r>
            <a:r>
              <a:rPr b="0" lang="cs-C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800000"/>
                </a:solidFill>
                <a:uFillTx/>
                <a:latin typeface="Arial"/>
              </a:rPr>
              <a:t>ANOV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íce o koeficientech asociace a korelace v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2. Korelace a asociace: vztahy mezi </a:t>
            </a:r>
            <a:br>
              <a:rPr sz="1500"/>
            </a:b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kardinálními/ ordinálními znaky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cs-CZ" sz="1400" spc="-1" strike="noStrike">
                <a:solidFill>
                  <a:srgbClr val="333399"/>
                </a:solidFill>
                <a:latin typeface="Arial"/>
              </a:rPr>
              <a:t>http://metodykv.wz.cz/AKD2_korelace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2060640"/>
            <a:ext cx="7201080" cy="647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789360"/>
            <a:ext cx="7201080" cy="647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0C2-1876-417D-A222-CBA8FB7DC2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řadové korel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dinál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znaky - třídění 2. stup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7509" r="0" b="0"/>
          <a:stretch/>
        </p:blipFill>
        <p:spPr>
          <a:xfrm>
            <a:off x="755640" y="1058760"/>
            <a:ext cx="7450200" cy="2727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7775280" cy="2368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-3960" y="6335640"/>
            <a:ext cx="19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Zdroj: ISSP 2007, ČR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6308640"/>
            <a:ext cx="66247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OSSTA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ijem4 BY vzd4 /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TATISTICS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GAMMA BT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0000" y="5229360"/>
            <a:ext cx="3384720" cy="505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 výběrová data navíc musíme nejprve testovat statistickou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ypotézu, že koeficient není roven nul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tj. je nenulový i v celé populaci a nejen v našem vzorku). O tom ale až v AKD I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9FD-2D21-4263-92D1-4E8A6FBA70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1484280"/>
            <a:ext cx="7846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Vícerozměrná analýza: </a:t>
            </a:r>
            <a:br>
              <a:rPr sz="3400"/>
            </a:br>
            <a:r>
              <a:rPr b="1" lang="cs-CZ" sz="3800" spc="-1" strike="noStrike">
                <a:solidFill>
                  <a:srgbClr val="000000"/>
                </a:solidFill>
                <a:latin typeface="Arial"/>
              </a:rPr>
              <a:t>třídění třetího stupně </a:t>
            </a:r>
            <a:br>
              <a:rPr sz="3800"/>
            </a:br>
            <a:r>
              <a:rPr b="1" lang="cs-CZ" sz="3800" spc="-1" strike="noStrike">
                <a:solidFill>
                  <a:srgbClr val="000000"/>
                </a:solidFill>
                <a:latin typeface="Arial"/>
              </a:rPr>
              <a:t>v kontingenční tabul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tailnější popi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abora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rozkrytí vztah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Arial"/>
              </a:rPr>
              <a:t>(úvod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řadové korelace pr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inál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naky v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řídění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tupn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dděleně pro muže a ženy) → pohlaví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s30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kontrolní fa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3475" r="0" b="0"/>
          <a:stretch/>
        </p:blipFill>
        <p:spPr>
          <a:xfrm>
            <a:off x="250920" y="981000"/>
            <a:ext cx="4825800" cy="3022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rcRect l="0" t="0" r="0" b="16955"/>
          <a:stretch/>
        </p:blipFill>
        <p:spPr>
          <a:xfrm>
            <a:off x="250920" y="4292640"/>
            <a:ext cx="6985080" cy="223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308720" y="4076640"/>
            <a:ext cx="1729080" cy="2228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žen má vzdělání na příjem o něco větší efek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e celkově ženy vydělávají bez ohledu na vzdělání méně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viz též graf s průměry příjm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rcRect l="3349" t="2222" r="23683" b="3780"/>
          <a:stretch/>
        </p:blipFill>
        <p:spPr>
          <a:xfrm>
            <a:off x="5867280" y="981000"/>
            <a:ext cx="2925720" cy="30243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3080" y="6595920"/>
            <a:ext cx="146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Zdroj: ISSP 2007, ČR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6553080"/>
            <a:ext cx="66974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AKD2 si dále ukážeme jako spočítat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arciál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ořadovou korelaci (GAMM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4005360"/>
            <a:ext cx="698508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ROSSTAB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ijem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zd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3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TATISTICS</a:t>
            </a:r>
            <a:r>
              <a:rPr b="1" lang="cs-CZ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GAMMA BTA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153-2208-411B-B8DD-D3D76DE58A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kud je min. jedna proměnná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ulti-nominál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856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incip je stejný jako u ordinálních znaků, ale </a:t>
            </a:r>
            <a:r>
              <a:rPr b="1" lang="cs-CZ" sz="2600" spc="-1" strike="noStrike" u="sng">
                <a:solidFill>
                  <a:srgbClr val="800000"/>
                </a:solidFill>
                <a:uFillTx/>
                <a:latin typeface="Arial"/>
              </a:rPr>
              <a:t>nemůžeme</a:t>
            </a:r>
            <a:r>
              <a:rPr b="0" lang="cs-CZ" sz="2600" spc="-1" strike="noStrike" u="sng">
                <a:solidFill>
                  <a:srgbClr val="800000"/>
                </a:solidFill>
                <a:uFillTx/>
                <a:latin typeface="Arial"/>
              </a:rPr>
              <a:t> počítat korelac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ouze koeficienty asociac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Kontingenční koeficient, Cramérovo V, Lambda atd.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je nominální pouze 3. kontrolní proměnná (a ostatní ordinální), pak korelace počítat a vzájemně je porovnávat l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ři interpretaci procentních rozdílů u </a:t>
            </a: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nominálních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znaků musíme brát v úvahu </a:t>
            </a: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všechny kategorie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ávislé proměnné i nezávislých proměnných.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odušší je to, pokud je alespoň některá ordinál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deální je, pokud máme závislou proměnnou dichotomickou nebo ordinál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kud je závislá proměnná dichotomická, tak jde o ekvivalent porovnávání průměrů v pod/podskupiná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18E-23F8-4D91-8CE6-CA7F40876D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y kontingenčních tabulek se 3 proměnnými a míry asociace/kore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ždy lze míru asociace vyjádřit pomocí koef. asoc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dob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– všechny dichotomické → koeficienty asociace a bodově biseriální korelace nebo tetrachorické kore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závislá dichotomická, nezávislá ordinální, kontrolní nominální 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řadové korelac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skupinách kontrolního faktoru (bez možnosti posouzení trendu asociace/kore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o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závislá dichotomická, nezávislá nominální, kontrolní ordinální 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uze koeficienty asociac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lze posuzovat trend v asociacích mezi kategoriemi kontrolního faktor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3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3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obně i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všechny ordinální 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řadové korel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lze posuzovat trend v korelacích mezi kategoriemi kontrolního faktoru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+ koeficien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arciální kore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latí i pro více kategorií něž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ABA-5253-4C64-BDA3-765BE95A31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klady pro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bivariátn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asociace/korelace v konting. tabul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24169" r="0" b="0"/>
          <a:stretch/>
        </p:blipFill>
        <p:spPr>
          <a:xfrm>
            <a:off x="150840" y="4653000"/>
            <a:ext cx="4421160" cy="1365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0" t="7766" r="42593" b="40474"/>
          <a:stretch/>
        </p:blipFill>
        <p:spPr>
          <a:xfrm>
            <a:off x="5076720" y="4653000"/>
            <a:ext cx="3456000" cy="1440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rcRect l="0" t="28349" r="0" b="0"/>
          <a:stretch/>
        </p:blipFill>
        <p:spPr>
          <a:xfrm>
            <a:off x="257040" y="3068640"/>
            <a:ext cx="4314960" cy="1092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rcRect l="0" t="7766" r="42593" b="40474"/>
          <a:stretch/>
        </p:blipFill>
        <p:spPr>
          <a:xfrm>
            <a:off x="5076720" y="2997360"/>
            <a:ext cx="3456000" cy="1439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rcRect l="0" t="28443" r="0" b="0"/>
          <a:stretch/>
        </p:blipFill>
        <p:spPr>
          <a:xfrm>
            <a:off x="895320" y="692280"/>
            <a:ext cx="3676680" cy="1090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rcRect l="0" t="7766" r="43777" b="56006"/>
          <a:stretch/>
        </p:blipFill>
        <p:spPr>
          <a:xfrm>
            <a:off x="5076720" y="692280"/>
            <a:ext cx="3384720" cy="100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372360" y="1052640"/>
            <a:ext cx="2089080" cy="21564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3573360"/>
            <a:ext cx="2089080" cy="86364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2360" y="5661000"/>
            <a:ext cx="2089080" cy="43200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638172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tabulky větší než 2x2 lze vždy Cramérovo V a Kontingenční koe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9800" y="7650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×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8360" y="3062160"/>
            <a:ext cx="15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×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3ordin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80" y="472428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3o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×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3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7"/>
          <a:srcRect l="0" t="26157" r="0" b="0"/>
          <a:stretch/>
        </p:blipFill>
        <p:spPr>
          <a:xfrm>
            <a:off x="324000" y="1844640"/>
            <a:ext cx="4248000" cy="1066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rcRect l="0" t="15860" r="21737" b="0"/>
          <a:stretch/>
        </p:blipFill>
        <p:spPr>
          <a:xfrm>
            <a:off x="5076720" y="1773360"/>
            <a:ext cx="3384720" cy="1145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08720" y="1844640"/>
            <a:ext cx="16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×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omin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43640" y="2205000"/>
            <a:ext cx="2089080" cy="43200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5E8-C77D-4C0F-BCDF-9304AEB137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cké znázornění interakcí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dání v SP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čast ve volbá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q34), data ISSP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PI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 1) →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cen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„inside“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 kategoriie 1 až 1, tj. 1=voli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bo lze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PG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% větší než (hodnota),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PL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% menší než (hodnota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PH 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/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MPLE)=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1)(volil) BY vek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GRAPH  /LIN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IMPLE)=</a:t>
            </a:r>
            <a:r>
              <a:rPr b="0" lang="cs-CZ" sz="2400" spc="-1" strike="noStrike">
                <a:solidFill>
                  <a:srgbClr val="800000"/>
                </a:solidFill>
                <a:latin typeface="Arial"/>
              </a:rPr>
              <a:t>PI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1 1)(volil) BY vek3 BY vzd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GRAPH  /B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IMPLE)=</a:t>
            </a:r>
            <a:r>
              <a:rPr b="0" lang="cs-CZ" sz="2400" spc="-1" strike="noStrike">
                <a:solidFill>
                  <a:srgbClr val="800000"/>
                </a:solidFill>
                <a:latin typeface="Arial"/>
              </a:rPr>
              <a:t>PI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1 1)(volil) BY vek3 BY vzd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Pokud máme kontrolní proměnnou dichotomickou, lze ukázat rozdíl mezi jejími kategoriemi (zde vzdělání jen s/bez VŠ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GRAPH  </a:t>
            </a:r>
            <a:r>
              <a:rPr b="0" lang="cs-CZ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cs-CZ" sz="2400" spc="-1" strike="noStrike">
                <a:solidFill>
                  <a:srgbClr val="006600"/>
                </a:solidFill>
                <a:latin typeface="Arial"/>
              </a:rPr>
              <a:t>HIL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IMPLE)=</a:t>
            </a:r>
            <a:r>
              <a:rPr b="0" lang="cs-CZ" sz="2400" spc="-1" strike="noStrike">
                <a:solidFill>
                  <a:srgbClr val="800000"/>
                </a:solidFill>
                <a:latin typeface="Arial"/>
              </a:rPr>
              <a:t>PI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1 1)(volil) BY vek3 BY vzd_V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Vždy si sestavte také kontingenční tabulku a a kontrolujte absolutní počty případů v buň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OSSTA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34 BY vek3 BY vzd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OSSTA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34 BY vek3 BY vzd3 /C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ST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9F7-79B5-4927-8074-2C3A032CAB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072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zdělanostní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aspirace žáků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8.-9.tříd ZŠ mezi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věma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ypy škol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i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trole vlivu vzdělání rodič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1280" y="692280"/>
            <a:ext cx="7921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 elabora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e kterému se ještě vrátíme v AKD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standardizaci (vážení) v tabulce podle faktor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62373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droj: [Šafr, Kalný 201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zdělanostní aspirace žáku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odle typu ZŠ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a vzdělání rodič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50920" y="620640"/>
            <a:ext cx="6842160" cy="2606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60640" y="3789360"/>
            <a:ext cx="6822720" cy="2060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116000" y="3138480"/>
            <a:ext cx="6912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0000"/>
                </a:solidFill>
                <a:latin typeface="Arial"/>
              </a:rPr>
              <a:t>Na SŠ s maturitou aspiruje na školách v sociálně vyloučených lokalitách méně dětí naž na školách v lokalitách s majoritní populac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5805360"/>
            <a:ext cx="6840720" cy="90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0000"/>
                </a:solidFill>
                <a:latin typeface="Arial"/>
              </a:rPr>
              <a:t>Na aspirace má také vliv vzdělání rodičů: ve vzdělanějších rodinách jsou aspirace dětí vyšš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Vliv vzdělání rodiny (CV= 0,21) je větší než v případě typu školy (CV=0,1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D6D-8CAB-4515-BCB7-FC77790A7B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roveň al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056720" cy="2620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826920" y="4508640"/>
            <a:ext cx="7490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0000"/>
                </a:solidFill>
                <a:latin typeface="Arial"/>
              </a:rPr>
              <a:t>Na školy v sociálně vyloučených lokalitách chodí více dětí s nižším vzděláním rodič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8AD-05D7-40E0-8F9D-77ED40C379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anostní aspirace žáků podle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ypu školy a vzdělání rodičů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spořádání tabu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87280" y="1547640"/>
            <a:ext cx="4284720" cy="1881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87280" y="981000"/>
            <a:ext cx="42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Výstup z SPSS pro kontingenční tabulku 3. stupně vypadá takto (panely dle vzdělání rodičů jsou pod sebou → lze přehodit pomocí Pivoting Trays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981000"/>
            <a:ext cx="428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Výstup z SPSS upravíme pro klasický formát, kde kontrolní proměnná (vzdělání rodičů) je v panele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3573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rcRect l="0" t="8399" r="0" b="11198"/>
          <a:stretch/>
        </p:blipFill>
        <p:spPr>
          <a:xfrm>
            <a:off x="4716360" y="1555920"/>
            <a:ext cx="4321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rcRect l="0" t="11815" r="0" b="13300"/>
          <a:stretch/>
        </p:blipFill>
        <p:spPr>
          <a:xfrm>
            <a:off x="1403280" y="4941720"/>
            <a:ext cx="5256360" cy="1665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403280" y="3933720"/>
            <a:ext cx="5256360" cy="70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Ideální je </a:t>
            </a:r>
            <a:r>
              <a:rPr b="1" lang="cs-CZ" sz="1400" spc="-1" strike="noStrike">
                <a:solidFill>
                  <a:srgbClr val="800000"/>
                </a:solidFill>
                <a:latin typeface="Arial"/>
              </a:rPr>
              <a:t>úsporný 3-dimenzionální formát tabul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800000"/>
                </a:solidFill>
                <a:latin typeface="Arial"/>
              </a:rPr>
              <a:t>vynechána jsou % pro aspirace na ZŠ/VY (tvoří dopočet do 100 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800000"/>
                </a:solidFill>
                <a:latin typeface="Arial"/>
              </a:rPr>
              <a:t>Otočeno o 90 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4724280"/>
            <a:ext cx="5256360" cy="26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Podíl žáků aspirujících min. na maturitu podle typu školy a vzdělání rodič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364000" y="2637000"/>
            <a:ext cx="720720" cy="3168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435640" y="2637000"/>
            <a:ext cx="1512720" cy="360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587640" y="2637000"/>
            <a:ext cx="1225800" cy="3168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516360" y="2637000"/>
            <a:ext cx="2158920" cy="35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8E5-CB4F-4714-9348-2F71600137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anostní aspirace žáků podle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ypu školy a vzdělání rodičů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terpre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8920" y="3716280"/>
            <a:ext cx="8964720" cy="295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díl mezi vzděláním rodičů (s/bez maturity) → mezi panely tabul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školách ze sociálně vyloučených lokalit: 45 – 63 =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8 %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školách z lokalit s majoritní populací : 44 – 75 =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1 %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díly mezi typy škol jsou v kategoriích vzdělání rodičů odlišné: pro nižší vzdělání (ZŠ/VY) nezáleží na typu školy (koeficient asociace CrV=0), zatímco u vyššího vzdělání rodičů (SŠ/VŠ) je ve školách z lokalit s majoritní populací vyšší podíl zájmu o maturitní obory (ZŠ/VY) (CrV=0,1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terakční efekt vzdělání rodičů a typu ško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nejvyšší aspirace mají žáci z výše vzdělaných rodin a zároveň v prostředí škol z lokalit s majoritní popul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10106" r="0" b="0"/>
          <a:stretch/>
        </p:blipFill>
        <p:spPr>
          <a:xfrm>
            <a:off x="647640" y="1125360"/>
            <a:ext cx="7848720" cy="2556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V="1">
            <a:off x="4788000" y="2565360"/>
            <a:ext cx="79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348000" y="2565360"/>
            <a:ext cx="792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227640" y="2565360"/>
            <a:ext cx="792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740720" y="2565360"/>
            <a:ext cx="79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40360" y="278136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020000" y="2781360"/>
            <a:ext cx="720720" cy="9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0DD-A040-4DBC-BA6E-27A3AC0155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řídění třetího stupně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v kontingenční tabul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892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yzujeme souběžně vztahy mezi několika proměnnými (nejčastěji více nezávislých – vysvětlujících znak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 je stejný jako u dvourozměrné analýz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m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řídění dat 3. (a vyššího) stup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v zásad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etailnější deskripc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 pod/podskupiná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laborace vztah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→ hledání kauzálních vztahů, hlubších souvislostí, rozlišení podstatných a falešných vztahů, kontrola vlivu 3 proměnné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/ 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atí pro třídění vyššího stupně obecně, tj. i pro průměry v podskupinách a lineární závislosti (bodové grafy, korelace, regrese), zde si to nejprve vysvětlíme na kontingenční tabul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019-508B-4FD8-827D-FC5175550E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569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 k třídění 3. stupně v kontingenční tabulce se ještě vrátíme v AKD II.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→ 6.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laborace, standardizace/vážení</a:t>
            </a:r>
            <a:br>
              <a:rPr sz="3600"/>
            </a:br>
            <a:r>
              <a:rPr b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todykv.wz.cz/AKD2_kontg_tab_standardizace.pp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→ 4.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Testování hypotéz a asociace v kontingenčních tabulkách</a:t>
            </a:r>
            <a:br>
              <a:rPr sz="3600"/>
            </a:br>
            <a:r>
              <a:rPr b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etodykv.wz.cz/AKD2_hypotezy1.ppt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507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bbie, E. 1995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laboration Mode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(kapitola 16)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p. 395-412 in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Practice of social Research. 7th Edi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Belmont: Wadsw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sman, M. 1993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Jak se vyrábí sociologická znalost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aha: Karolinum. Pp. 217-282 Kapitola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9. „Všechno je jinak aneb vícerozměrná analýza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pr, J., Z. Šafář. 1969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ociologie nebo zdravý rozum?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: Mladá fronta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eidl, M. 2000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dklady ke kurzu Analýza kvantitativních dat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FSV UK, LS 2000-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ehák, J., B. Řeháková. 1986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nalýza kategorizovaných dat v sociologi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Academ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iman, 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. 2009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Quantitative data analysis: doing social research to test ide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San Francisco: Jossey-B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afr, J., B. Kalný. 2012. „Vzdělanostně–profesní aspirace žáků z rodin ohrožených sociálním vyloučením.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p. 699–710 in M. Bargel, E. Janigová, E. Jarosz. (eds.)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ilemata sociální pedagogiky v postmoderním svě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Brno: Institut mezioborových studií B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Vau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, A. (1985) 2002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rveys in Social Research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fth Edi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St Leonards NSW: Allen &amp; Unwin / London: Routl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1EF-072A-4132-A1E1-EF5A5C7E29D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incip vícerozměrné analýzy: třídění 3. stupně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2x2x2 tabulka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3429000"/>
            <a:ext cx="8785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Závislá proměnná: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Chození do kostela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souběžně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podle 2 nezávislých: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Věk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Pohla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mezi muži tak ženami starší lidé chodí do kostela častěji než mladí (tj. s věkem roste religiozi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každé věkové kategorii ženy navštěvují kostel častěji než muž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abulky, pohlaví má nepatrně větší efekt na chození do kostela než vě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k a pohlaví mají nezávislý vliv na chození do kostela. Uvnitř každé kategorie nezávislé proměnné odlišné vlastnosti té druhé přesto ovlivňují jedn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obně obě nezávislé proměnné mají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kumulativní efek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jedná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rší ženy chodí do kostela nejčastěji, zatímco mladí muži nejméně ča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658332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[Babbie 1997: 391-39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580000" y="520560"/>
          <a:ext cx="3456000" cy="263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520560"/>
                    <a:ext cx="34560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924360" y="1916280"/>
            <a:ext cx="158436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1916280"/>
            <a:ext cx="158436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1700280"/>
            <a:ext cx="1513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cc3300"/>
                </a:solidFill>
                <a:latin typeface="Arial"/>
              </a:rPr>
              <a:t>Rozdíl </a:t>
            </a:r>
            <a:r>
              <a:rPr b="1" lang="cs-CZ" sz="1300" spc="-1" strike="noStrike">
                <a:solidFill>
                  <a:srgbClr val="cc3300"/>
                </a:solidFill>
                <a:latin typeface="Arial"/>
              </a:rPr>
              <a:t>9 % bodů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1700280"/>
            <a:ext cx="1584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cc3300"/>
                </a:solidFill>
                <a:latin typeface="Arial"/>
              </a:rPr>
              <a:t>Rozdíl </a:t>
            </a:r>
            <a:r>
              <a:rPr b="1" lang="cs-CZ" sz="1300" spc="-1" strike="noStrike">
                <a:solidFill>
                  <a:srgbClr val="cc3300"/>
                </a:solidFill>
                <a:latin typeface="Arial"/>
              </a:rPr>
              <a:t>16 % bodů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5280" y="692280"/>
            <a:ext cx="5111640" cy="2550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47628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k často navštěvujete bohoslužb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06216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 General Social Survey, NOR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162-D805-4C7D-B7F6-C1CED20FCC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Zjednodušení předchozí tabulky: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2205000"/>
            <a:ext cx="190800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cc3300"/>
                </a:solidFill>
                <a:latin typeface="Arial"/>
                <a:ea typeface="Arial"/>
              </a:rPr>
              <a:t>→</a:t>
            </a:r>
            <a:r>
              <a:rPr b="0" lang="cs-CZ" sz="15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cc3300"/>
                </a:solidFill>
                <a:latin typeface="Arial"/>
              </a:rPr>
              <a:t>70 % méně čas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cc3300"/>
                </a:solidFill>
                <a:latin typeface="Arial"/>
              </a:rPr>
              <a:t>dopočet do 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5084640"/>
            <a:ext cx="89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azujem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uze pozitivní kateg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naku („do kostela chodí týdně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tom neztrácíme žádný údaj. Četnosti v závorkách uvádí procentní základ, z něj lze dopočítat podíl nezobrazené katego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658332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[Babbie 1997: 39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5832360" cy="39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EA6-60D8-4305-B496-67E6E6257A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řídění 3. stupn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x2x2 tabulka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kripce/explo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76500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adají více studenti „kolejáci“ – muži nebo „kolejáci“ – že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042920" y="907920"/>
          <a:ext cx="63896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6389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58920" y="508464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 porovnání s mužskými protějšky studentky bydlící na koleji propadají častěj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e je jich stejný podíl jako u těch studentek, co bydlí jinde (tzn. vliv koleje na prospěch se u žen zřejmě neuplatňuje; u mužů je pozitivní: „kolejáci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ži jsou u zkoušky úspěšnější a zároveň nejúspěšnější ze všec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11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droj: upraveno podle [Kapr, Šafář 1969: 152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1916280"/>
            <a:ext cx="71892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4005360"/>
            <a:ext cx="7192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67640" y="1628640"/>
            <a:ext cx="147636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ozdíl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procentních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3645000"/>
            <a:ext cx="147636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ozdíl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procentního b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276720" y="1989000"/>
            <a:ext cx="1440" cy="2089440"/>
          </a:xfrm>
          <a:prstGeom prst="line">
            <a:avLst/>
          </a:prstGeom>
          <a:ln w="25560">
            <a:solidFill>
              <a:srgbClr val="cc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1773360"/>
            <a:ext cx="865080" cy="36036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3789360"/>
            <a:ext cx="865080" cy="36036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968-1DEC-4F67-B9BA-0367DDB7BB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Úvod do elabo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16000" y="2708280"/>
            <a:ext cx="7345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řídění 3 stupn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ne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trola pro další fak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2600" y="259920"/>
            <a:ext cx="8578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estování/ kontrola vlivu dalšího faktoru (3. proměnná) →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labo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tvoření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ostatných tabulek podle kategorií třetí proměnn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testovaný faktor (třetí proměnná) udržován na konstantní hodnot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vislost mezi původními proměnnými j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čištěna od zkreslujícího vliv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to další proměn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810-C7FE-4BBB-BFA1-8B6A700059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23:11:19Z</dcterms:created>
  <dc:creator>Jiří Šafr (FHS)</dc:creator>
  <dc:description/>
  <dc:language>en-US</dc:language>
  <cp:lastModifiedBy>Jiri Safr</cp:lastModifiedBy>
  <dcterms:modified xsi:type="dcterms:W3CDTF">2015-05-31T21:04:36Z</dcterms:modified>
  <cp:revision>955</cp:revision>
  <dc:subject/>
  <dc:title>Kontingenční tabulky: Třídění 3. stupně – vztahy mezi 3 znaky v kontingenční tabulce a míry asociace</dc:title>
</cp:coreProperties>
</file>