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FE5-72A6-4694-BC00-CAAAA1DF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2A5-4669-462D-8D43-93566FE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365-9889-41C9-B945-09142457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86E-539F-451A-B0F8-D7FDFD3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972-398F-475E-B429-763C968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5B6-E57C-4D62-A156-CA2D475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498-7E92-4EB7-A1F8-EB93F80E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4C5-9D4D-4410-A4A8-5EA6150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E9F-85D1-4C04-A66E-D2739EA3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221-BDCB-46CA-82B7-E1BC681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581-3AFF-40A9-933B-8B3B06E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F2E-2F7B-4E46-9CD2-43D1889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290B-DAFE-4C7F-8033-D093459B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todykv.wz.cz/index.htm#analyza2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řídění 2. a 3. stupně: orientační mapa možností bivariátních analý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UK F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Historická sociologie, Řízení a supe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3300"/>
                </a:solidFill>
                <a:latin typeface="Arial"/>
              </a:rPr>
              <a:t>LS 2012, 2013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0133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ří Šafr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jiri.safr(zavináč)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6920" y="623736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sled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aktualizace</a:t>
            </a:r>
            <a:r>
              <a:rPr b="1" lang="cs-CZ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990000"/>
                </a:solidFill>
                <a:latin typeface="Arial"/>
              </a:rPr>
              <a:t>21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1413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a kvantitativních dat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samé v tabu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utní četnos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798800" cy="497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ztah dvou proměnných: </a:t>
            </a:r>
            <a:br>
              <a:rPr sz="4000"/>
            </a:b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ojitá (závislá) × kategoriální (nezávislá)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 podskupinách třetí proměnn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381720"/>
            <a:ext cx="5256360" cy="36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nihy_celk </a:t>
            </a:r>
            <a:r>
              <a:rPr b="1" lang="cs-CZ" sz="2000" spc="-1" strike="noStrike">
                <a:solidFill>
                  <a:srgbClr val="990000"/>
                </a:solidFill>
                <a:latin typeface="Arial"/>
              </a:rPr>
              <a:t>B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ium </a:t>
            </a:r>
            <a:r>
              <a:rPr b="1" lang="cs-CZ" sz="2000" spc="-1" strike="noStrike">
                <a:solidFill>
                  <a:srgbClr val="990000"/>
                </a:solidFill>
                <a:latin typeface="Arial"/>
              </a:rPr>
              <a:t>B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hla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720" y="3645000"/>
            <a:ext cx="28728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720" y="4581360"/>
            <a:ext cx="28728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319560"/>
            <a:ext cx="287280" cy="109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5084640"/>
            <a:ext cx="28728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3429000"/>
            <a:ext cx="3745080" cy="216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484280"/>
            <a:ext cx="7846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 třídění 3. stupně v kontingenční tabulce (pro %)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iz prezentaci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ztahy mezi 3 znaky v kontingenční tabulce - 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2920" y="4941360"/>
            <a:ext cx="70581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//metodykv.wz.cz/AKD1_kontg_tab3st_uvod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a co s dát poz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běrová data vs. cen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áme-li data z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hodn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dobrého kvótního)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ýběr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 populace (tj. vzorek) , pak k testování hypotéz můžeme (měli bychom) přistoupit pomocí principů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istické inferenc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atistické testy; intervalové odhady → viz AKDII.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todykv.wz.cz/index.htm#analyza2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naopak máme-li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letní populaci (census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istické testy nedávají smys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zor n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ízké čet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jména při spoluvýskytu některých kategorií v kontingenčních tabulkách → sloučit (překó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utlier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extrémní hodnoty → rekódovat na „nižší ale smysluplnou“ hodnotu (nebo případně označit jako chybějící hodno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Ukázky jak prezentovat tabulky a interpretovat vztahy.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ezentace tabulky v tex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290600"/>
          <a:ext cx="9217080" cy="43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90600"/>
                    <a:ext cx="92170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95280" y="4869000"/>
            <a:ext cx="446400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280" y="5950080"/>
            <a:ext cx="8893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apomeňte uvádě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tový zdro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validních - platných případů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onkrétní analýze (tabulce). Zejména tehdy pokud počet missingů překročí cca 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4720" y="2205000"/>
            <a:ext cx="2519280" cy="1008000"/>
          </a:xfrm>
          <a:prstGeom prst="wedgeRoundRectCallout">
            <a:avLst>
              <a:gd name="adj1" fmla="val -75458"/>
              <a:gd name="adj2" fmla="val -94879"/>
              <a:gd name="adj3" fmla="val 16667"/>
            </a:avLst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K jaké populaci se výsledek vztahuje </a:t>
            </a:r>
            <a:br>
              <a:rPr sz="18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teritorium, časové období, sociální skupina,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4005360"/>
            <a:ext cx="2556000" cy="1439640"/>
          </a:xfrm>
          <a:prstGeom prst="wedgeRoundRectCallout">
            <a:avLst>
              <a:gd name="adj1" fmla="val -138138"/>
              <a:gd name="adj2" fmla="val -224092"/>
              <a:gd name="adj3" fmla="val 16667"/>
            </a:avLst>
          </a:prstGeom>
          <a:solidFill>
            <a:srgbClr val="ffff99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á proměnn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větlující proměnná/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é míry/ statisti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ezentace grafu v tex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50920" y="938160"/>
          <a:ext cx="74534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938160"/>
                    <a:ext cx="74534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900000" y="6137280"/>
            <a:ext cx="3816360" cy="604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ezentace a interpretace kontingenční tabulky (výzkumná otázka a hypotéza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907560"/>
            <a:ext cx="87138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á otázka (RQ): Souvisí počet přečtených knih s dobou sledování TV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ypotéza sociologická: Počet přečtených knih roste s dobou strávenou s T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= pozitivní souvis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á hypotéza (H0): Počet přečtených knih se neliší v závislosti na době strávené u T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= žádný vzt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2060640"/>
          <a:ext cx="6121440" cy="23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61214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79280" y="4434120"/>
            <a:ext cx="896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abulka 2 ukazuje podíl přečtených knih za rok (rozděleno na tři skupiny čtenářů dle tercilů) ve skupinách podle  míry sledování televize v běžný den (rovněž kategorizováno na tercily).  V tabulce ověřujem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ypotézu, podle níž počet přečtených knih roste s dobou strávenou s TV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tímco v kategorii podprůměrného množství přečtených knih  (I. tercil) je pouze 16 %, těch co televizi sledují málo (I. tercil), tak těch, kdo sledují TV nadprůměrně (III. tercil) je v této kategorii zhruba 2,5 x více (39%). Obdobně v kategorii nejvíce přečtených knih (III. tercil) je 42 % těch, kdo se na televizi v podstatě nedívají a zároveň jen 17% těch, kteří se na ní dívají velmi často (III. tercil). Vidíme tak, že mezi čtením knih a sledováním televize existuje negativní souvislost (vyjádřeno pomocí kontingenčního koeficientu souvislost je tato souvislost středně silná, CC = 0,25).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ší hypotézu o pozitivní souvislosti mezi počtem přečtených knih a sledováním TV nám tedy nezbývá než zamítnout, vztah je přesně obrácený: čím více studenti čtou, tím méně se dívají na televiz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96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ientační mapa“ analýzy vztahu 2 proměn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it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pojit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itá (závislá) × kategoriální (nezávislá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tegoriální × kategori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genční tabu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řídění 3. stup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t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co s dát pozor (výběrová data vs. cens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to má vypadat – úprava tabulek a dalších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500" spc="-1" strike="noStrike">
                <a:solidFill>
                  <a:srgbClr val="000000"/>
                </a:solidFill>
                <a:latin typeface="Arial"/>
              </a:rPr>
              <a:t>Orientační mapa“ analýzy 2 proměnných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m cílem výzkumu je testovat hypotézy 2.řádu = vztah dvou (a více) proměnný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Jak) souvisí spolu hodnoty jedné a druhé proměnn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 Klesá počet přečtených knih za rok s dobou, kterou člověk věnuje sledování telev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očet přečtených knih za rok stejný ve všech skupinách studentů (obory studia&amp;ročník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měnné existují ve 2 základních typech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tegor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minální a ordi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ojit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kardinální (číselné)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→ různé varianty jejich kombinací při analý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100" spc="-1" strike="noStrike">
                <a:solidFill>
                  <a:srgbClr val="000000"/>
                </a:solidFill>
                <a:latin typeface="Arial"/>
              </a:rPr>
              <a:t>Orientační mapa“ analýzy dvou proměnných – přehled analytických nástrojů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it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pojitá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př. počet přečtených knih a vě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relační koeficient (Pearsonův), bodový X-Y gra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itá (závislá) × kategoriální (nezávislá)</a:t>
            </a:r>
            <a:br>
              <a:rPr sz="3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př. např. počet přečtených knih a obor stu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y v podskupinách, koeficient Eta, graf průměrů v podskupinách (Barchart pro mean, Line-multiple nebo Boxplot, Error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tegoriální × kategoriální 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oblíbené literární žánry a obor stu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ingenční tabulka, sloupcový graf (Barchart) pro % koeficient kontingence (CC), Phi, Gam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pojitá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 spojit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selná proměnná → ideální situace: nejlepší způsob měření, nejsofistikovanější analýzy, možnost převodu na kategori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relace (a nebo) X-Y gr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637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133720"/>
            <a:ext cx="453708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R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nihy_cel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AP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/SCATTERP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knihy_cel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46560" y="2635200"/>
            <a:ext cx="3997440" cy="422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3500280"/>
            <a:ext cx="5042160" cy="324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LE!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orelace měří lineární vzta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přímou úměru) a předpokládá „normální“ rozložení proměnný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ávislosti mohou mít i jinou než lineární povah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roto si raději udělejte i X-Y (Scatter plot) → souvislosti jsou vizuálně vidě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zor na Outlie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extrémní hodnoty znaků (a jejich kombin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73392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604360" y="1989000"/>
            <a:ext cx="36036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2781360"/>
            <a:ext cx="1942920" cy="110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 - korelační koe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- koeficient determi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√R</a:t>
            </a:r>
            <a:r>
              <a:rPr b="0" lang="cs-CZ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  a   R2 = 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√0,066 = 0,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jitá (závislá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kategoriální (nezávisl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incipu porovnáváme průměry závislé - spojité v kategoriích nezávislé proměnné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kontrola rozptylu (směrodatné odchylky StD ve skupin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549" r="0" b="0"/>
          <a:stretch/>
        </p:blipFill>
        <p:spPr>
          <a:xfrm>
            <a:off x="468360" y="2060640"/>
            <a:ext cx="4191120" cy="1832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316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051" t="0" r="0" b="3449"/>
          <a:stretch/>
        </p:blipFill>
        <p:spPr>
          <a:xfrm>
            <a:off x="0" y="4017960"/>
            <a:ext cx="349236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64000" y="5157720"/>
            <a:ext cx="5580000" cy="1969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ing values studium (5 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A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ihy_celk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E)=MEAN(knihy_celk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*pro výběrová data = vzorek z populace)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tervalový odhad průměru s konfidenčním int.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RRORB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knihy_cel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2276640"/>
            <a:ext cx="50328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2276640"/>
            <a:ext cx="863280" cy="136836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ategoriální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kategoriál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ingenční tabul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hledáme souvislosti pomocí spoluvýskytu v relativních četnostech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chylky od očekávané=teoretické četnosti (→ znaménkové sch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rdinální znaky sledujeme krajní kategorie a kupení na diagoná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dím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 vztahy spoluvýskytu, které nejsou lineár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 nominální zna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6200" y="2565360"/>
            <a:ext cx="435780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19840" y="4508640"/>
            <a:ext cx="4124160" cy="161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08280"/>
            <a:ext cx="4824360" cy="1797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TA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nihy_celk3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V3t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TA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nihy_celk3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V3t /cel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TA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nihy_celk3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V3t /cel = c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*+ test homogenity; míry asociace / kore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TABS knihy_celk3t BY TV3t /cel = col /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CC CORREL LAMB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137280"/>
            <a:ext cx="4356000" cy="720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ždy kontrolujeme počet absolutních četnost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 cca 5 → problém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→ nespolehlivé  závěry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→ sloučit katego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3357720"/>
            <a:ext cx="50328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5080" y="3357720"/>
            <a:ext cx="50328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16720" y="3789360"/>
            <a:ext cx="50328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3789360"/>
            <a:ext cx="50328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3860640"/>
            <a:ext cx="86508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3429000"/>
            <a:ext cx="86508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5300640"/>
            <a:ext cx="14472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5661000"/>
            <a:ext cx="144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0" t="0" r="0" b="30189"/>
          <a:stretch/>
        </p:blipFill>
        <p:spPr>
          <a:xfrm>
            <a:off x="250920" y="4581360"/>
            <a:ext cx="4556160" cy="107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4941720"/>
            <a:ext cx="1584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5300640"/>
            <a:ext cx="1584360" cy="216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670720"/>
            <a:ext cx="4753080" cy="11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ztah znaků v tabulce lze vyjádřit i jedním číslem: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nominál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a ordinální) znaky: koef. kontingence apod. (CC, Cramérovo V, Lambda)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→ vyjadřují i nelineární souvislosti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ordinální znak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(navíc): pořadové korelace (Gama, Spearmanův koef. pořadové korelace (ró), Kendallovo tau-b/ tau-c, Somersovo d)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→ vyjadřují (víceméně) pouze lineární souvis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ění 3. stup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jitou závisl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oměnnou 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tegoriální nezávisl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oměn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ůměry v podskupin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ztah dvou proměnných: </a:t>
            </a:r>
            <a:br>
              <a:rPr sz="4000"/>
            </a:b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ojitá (závislá) × kategoriální (nezávislá)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 podskupinách třetí proměnn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4073"/>
          <a:stretch/>
        </p:blipFill>
        <p:spPr>
          <a:xfrm>
            <a:off x="611280" y="1557360"/>
            <a:ext cx="8101080" cy="478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04000" y="2205000"/>
            <a:ext cx="23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ěrný poče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čtených kníž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d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ijních skup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990000"/>
                </a:solidFill>
                <a:latin typeface="Arial"/>
              </a:rPr>
              <a:t>v podskupinách dle </a:t>
            </a:r>
            <a:r>
              <a:rPr b="1" lang="cs-CZ" sz="1800" spc="-1" strike="noStrike">
                <a:solidFill>
                  <a:srgbClr val="990000"/>
                </a:solidFill>
                <a:latin typeface="Arial"/>
              </a:rPr>
              <a:t>pohla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381720"/>
            <a:ext cx="7777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/B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GROU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ihy_celk)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udium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h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9:16:32Z</dcterms:created>
  <dc:creator>Jiri Safr</dc:creator>
  <dc:description/>
  <dc:language>en-US</dc:language>
  <cp:lastModifiedBy>Jiri Safr</cp:lastModifiedBy>
  <dcterms:modified xsi:type="dcterms:W3CDTF">2014-04-21T04:52:10Z</dcterms:modified>
  <cp:revision>86</cp:revision>
  <dc:subject/>
  <dc:title>Praktikum 30.5.2012</dc:title>
</cp:coreProperties>
</file>