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251-9799-4406-BDF4-BCE762C0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469-53D4-46AB-989A-ACFEF4EB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402-3454-4919-8CC5-DB81DAE0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D87-F823-462A-8014-0789F624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BC6-2DAB-4799-BE0C-4566D95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FDD-813F-4D13-B438-F6084279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DFC-196B-4AC1-A577-B6059E6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27B-2DFC-4A6F-9F71-03CA9BE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444-7E40-4BCE-93A5-9CF5463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DBA-A1DA-46C1-A127-66C0E4DE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5DD-CA4B-4F8A-9B1A-3EAFC08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DD7-0E76-4EEF-B6A9-7D8EBD5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503-B158-4388-B6BE-45551561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lýza kvantitativních dat I./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6481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ybějící hodno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(Missing Valu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dentifikace, nastavení,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21/4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LS 2012, 2013,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ypínání“ a „zapínání“ Missingů v Syntax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ssingy "vypneme" - odznačíme pokud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závorka bude prázd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budou všechny hodnoty součástí analýzy (pochopitelně neplatí pro systémové missingy ty zůstávají vyloučen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opět můžeme „zapnout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12 9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známky k Missing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620280"/>
            <a:ext cx="885672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se u dané proměnné v datech zadané chybějící hodnoty ve skutečnosti nevyskytují, pak se v tabulce tř. 1.stupně (Frequencies) v sekci Missing neobjeví (zobrazuje se jen skutečný výskyt, hodnota je nicméně stále jako Missing nastavena). Zobrazit informaci o nastavení missing values lze pomoc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ISPLAY </a:t>
            </a:r>
            <a:r>
              <a:rPr b="0" lang="cs-CZ" sz="2800" spc="-1" strike="noStrike">
                <a:solidFill>
                  <a:srgbClr val="990000"/>
                </a:solidFill>
                <a:latin typeface="Arial"/>
              </a:rPr>
              <a:t>DICTIONA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/VARIABLES =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zor také na situaci, kdy se v tabulce Frequencies objeví určitá hodnota několikrát, např.: 1 1 1 je ve skutečnosti, např. 0,9 a 0,6 a 1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0,9 a 0,6 se zaokrouhlí na 1, ale zobrazí se při formá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ez desetinných mí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unikátní hodnota 1) → změníme formát zobrazení 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FORMAT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ek (F8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5013360"/>
            <a:ext cx="3600720" cy="16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240" y="2708280"/>
            <a:ext cx="90867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80360" y="2924280"/>
            <a:ext cx="1763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3547800" cy="1643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5589720"/>
            <a:ext cx="36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5589720"/>
            <a:ext cx="431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5950080"/>
            <a:ext cx="3745080" cy="71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Chybějící hodnoty (MV):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s nimi zacházet - pravidlo „palce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okud je relativní počet chybějících hodnot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menší než cca 5 %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ak je lze většinou ignorovat (v „dostatečně velkém“ výběrovém souboru).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ozor ale na průniky misingů v bivariátní analýz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řesáhne-li počet chybějících hodnot tuto hranici, pak je nutná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analýza závislosti chybějících hodnot na jiných znacích </a:t>
            </a:r>
            <a:br>
              <a:rPr sz="2700"/>
            </a:b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(→ příčin), tj. měli bychom se ptát: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„kdo neodpovídá na naše otázky?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ři &gt; 5% výskyt MV totiž nemusí být už jen náhodný (tj. náhodně distribuovaný v populaci), což je třeba ověřit, případně zvážit imputaci chybějícíh hodno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ybějící hodno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3. krok – jejich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lýza podmíněnosti &amp; provázanosti chybějících hod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ešíme dvě otázky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Jak jsou missingy provázané mezi jednotlivými (závislými) proměnným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např. v baterii otáz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da jsou nějak závislé na třídících znacích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např. věku, vzdělání či filtrační otázc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jednoduší postup: </a:t>
            </a:r>
            <a:r>
              <a:rPr b="1" lang="cs-CZ" sz="2600" spc="-1" strike="noStrike">
                <a:solidFill>
                  <a:srgbClr val="cc3300"/>
                </a:solidFill>
                <a:latin typeface="Arial"/>
              </a:rPr>
              <a:t>„vypnutí“ missingů (budou zahrnuty) a analýza odpovídajících kategorií např. v kontingenční tabulce.</a:t>
            </a:r>
            <a:r>
              <a:rPr b="0" lang="cs-CZ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VA v SPSS (Missing Value Analys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3. Konstrukce nové proměnné s informací o chybějící hodnotě (/ hodnotách u více proměnných) a jejich samostatná analýza </a:t>
            </a:r>
            <a:br>
              <a:rPr sz="2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chotomické proměnné indikující neplatnou-chybějící odpověď vs. platnou-valid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MV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– Missing Valu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 odhalit u více proměnných současně vzorce chybějících hodnot (Patter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2770200" cy="30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3736800" cy="335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65800" y="2781360"/>
            <a:ext cx="2878200" cy="3503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11640" y="2924280"/>
            <a:ext cx="1008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3933720"/>
            <a:ext cx="1008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453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, není k dispozici v základní verzi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M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používat vážení – vypnout vá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EIGHT 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OF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funkce: popis chybějíc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s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V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k pohlavi kraj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/CATEGORIC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hlavi kr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VA Outpu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7635960" cy="242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50920" y="1557360"/>
            <a:ext cx="684072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výstu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adáme formát pro kategoriální proměn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ek pohlavi kraj 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</a:rPr>
              <a:t>/CATEGORIC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hlavi kraj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716280"/>
            <a:ext cx="194472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VA Outpu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orce missingů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Kolik respondentů neodpovědělo na kolik položek z baterie otáz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5184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nik pro platné případy (effective s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43080" y="3284280"/>
            <a:ext cx="6656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y v textu by měly být provedeny na konsistentním podsouboru se stejným počtem platných přípa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stupných bivariátních analýzách by měl být stejný základ platných případů (průnik missingů dle principu LISTW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364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AKD II. / AKD I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vním krokem analýzy je vždy kontrola (a identifikace) chybějících hod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ISSING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nik pro platné případy (effective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průnik pro platné případy (princip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STW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řazení missingů), který se v textu nebude měnit (effective sample), může jít jen o kapitolu (její části) nebo o celý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šechny tabulky/analýzy by měly být založeny na jednom podsouboru, tj. stejném počtu příp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prve vše zkontrolo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nejjednodušeji velikost průniku zjistíme pomocí DESCRIPTIVES (viz dá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chybějících hodnot (missingů) u závislé proměnné je pořád stejný, ale může se měnit podle nezávislých proměnný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může být, ž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kový průnik missingů všech analyzovaných proměnných může být již příliš velk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&gt; 5%). → kontrolovat reprezentativitu analyzovaného podsou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k lze zvážit pro nezávislé proměnné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„zahrnutí chybějících hodnot“ do analýzy nejjednodušeji pomocí nahrazení průměrem (Replace with Mean). To samotné se ale nedoporučuje, lepší volba je to doplnit 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dikaci, zda u konkrétní proměnné hodnota chybě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ummy var) a testovat její statistickou význam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mputaci hodno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existují sofistikované metody doplnění (aproximace) chybějících hodnot pro nezávislé proměnné na základě odhadu z hodnot jiných proměnný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hybějící hodnoty v datech mohou bý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ssing completely at random (MCAR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ideální situace, výsledky nejsou zkreslené (bi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ssing at random (MAR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chybějící hodnoty jsou jen u některé proměnné, ale nejsou ničím systematicky ovlivn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ot missing at random (NMAR) </a:t>
            </a:r>
            <a:br>
              <a:rPr sz="3200"/>
            </a:br>
            <a:r>
              <a:rPr b="0" lang="cs-CZ" sz="3200" spc="-1" strike="noStrike">
                <a:solidFill>
                  <a:srgbClr val="cc3300"/>
                </a:solidFill>
                <a:latin typeface="Arial"/>
              </a:rPr>
              <a:t>→ chybějící hodnoty jsou něčím (nenáhodně) podmíněny </a:t>
            </a:r>
            <a:br>
              <a:rPr sz="3200"/>
            </a:br>
            <a:r>
              <a:rPr b="1" lang="cs-CZ" sz="3200" spc="-1" strike="noStrike">
                <a:solidFill>
                  <a:srgbClr val="cc3300"/>
                </a:solidFill>
                <a:latin typeface="Arial"/>
              </a:rPr>
              <a:t>→ problém zkresl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Kontrola reprezentativity analyzovaného podsouboru celkově platných případů, filtr na effective s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kontrolu si vytvoříme filtr s celkovým průnikem platných případů (prostým součtem všech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latn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t všech proměnných): </a:t>
            </a: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_Lsw6v = Závislá+Nezávislá1+Nezávislá2+Nezávislá3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atd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Fi_Lsw6v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LOW 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Fi_Lsw6v =  s27 vek prijem s30 s18 vzd3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SYSMIS MISS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* pozor toto zadání předpokládá, že jsou již ošetřeny missingy a je ve výsledku opačné.</a:t>
            </a:r>
            <a:br>
              <a:rPr sz="2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_Lsw6v (0 =1) (1 thru highest =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jednoduchá kontrola reprezentativity, např.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ROS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kat by Fi_Listw /cel 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a všechny bivariátní analýzy zapneme filtr pro podskupinu platných případů.</a:t>
            </a: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FILTER B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_Lsw6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íce na AKD II./III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xistují dva druhy missingů (v SPSS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ystémové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SYSMI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v datech: „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“)</a:t>
            </a:r>
            <a:br>
              <a:rPr sz="3000"/>
            </a:b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základní formu označení chybějící hodnoty, ale v podstatě zde není žádná informace proč chybí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častěji záznam v datech nebyl u dané proměnné vůbec proveden, nebo se proměnná daného případu (respondenta) netýká (např. rok rozvodu u svobodných/ženatý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me-li např. z dotazníku k dispozici podrobnější informaci (například „Netýká se“, „Odmítl odpovědět“, „Neví“) můžeme mít navíc ta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živatelsky definované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MISSING 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atech je označujeme hodnotami „mimo“ rozsah standardních kategorií, např. : „9“ nebo „99“ a často je i labelujeme, např. 8 = Odmítl odpovědět, 9 = Ne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yto hodnoty pak nebudou obsaženy v základní části analý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kud jejich označení jako MISSING VALUES nevypneme, což můžeme podle potřeby využívat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371680" cy="25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732720" y="1916280"/>
            <a:ext cx="57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ybějící hodnoty (missing values) - po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zjiště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a jsou v datech chybějící hodnoty (MV) označeny a j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okud ne p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načení-nastavení chybějící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překódování či jiné transformace d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- 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iz AKD I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ěc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ýza chybějící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zhodnocení zda je lze ignorovat, pokud ne: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analýza jejich závislosti na jiných proměn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- -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ro pokročil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mputace chybějící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odhad hodnot, tam kde chybí) a manipulace ve vícerozměrných analýzách (listwise, pairwise, a různé impu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. Zjištění stavu v date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dnodušší přístup k Missingům (M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a nastavení MV v Dataeditoru NESTAČÍ, vždy musíme provést průzkum v dat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větší počet proměnných většinou v 1. kroku někdy stačí příkaz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ESCRIPTIV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ujeme Min a Max v datech s hodnotami „v dotazníku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ou odhalí hodnoty max, ale 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pozor, není spolehli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hlivý je pouze příkaz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ý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píše výskyt všech hodnot zna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tj. i jejich (ne)označení jako MV.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íce proměnných ovšem dostaneme mnoho tabul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ně nám také ukáže počet (nikoliv však detail jaké hodnoty) příkaz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VA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(Missing Value Analysis).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itě lepší strategie než DESC, není ale k dispozici v základní verzi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8487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ějící hodnoty – zjištění stav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ESC, FREQ, M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09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ESCRIPT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PI.1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3300"/>
                </a:solidFill>
                <a:latin typeface="Arial Narrow"/>
              </a:rPr>
              <a:t>→ </a:t>
            </a:r>
            <a:r>
              <a:rPr b="0" lang="cs-CZ" sz="2400" spc="-1" strike="noStrike">
                <a:solidFill>
                  <a:srgbClr val="cc3300"/>
                </a:solidFill>
                <a:latin typeface="Arial Narrow"/>
              </a:rPr>
              <a:t>nespolehl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I.1a.</a:t>
            </a:r>
            <a:br>
              <a:rPr sz="2400"/>
            </a:br>
            <a:r>
              <a:rPr b="0" lang="cs-CZ" sz="2400" spc="-1" strike="noStrike">
                <a:solidFill>
                  <a:srgbClr val="cc3300"/>
                </a:solidFill>
                <a:latin typeface="Arial Narrow"/>
              </a:rPr>
              <a:t>→ kompletní informace na úrovni hodnot-kategorií zna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I.1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546440" cy="83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333520" cy="84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516240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5229360" cy="104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1341360"/>
            <a:ext cx="649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5734080"/>
            <a:ext cx="1368360" cy="79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1052640"/>
            <a:ext cx="64944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365720"/>
            <a:ext cx="360036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44640"/>
            <a:ext cx="8785080" cy="3456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 Nastavení chybějících hod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ar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padně další Var2 Var3 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0 8 9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označit lz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ž tři hodno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é budou vyloučeny ze základu analý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: 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LOWEST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THRU 5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či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8 THRU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i kombinaci intervalu a jedné hodno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8 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zadat i přes Data editor,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syntax zaručuje kontrolu a dokumentac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ipulace s d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43640" y="4149720"/>
            <a:ext cx="2546280" cy="25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59640" y="5157720"/>
            <a:ext cx="1152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dentifikace a označení chybějících hodnot.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„věk studentů V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FREQUENCIES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429000" cy="5256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981000"/>
            <a:ext cx="417672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 a 92 jsou z hlediska věku posluchačů kurzu AKD „nesmyslné“ hodnoty, proto je označíme jako chybějící. Pomocí příkazu v syntax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vek (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12 9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v data editor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klikem myši přes me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116000" y="1268280"/>
            <a:ext cx="3743280" cy="3603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115640" y="1268280"/>
            <a:ext cx="3745080" cy="44658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3843" t="0" r="64968" b="62427"/>
          <a:stretch/>
        </p:blipFill>
        <p:spPr>
          <a:xfrm>
            <a:off x="4572000" y="2997360"/>
            <a:ext cx="4464000" cy="302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43640" y="4724280"/>
            <a:ext cx="129528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461280"/>
            <a:ext cx="439272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ároveň vidíme, že v datech zatím žádné uživatelské missingy nebyly definovány (jsou zde pouze 2 případy systémových SYSMI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331640" y="6165360"/>
            <a:ext cx="21564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021360"/>
            <a:ext cx="3816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165720"/>
            <a:ext cx="4572000" cy="58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známka: Po zadání MV, se zdánlivě nic nestane, pouze jsme v datech označili MV,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oto je dobré vytisknout si opět tabulku třídění 1.stupně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86920" y="1125360"/>
            <a:ext cx="8567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rozsahu MV: od zvolené hodnoty do Maxima nebo od hodnoty do Minim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 lze přidat ještě jedna hodn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minima do zvolené hodn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LOWEST 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zvolené hodnoty do max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50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přidat můžeme i jednu hodnotu naví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k (50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dentifikace a označení chybějících hodnot.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„věk studentů VŠ“, pokrač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460600" cy="207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0" y="2637000"/>
            <a:ext cx="230508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4:26:10Z</dcterms:created>
  <dc:creator>Jiri Safr</dc:creator>
  <dc:description/>
  <dc:language>en-US</dc:language>
  <cp:lastModifiedBy>Jiri Safr</cp:lastModifiedBy>
  <dcterms:modified xsi:type="dcterms:W3CDTF">2014-04-21T03:16:40Z</dcterms:modified>
  <cp:revision>199</cp:revision>
  <dc:subject/>
  <dc:title>Analýza kvantitativních dat I.</dc:title>
</cp:coreProperties>
</file>