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F62-A14E-4B6B-90DE-4187B6C2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63C-C9C2-4BF7-8A64-E77516FA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EC7-C884-4E1D-80D4-3C5F17AD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3DD-9BA5-47C5-986D-15B07536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CE8-1ACB-4ECA-9AA1-D06B65F7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2D9-46F1-4E87-9988-92A1308E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E5E-B4C6-44C2-A2E3-731AA2CC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1F3-B893-4C29-AA1F-4613C1A7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1BE-7943-43FA-BD45-B7D7C5CF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252-868B-498D-B858-E18E2665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84E-E3BB-49D1-A838-EAA78818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AF6-AD10-43F4-8EF9-AEB6781A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8DB8-9A9E-426C-81A9-8D178E57B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todykv.wz.cz/tabulky_intepretace_prezentace.pdf" TargetMode="External"/><Relationship Id="rId2" Type="http://schemas.openxmlformats.org/officeDocument/2006/relationships/hyperlink" Target="http://metodykv.wz.cz/tabulky_intepretace_prezentace.pdf" TargetMode="External"/><Relationship Id="rId3" Type="http://schemas.openxmlformats.org/officeDocument/2006/relationships/hyperlink" Target="http://metodykv.wz.cz/spss2_tabulky.ppt" TargetMode="External"/><Relationship Id="rId4" Type="http://schemas.openxmlformats.org/officeDocument/2006/relationships/hyperlink" Target="http://metodykv.wz.cz/spss2_tabulky.ppt" TargetMode="External"/><Relationship Id="rId5" Type="http://schemas.openxmlformats.org/officeDocument/2006/relationships/hyperlink" Target="http://metodykv.wz.cz/spss2_tabulky.ppt" TargetMode="External"/><Relationship Id="rId6" Type="http://schemas.openxmlformats.org/officeDocument/2006/relationships/hyperlink" Target="http://metodykv.wz.cz/spss2_tabulky.ppt" TargetMode="External"/><Relationship Id="rId7" Type="http://schemas.openxmlformats.org/officeDocument/2006/relationships/hyperlink" Target="http://metodykv.wz.cz/spss2_tabulky.ppt" TargetMode="External"/><Relationship Id="rId8" Type="http://schemas.openxmlformats.org/officeDocument/2006/relationships/hyperlink" Target="http://metodykv.wz.cz/spss2_tabulky.ppt" TargetMode="External"/><Relationship Id="rId9" Type="http://schemas.openxmlformats.org/officeDocument/2006/relationships/hyperlink" Target="http://metodykv.wz.cz/spss2_tabulky.ppt" TargetMode="External"/><Relationship Id="rId10" Type="http://schemas.openxmlformats.org/officeDocument/2006/relationships/hyperlink" Target="http://metodykv.wz.cz/spss2_tabulky.ppt" TargetMode="External"/><Relationship Id="rId11" Type="http://schemas.openxmlformats.org/officeDocument/2006/relationships/hyperlink" Target="http://metodykv.wz.cz/AKD1_mapa_bivaranalyz.ppt" TargetMode="External"/><Relationship Id="rId12" Type="http://schemas.openxmlformats.org/officeDocument/2006/relationships/hyperlink" Target="http://metodykv.wz.cz/AKD1_mapa_bivaranalyz.ppt" TargetMode="External"/><Relationship Id="rId13" Type="http://schemas.openxmlformats.org/officeDocument/2006/relationships/hyperlink" Target="http://metodykv.wz.cz/AKD1_mapa_bivaranalyz.ppt" TargetMode="External"/><Relationship Id="rId14" Type="http://schemas.openxmlformats.org/officeDocument/2006/relationships/hyperlink" Target="http://metodykv.wz.cz/AKD1_mapa_bivaranalyz.ppt" TargetMode="External"/><Relationship Id="rId15" Type="http://schemas.openxmlformats.org/officeDocument/2006/relationships/hyperlink" Target="http://metodykv.wz.cz/AKD1_mapa_bivaranalyz.ppt" TargetMode="External"/><Relationship Id="rId16" Type="http://schemas.openxmlformats.org/officeDocument/2006/relationships/hyperlink" Target="http://metodykv.wz.cz/AKD1_mapa_bivaranalyz.ppt" TargetMode="External"/><Relationship Id="rId17" Type="http://schemas.openxmlformats.org/officeDocument/2006/relationships/hyperlink" Target="http://metodykv.wz.cz/AKD1_mapa_bivaranalyz.ppt" TargetMode="External"/><Relationship Id="rId18" Type="http://schemas.openxmlformats.org/officeDocument/2006/relationships/hyperlink" Target="http://metodykv.wz.cz/AKD1_mapa_bivaranalyz.ppt" TargetMode="External"/><Relationship Id="rId19" Type="http://schemas.openxmlformats.org/officeDocument/2006/relationships/hyperlink" Target="http://metodykv.wz.cz/AKD1_mapa_bivaranalyz.ppt" TargetMode="External"/><Relationship Id="rId20" Type="http://schemas.openxmlformats.org/officeDocument/2006/relationships/hyperlink" Target="http://metodykv.wz.cz/AKD1_mapa_bivaranalyz.ppt" TargetMode="External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0200" y="907560"/>
            <a:ext cx="810108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ýza kvantitativních dat I. /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ktikum elementárního zpracování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57360"/>
            <a:ext cx="64008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iří Ša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ri.safr(AT)seznam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slední aktualizace </a:t>
            </a:r>
            <a:r>
              <a:rPr b="1" lang="cs-CZ" sz="1400" spc="-1" strike="noStrike">
                <a:solidFill>
                  <a:srgbClr val="cc3300"/>
                </a:solidFill>
                <a:latin typeface="Arial"/>
              </a:rPr>
              <a:t>27/5/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Historická sociologie, Řízení a 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(LS 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7640" y="2637000"/>
            <a:ext cx="795672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k psát empirickou část odborného text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apř. seminární práce)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isné statistiky a bivariátní vztah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družená tabulka pro třídění 1. stu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53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mám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íce proměnných se stejnými kategori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např. baterie otázek), můžeme jejich četnosti  presentovat v jedné sdružené tabul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SPSS např. pomocí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TABL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starší jednodušší verze, stále funguje ale pouze přes syntax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bo v novějších verzích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CTABLES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oje vyžaduje specielní licenci. </a:t>
            </a:r>
            <a:br>
              <a:rPr sz="2800"/>
            </a:b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Alternativní řešení je několik </a:t>
            </a:r>
            <a:r>
              <a:rPr b="0" lang="cs-CZ" sz="2500" spc="-1" strike="noStrike">
                <a:solidFill>
                  <a:srgbClr val="000066"/>
                </a:solidFill>
                <a:latin typeface="Arial"/>
              </a:rPr>
              <a:t>FREQUENCIES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a spojit pak dílčí tabulky v Excel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920" y="3789360"/>
            <a:ext cx="8802720" cy="1817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3280" y="5734080"/>
            <a:ext cx="867564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/FTOTAL $t 'Celkem %‚  /FORMAT BLANK MISSING('.'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TABLES ( q3_a + q3_b + q3_c + q3_d ) BY  (LABELS) + $t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STATISTIC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(F7.1) '%' ) /TITLE   ="Jak moc baví dotázaného …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86560" y="65833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oj: ISSP 2007, Č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samé pomocí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2565360"/>
            <a:ext cx="8856720" cy="3934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* Custom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C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VLABELS VARIABLES=q3_a q3_b q3_c q3_d DISPLAY=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TABLE q3_a [C][ROWPCT.COUNT PCT40.1, TOTALS[COUNT F40.0, ROWPCT.COUNT PCT40.1]] + q3_b [C][ROWPCT.COUNT PCT40.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TALS[COUNT F40.0, ROWPCT.COUNT PCT40.1]] + q3_c [C][ROWPCT.COUNT PCT40.1, TOTALS[COUNT F40.0, ROWPCT.COUNT PCT40.1]] + q3_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[C][ROWPCT.COUNT PCT40.1, TOTALS[COUNT F40.0, ROWPCT.COUNT PCT40.1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SLABELS VISIBLE=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CLABELS ROWLABELS=OP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CATEGORIES VARIABLES=q3_a q3_b q3_c q3_d ORDER=A KEY=VALUE EMPTY=INCLUDE TOTAL=YES POSITION=AFTER MISSING=EXCL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9040" y="981000"/>
            <a:ext cx="8305920" cy="135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308720" y="234936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oj: ISSP 2007, Č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isné statistiky pro závislou i nezávislé proměnn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353200" cy="5827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65214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droj: [Katrňák 2006: 18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43640" y="836640"/>
            <a:ext cx="3600360" cy="54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sporný formát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ákladní tabulka třídění 1. stupně pro několik znaků dohroma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me zde počet platných případů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řední hodno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průměr), což nemusí být vždy adekvátní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ypu proměn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měrodatnou odchylk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is hod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kategoriálních znaků.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ěkdy se tato tabulka dává pouze do přílo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197000"/>
            <a:ext cx="86364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ktivní presentace tabul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u z možností j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„sdružená“ kontingenční tabul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Kombinované tabulky třídění 2. stupně pro několik nezávislých proměnných → bivariátní profil naší hlavní závislé proměnné(ý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e hodí zejména pro texty, kde musíme šetřit místem, jde o úspornou formu presen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92360" y="-171360"/>
            <a:ext cx="3600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lexní „profilová“ tabulka třídění 2. stupně (několik nezávislých znaků), pro dvě závislé promě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4000" y="2421000"/>
            <a:ext cx="3780000" cy="43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é proměnné jsou sice spojité-kardinální (dále analyzovány v OLS), zde ale pro přehlednost pouze % souhlasu a nesouhla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závislé proměnné mají co nejmenší počet kategorií → přehlednost rozdí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ternativně by šlo ukazovat průměry závislé proměnné, ale takto máme z věcného hlediska mnohem lepší materiál k interpret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ytvořeno v Excelu ze série kontingenčních tabulek z SPS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 SPSS by bylo možno udělat celou tabulku pomocí modulu T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8000" y="115920"/>
          <a:ext cx="4751280" cy="674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5920"/>
                    <a:ext cx="475128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843280" y="6613560"/>
            <a:ext cx="23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droj: [Šafr, nepublikovaný rukopis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ezentace základních bivariátních vztah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ou máme jednu (či více) závislou-vysvětlovanou proměnnou a naše hlavní hypotézy (a v nich nezávislé znaky)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prve vztahy dané hypotézami můžeme sledovat jednoduše bivariát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ákladní bivariátní vzta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klad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a znaky kategoriální-ordinál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800"/>
            </a:b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závislá proměn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zdělanostní aspirace dítěte, </a:t>
            </a: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nezávisl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spirace rodič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5214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droj: [Katrňák 2006: 18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1773360"/>
            <a:ext cx="8686800" cy="4776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5157720"/>
            <a:ext cx="85690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ákladní bivariátní vzta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klad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a znaky kategoriál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minální a ordinální). </a:t>
            </a:r>
            <a:br>
              <a:rPr sz="2800"/>
            </a:b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závislá proměn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způsob získání 1. pracovního místa, </a:t>
            </a: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nezávisl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zdělá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65214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[Hauberer, Šafr  2012: 5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1538280"/>
            <a:ext cx="8353440" cy="481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7280" y="5805360"/>
            <a:ext cx="57247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106640"/>
            <a:ext cx="6912000" cy="5751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ákladní bivariátní vzta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i="1" lang="en-US" sz="2300" spc="-1" strike="noStrike">
                <a:solidFill>
                  <a:srgbClr val="a50021"/>
                </a:solidFill>
                <a:latin typeface="Arial"/>
              </a:rPr>
              <a:t>závislá proměnná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ardinální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: Pro-čtenářské klima rodiny </a:t>
            </a:r>
            <a:r>
              <a:rPr b="0" lang="en-US" sz="2300" spc="-1" strike="noStrike" u="sng">
                <a:solidFill>
                  <a:srgbClr val="cc3300"/>
                </a:solidFill>
                <a:uFillTx/>
                <a:latin typeface="Arial"/>
              </a:rPr>
              <a:t>ve 2 dimenzíc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300" spc="-1" strike="noStrike">
                <a:solidFill>
                  <a:srgbClr val="a50021"/>
                </a:solidFill>
                <a:latin typeface="Arial"/>
              </a:rPr>
              <a:t>nezávislá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ategoriální-ordinální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: vzdělá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1280" y="63817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droj: [Gorčíková, Šafr  2012: 75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2952720" cy="219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14920" y="-1539720"/>
            <a:ext cx="417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1557360"/>
            <a:ext cx="2627280" cy="462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vislé proměn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spojité-kardinální a 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standardizované na z-skó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mají stejnou metriku-rozsah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dále byly analyzovány v OLS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i nezávislá proměnná je kardinální, lze X-Y (scatterplot) graf, al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ěkdy je interpretačně zajímavější jednu z proměnných kategorizovat a pak ukazovat průměry v podskupiná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chopitelně jsou i jiné varianty kombinace znaků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ožnosti prezent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lním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358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 úpravě, formátování tabulek a psaní interpretací čtěte dok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kázky jak prezentovat tabulky a interpretovat vztahy proměnný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etodykv.wz.cz/tabulky_intepretace_prezentace.pd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 samotné konstrukci a interpretaci tabulek viz např. present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ntingenční tabulky: Úvod. Třídění 2. stupně - analýza kategoriálních dat </a:t>
            </a:r>
            <a:br>
              <a:rPr sz="1800"/>
            </a:b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etodykv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z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z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spss2_tabulky.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řídění 2. a 3. stupně: orientační mapa možností bivariátních analýz + ukázka interpretace výsled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metodykv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z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cz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AKD1_mapa_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bivaranalyz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ak psá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kou část tex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ř. v seminární či diplomové prá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 začít – co napsat na 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je téma? Do jakého kontextu ho zasazuje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č má smysl zabývat se právě tímto téma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co navazujete? Co je vaše inov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ud se tím někdo zabýval před vámi, k čemu došel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onkrétní výsledky a jejich zobecnění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biografie-medailony autor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up jak (začít) psá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ávislá proměnná(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ní si vyhrajte, nepůjde již v hotovém textu mě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cept/operacionalizace/jednotky/ rekódování, deskripce (variance, rozložení,…), zakotvení (porovnání s výsledky jiných výzkum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up jak (začít) psá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pracovat si projekt (diplomovou práci) na otáz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le těchto otázek udělat (pod)kapitoly (v 1. kroku stačí nadpisy + ano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ázky by měly být stupňovitě do sebe zapadající (→ co je třeba vyřešit nejdříve, co nelze bez jiného předchozího kroku, co naopak ano a co tedy lze odložit na později … 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k psát tex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z (kontingenčních)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bule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→ interpretace a prezentace čísel v tex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6920" y="4581360"/>
            <a:ext cx="7490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raveno podle [Treiman 2009: 31-62], původně [Miller 20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 psát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ul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interpretace čísel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ulky popisujte především z hledisk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ěcného význam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čísla opisujte do textu jen pokud je třeba, aby bylo jasno, co/kde tabulka ukazuj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uhé opakování čísel z tabulky nestač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střeďte 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 závěry „co čísla znamenají“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myslem je prezentovat a ověřovat  myšlenky (hypotézy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 i tak musíte uvádět tolik čísel, aby se i nepoučený čtenář v tabulce zorient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6381720"/>
            <a:ext cx="626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droj: upraveno podle [Treiman 2009: 31-62], původně [Miller 2004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ažte se o jednoduch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opisujte data a formulujte závěry tak, aby tomu rozuměla i vaše babička. Nesrozumitelnost a zevrubnost není to samé. Opravdu elegantní vysvětlení jsou většinou jednoduch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varujte se frází, které nic neznamenaj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ísto: „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yní budeme zkoumat, jaký závěr lze učinit, zda A by mohlo mít nějaký efekt na B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 → „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vlivňuje A B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lačte pasivní větné konstrukce.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ísto: „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jistilo se, že X souvisí s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 → „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 souvisí s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ísto: „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yla zkonstruována škála historického vědomí občanů Č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 → „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konstruoval/a jsem škál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“ nebo „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užil jsem škálu 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varujte se odborné hantýrky, pokud to nepomáhá porozumění text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jmy-koncepty jsou tady od toho, aby precizovaly, standardizovaly a hlavně šetřily místo v textu (místo odstavce stačí slovo). 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ujte běžný jazyk, vždy tam, kde to fungu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adbytečné používání odborných termínů váš text neudělá vědečtější, jen odradíte čtenář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79640" y="6381720"/>
            <a:ext cx="626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droj: upraveno podle [Treiman 2009: 31-62], původně [Miller 2004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 psát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ul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interpretace čísel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87280" y="69192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Šetřete se zkratk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Zkratky js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ýhodné v tabulká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de není moc místa), ale ušetření místa v textu za cenu zmateného čtenáře za to nestojí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ve zkratkách se vyžívají hlavně psychologové, ale pak se to špatně čt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hodněte se pro to, v jaké osobě budete psát. Nepoužívejte „My“, tam kde jde o „Já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Píšete-li sami, pak v první osobě jednotného čísla. Lze ale psát „My“, pokud tím máte namysli sebe (autora) a čtenáře (např. „Jak vidíme v tabulce 1 …“). Psaní v prvním osobě není u nás vždy jediná možná varianta, ale postupně se stále více prosazu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jmy asociace a korelace popisují vztah mezi proměnnými (jako celky) nikoliv mezi konkrétními hodnot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yto pojmy nepopisují jedno konkrétní políčko v tabulce (pro A x B). Odpovídající fráze je např.: 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zi A a B je pozitivní kore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nebo 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kud je vysoké A pak i B je vyso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, 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dnoty A rostou s hodnotami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, ale neplatí, tj. nepište: 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zi A a vysokými hodnotami B je kore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é nikdy nepište: „</a:t>
            </a:r>
            <a:r>
              <a:rPr b="0" i="1" lang="en-US" sz="2000" spc="-1" strike="noStrike">
                <a:solidFill>
                  <a:srgbClr val="1c1c1c"/>
                </a:solidFill>
                <a:latin typeface="Arial"/>
              </a:rPr>
              <a:t>A koreluje s B na 80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, protože toto je špatná interpretace korelačního koeficient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dyž už tak, převeďte korelac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mocněním) na koeficient determina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poté jej můžete interpretovat jako podíl vysvětlené variance v hodnotách A na základě hodnot 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jděte si koleg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hruba na stejné odborné úrovni jako jste vy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e kterým si budete texty navzájem čí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nažte se o zachování spravedlivé symetrie objemu/času čtení. Profitujete z toho jak jako autor tak i jako edi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79640" y="655308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oj: upraveno podle [Treiman 2009: 31-62], původně [Miller 2004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 psát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ul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interpretace čísel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m principů psaní „o číslech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stavt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text pro čísla, která budete prezentov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tím, že specifikujete „Ws“ (Co/Kdo/Kde/Kd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olte adekvátní příklady a analog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olt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lovník (pojmy), které zavede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Definujte synonyma pro koncepty, které budete užívat (a jen ty používejte v textu). Nahraďte matematicko-statistický slovník a symboly výrazy běžného jazyka srozumitelného pro netechnické čtenář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hodněte se, zda čísla budete presentovat v tabulkách nebo grafech. Zamyslete se kolik času bude čtenář potřebovat na zpracování čísel →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mezte ukazování čísel (opisování z tabulek do textu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oužívejt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om čísel také slovní vyjádř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místo čísla s % lze slovně vyjádřené zlomk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eďte čísla a interpretujte je v textu. Uveďte je a uveďte jejich význam a smysl. Interpretujte je a to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 vztahu k hlavnímu téma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fikujt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 a velikost asociace mezi proměnným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ud je trend: roste/ klesá? Pokud rozdíly mezi skupinami/ místy: kdo má nejvyšší/ nejnižší hodnotu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popisu vztahu mezi mnoha čísly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umarizujte celkový vzore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píš než všechna jednotlivá čísla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jdět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jlepší generalizaci pro data. Uveďte jí na příkladech čísel z tabulky graf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A také, je-li, popišt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rend, který tomuto obecnému trend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odpovídá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tj. výjimky z trendu/ vzorce asocia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4720" y="6595920"/>
            <a:ext cx="251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droj: [Miller 2005: 3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ce tabulek 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 popisnými statistikam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třídění prvního stupně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en pro závislou  (vysvětlovanou) proměn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opisné statistiky: jejich smysl a přiměřeno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každém textu je třeba nejprve nějak popsat hodnoty (rozložení hodnot) proměnných, které budeme dále analyzovat bivariátně či vícerozměrn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ěláme to vždy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 maximální stručností a věcnou zacílenost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věnujeme se především závislé proměnné/ným, z nezávislých těm, které jsme sami konstruovali, či jsou jinak zajímavé/nesamozřejmé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např. nebudete u nezávislých proměnných popisovat, jaký je podíl věkových kategorií, ale můžete v textu zmínit jaký je podíl rodin s žádným, jedním a více dětm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ý text není možné zahltit nezáživným popisem populace a pak jen krátce řešit samotnou analýzu – výzkumné otázky/hypotézy.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To nemusí úplně platit pro výzkumnou zprávu, kde je detailní deskripce někdy podstatou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skriptivní popis (třídění prvního stupně, míry centrální tendence/variability atd.) lze spojit až s bivariátní analýzou.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abulky s popisnými statistikami dáváme do přílo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yslete vždy na čtenáře, aby váš text neodložil znuděn hned po přečtení prvních dvou-tří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ulaci/ výběrový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oubor popisujte detailně pouze, pokud jde o váš vlastní výzk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bo nějakou specifickou populac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nikdy nepopisujte na datech z celonárodního výzkumu např. kolik je mužů a žen, věkových skupin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8:25:27Z</dcterms:created>
  <dc:creator>Jiri Safr</dc:creator>
  <dc:description/>
  <dc:language>en-US</dc:language>
  <cp:lastModifiedBy>Jiri Safr</cp:lastModifiedBy>
  <dcterms:modified xsi:type="dcterms:W3CDTF">2014-05-28T01:34:09Z</dcterms:modified>
  <cp:revision>351</cp:revision>
  <dc:subject/>
  <dc:title>AKD3   Plán práce</dc:title>
</cp:coreProperties>
</file>