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3.wmf" ContentType="image/x-wmf"/>
  <Override PartName="/ppt/media/image20.png" ContentType="image/png"/>
  <Override PartName="/ppt/media/image2.wmf" ContentType="image/x-wmf"/>
  <Override PartName="/ppt/media/image19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6AA5-0B31-406E-8A1C-34D68D210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987D-689F-4ECE-B0E7-3485025E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4753-C3A7-4DB2-8CC8-4B4DFB3F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0942-7681-4675-B213-E07E23614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AD7A-6B68-4FB0-A3CE-E09BCD4C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DCFE-3EF2-4D5B-90A0-0F00D48B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E966-8DEE-427A-8AAA-F9A57086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3F81-CA64-434A-81D3-B7047D5E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0DE0-8329-47F0-AF8F-C400FAFC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ACF6-1997-4E63-B524-8F4B5C29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5CA0-3209-42BB-B469-405B3AD9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B592-D306-436F-BE9D-E77B62A8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CB82-14A3-4D32-947F-FD23EA3D0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413000"/>
            <a:ext cx="7777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Data management v SPSS/PS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0200" y="2491920"/>
            <a:ext cx="828216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000000"/>
                </a:solidFill>
                <a:latin typeface="Arial"/>
              </a:rPr>
              <a:t>Základní transformace dat: </a:t>
            </a:r>
            <a:br>
              <a:rPr sz="4300"/>
            </a:br>
            <a:r>
              <a:rPr b="1" lang="cs-CZ" sz="4300" spc="-1" strike="noStrike" u="sng">
                <a:solidFill>
                  <a:srgbClr val="000000"/>
                </a:solidFill>
                <a:uFillTx/>
                <a:latin typeface="Arial"/>
              </a:rPr>
              <a:t>Rekódování a vytváření nových proměnných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0" y="333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3300"/>
                </a:solidFill>
                <a:latin typeface="Arial"/>
              </a:rPr>
              <a:t>UK F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3300"/>
                </a:solidFill>
                <a:latin typeface="Arial"/>
              </a:rPr>
              <a:t>Historická sociologie, Řízení a superv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3300"/>
                </a:solidFill>
                <a:latin typeface="Arial"/>
              </a:rPr>
              <a:t>(LS 2012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663300"/>
                </a:solidFill>
                <a:latin typeface="Arial"/>
              </a:rPr>
              <a:t>AKD I./II./III. a Praktikum elem analýzy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611280" y="5373720"/>
            <a:ext cx="7921440" cy="14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iří Ša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3399"/>
                </a:solidFill>
                <a:latin typeface="Arial"/>
              </a:rPr>
              <a:t>jiri.safr(AT)seznam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slední aktualizace </a:t>
            </a:r>
            <a:r>
              <a:rPr b="1" lang="cs-CZ" sz="1400" spc="-1" strike="noStrike">
                <a:solidFill>
                  <a:srgbClr val="990000"/>
                </a:solidFill>
                <a:latin typeface="Arial"/>
              </a:rPr>
              <a:t>4/12/2015 </a:t>
            </a:r>
            <a:r>
              <a:rPr b="0" lang="cs-CZ" sz="1400" spc="-1" strike="noStrike">
                <a:solidFill>
                  <a:srgbClr val="990000"/>
                </a:solidFill>
                <a:latin typeface="Arial"/>
              </a:rPr>
              <a:t>(10/3/2015, </a:t>
            </a:r>
            <a:r>
              <a:rPr b="0" lang="en-GB" sz="1400" spc="-1" strike="noStrike">
                <a:solidFill>
                  <a:srgbClr val="990000"/>
                </a:solidFill>
                <a:latin typeface="Arial"/>
              </a:rPr>
              <a:t>21/4/2014</a:t>
            </a:r>
            <a:r>
              <a:rPr b="0" lang="cs-CZ" sz="1400" spc="-1" strike="noStrike">
                <a:solidFill>
                  <a:srgbClr val="99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E2CB-77A2-4D58-BDC1-56A43B8CB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86920" y="1125360"/>
            <a:ext cx="85676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značení rozsahu MV: od zvolené hodnoty do Maxima nebo od hodnoty do Minima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+ lze přidat ještě jedna hodno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 minima do zvolené hodno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MISSING VALUE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ek (</a:t>
            </a:r>
            <a:r>
              <a:rPr b="1" lang="cs-CZ" sz="2800" spc="-1" strike="noStrike">
                <a:solidFill>
                  <a:srgbClr val="cc3300"/>
                </a:solidFill>
                <a:latin typeface="Arial"/>
              </a:rPr>
              <a:t>LOWEST THR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2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 zvolené hodnoty do max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MISSING VALUE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ek (50 </a:t>
            </a:r>
            <a:r>
              <a:rPr b="1" lang="cs-CZ" sz="2800" spc="-1" strike="noStrike">
                <a:solidFill>
                  <a:srgbClr val="cc3300"/>
                </a:solidFill>
                <a:latin typeface="Arial"/>
              </a:rPr>
              <a:t>THRU HIGHES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přidat můžeme i jednu hodnotu naví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MISSING VALUES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k (50 </a:t>
            </a:r>
            <a:r>
              <a:rPr b="1" lang="cs-CZ" sz="2800" spc="-1" strike="noStrike">
                <a:solidFill>
                  <a:srgbClr val="cc3300"/>
                </a:solidFill>
                <a:latin typeface="Arial"/>
              </a:rPr>
              <a:t>THRU HIGHES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dentifikace a označení chybějících hodnot.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klad „věk studentů VŠ“, pokrač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6516720" y="1628640"/>
            <a:ext cx="2460600" cy="20750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6588000" y="2637000"/>
            <a:ext cx="2305080" cy="64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FAED-8CE0-4751-98F9-C917AD639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Vypínání“ a „zapínání“ Missingů v Syntax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issingy "vypneme" - odznačíme pokud </a:t>
            </a:r>
            <a:r>
              <a:rPr b="1" lang="cs-CZ" sz="2800" spc="-1" strike="noStrike">
                <a:solidFill>
                  <a:srgbClr val="cc3300"/>
                </a:solidFill>
                <a:latin typeface="Arial"/>
              </a:rPr>
              <a:t>závorka bude prázdn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MISSING VALUE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ek (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FREQUENCIE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yní budou všechny hodnoty součástí analýzy (pochopitelně neplatí pro systémové missingy ty zůstávají vyloučeny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opět můžeme „zapnout“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MISSING VALUE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ek (12 9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FREQUENCIE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F1F4-4437-4B27-8736-E0A975941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oznámky k Missing Val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8000" y="620280"/>
            <a:ext cx="8856720" cy="53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kud se u dané proměnné v datech zadané chybějící hodnoty ve skutečnosti nevyskytují, pak se v tabulce tř. 1.stupně (Frequencies) v sekci Missing neobjeví (zobrazuje se jen skutečný výskyt, hodnota je nicméně stále jako Missing nastavena). Zobrazit informaci o nastavení missing values lze pomocí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DISPLAY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DISPLAY </a:t>
            </a:r>
            <a:r>
              <a:rPr b="0" lang="cs-CZ" sz="2800" spc="-1" strike="noStrike">
                <a:solidFill>
                  <a:srgbClr val="990000"/>
                </a:solidFill>
                <a:latin typeface="Arial"/>
              </a:rPr>
              <a:t>DICTIONAR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/VARIABLES = v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zor také na situaci, kdy se v tabulce Frequencies objeví určitá hodnota několikrát, např.: 1 1 1 je ve skutečnosti, např. 0,9 a 0,6 a 1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0,9 a 0,6 se zaokrouhlí na 1, ale zobrazí se při formát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ez desetinných mís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o unikátní hodnota 1) → změníme formát zobrazení </a:t>
            </a:r>
            <a:r>
              <a:rPr b="1" lang="cs-CZ" sz="2200" spc="-1" strike="noStrike">
                <a:solidFill>
                  <a:srgbClr val="333399"/>
                </a:solidFill>
                <a:latin typeface="Arial"/>
              </a:rPr>
              <a:t>FORMATS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vek (F8.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5" descr=""/>
          <p:cNvPicPr/>
          <p:nvPr/>
        </p:nvPicPr>
        <p:blipFill>
          <a:blip r:embed="rId1"/>
          <a:stretch/>
        </p:blipFill>
        <p:spPr>
          <a:xfrm>
            <a:off x="4716360" y="5013360"/>
            <a:ext cx="3600720" cy="1643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"/>
          <p:cNvPicPr/>
          <p:nvPr/>
        </p:nvPicPr>
        <p:blipFill>
          <a:blip r:embed="rId2"/>
          <a:stretch/>
        </p:blipFill>
        <p:spPr>
          <a:xfrm>
            <a:off x="57240" y="2708280"/>
            <a:ext cx="9086760" cy="10098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7"/>
          <p:cNvSpPr/>
          <p:nvPr/>
        </p:nvSpPr>
        <p:spPr>
          <a:xfrm>
            <a:off x="7380360" y="2924280"/>
            <a:ext cx="1763640" cy="64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8" descr=""/>
          <p:cNvPicPr/>
          <p:nvPr/>
        </p:nvPicPr>
        <p:blipFill>
          <a:blip r:embed="rId3"/>
          <a:stretch/>
        </p:blipFill>
        <p:spPr>
          <a:xfrm>
            <a:off x="611280" y="5013360"/>
            <a:ext cx="3547800" cy="1643040"/>
          </a:xfrm>
          <a:prstGeom prst="rect">
            <a:avLst/>
          </a:prstGeom>
          <a:ln w="0">
            <a:noFill/>
          </a:ln>
        </p:spPr>
      </p:pic>
      <p:sp>
        <p:nvSpPr>
          <p:cNvPr id="105" name="Oval 19"/>
          <p:cNvSpPr/>
          <p:nvPr/>
        </p:nvSpPr>
        <p:spPr>
          <a:xfrm>
            <a:off x="1187280" y="5589720"/>
            <a:ext cx="36036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0"/>
          <p:cNvSpPr/>
          <p:nvPr/>
        </p:nvSpPr>
        <p:spPr>
          <a:xfrm>
            <a:off x="5292720" y="5589720"/>
            <a:ext cx="431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1"/>
          <p:cNvSpPr/>
          <p:nvPr/>
        </p:nvSpPr>
        <p:spPr>
          <a:xfrm>
            <a:off x="1547640" y="5950080"/>
            <a:ext cx="3745080" cy="71280"/>
          </a:xfrm>
          <a:prstGeom prst="line">
            <a:avLst/>
          </a:prstGeom>
          <a:ln w="158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3806-C17A-4DBB-BA18-1C987CFD5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živatelsky definované chybějící hodnoty →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MISSING VALUES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í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40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mocí MISSING VALUES → můžeme uživatelsky definovat max. 3 hodnoty nebo rozpět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MISSING VALUES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ar1 (9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MISSING VALUE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ar1 (8 9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MISSING VALUE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ar1 (5 </a:t>
            </a:r>
            <a:r>
              <a:rPr b="0" lang="cs-CZ" sz="2800" spc="-1" strike="noStrike">
                <a:solidFill>
                  <a:srgbClr val="990000"/>
                </a:solidFill>
                <a:latin typeface="Arial"/>
              </a:rPr>
              <a:t>THR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1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MISSING VALUE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ar1 (LOWEST </a:t>
            </a:r>
            <a:r>
              <a:rPr b="0" lang="cs-CZ" sz="2800" spc="-1" strike="noStrike">
                <a:solidFill>
                  <a:srgbClr val="990000"/>
                </a:solidFill>
                <a:latin typeface="Arial"/>
              </a:rPr>
              <a:t>THR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MISSING VALUE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ar1 (8 </a:t>
            </a:r>
            <a:r>
              <a:rPr b="0" lang="cs-CZ" sz="2800" spc="-1" strike="noStrike">
                <a:solidFill>
                  <a:srgbClr val="990000"/>
                </a:solidFill>
                <a:latin typeface="Arial"/>
              </a:rPr>
              <a:t>THR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HIGHES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ůžeme jednu diskrétní hodnot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zde 16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rozs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ISSING VALU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k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60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HRU HIGH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pnutí uživatelských missingů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→ prázdná závor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MISSING VALUE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ek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( 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2B44-B241-4CA5-9293-6A331F456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Transformace 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perace, kdy z existujících proměnných vznikají nové nebo se tyto proměnné systematicky podle zadaného předpisu mě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iž v přípravné fázi výzkumu často počítáme s tím, že z primárních dat se budou vytvářet nové proměnn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SS má základní funkce: COMPUTE, RECODE, IF, RANK, AUTORE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11280" y="623736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droj: [Bártová, Řehák 1993: 5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Rekódování hod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mocí příkaz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E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0376-B643-4843-9048-9E6753C63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RE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azem RECODE měníme hodnoty proměnné podle určitého předpis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častější použit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učování hod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tegorizování číselných–kardinálních proměnných (vytváření interval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měna pořadí kategorií (např. otočení šká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loučení některých kategorií z analý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F2E9-F8B6-4423-A02C-E05DBDCCC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RECODE – </a:t>
            </a: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rincipy rekódo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8920" y="692280"/>
            <a:ext cx="88678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dnoty jsou v závorkác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ůvodní hodnota(y) = nová hodnota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zmíněné/vynechané hodnoty budou automaticky systémové missingy (SISM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ZOR: hodnoty, které byly definovány jako uživatelsky vynechané (příkazem MISSING VALUES) nebudou automaticky missingy, ale platná hodnota. 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to pozor při překopírování všeho ostatního: (ELSE = COPY)). Proto je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usíme poté znovu nově označit nebo v rekódu označit jako SYSMI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dnoty se rekódují postupně z leva doprava. </a:t>
            </a:r>
            <a:br>
              <a:rPr sz="24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to lze: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 Narrow"/>
              </a:rPr>
              <a:t>(1 THRU </a:t>
            </a:r>
            <a:r>
              <a:rPr b="1" lang="cs-CZ" sz="1600" spc="-1" strike="noStrike">
                <a:solidFill>
                  <a:srgbClr val="a50021"/>
                </a:solidFill>
                <a:latin typeface="Arial Narrow"/>
              </a:rPr>
              <a:t>3</a:t>
            </a:r>
            <a:r>
              <a:rPr b="0" lang="cs-CZ" sz="1600" spc="-1" strike="noStrike">
                <a:solidFill>
                  <a:srgbClr val="000000"/>
                </a:solidFill>
                <a:latin typeface="Arial Narrow"/>
              </a:rPr>
              <a:t> =1) (</a:t>
            </a:r>
            <a:r>
              <a:rPr b="1" lang="cs-CZ" sz="1600" spc="-1" strike="noStrike">
                <a:solidFill>
                  <a:srgbClr val="a50021"/>
                </a:solidFill>
                <a:latin typeface="Arial Narrow"/>
              </a:rPr>
              <a:t>3</a:t>
            </a:r>
            <a:r>
              <a:rPr b="0" lang="cs-CZ" sz="1600" spc="-1" strike="noStrike">
                <a:solidFill>
                  <a:srgbClr val="000000"/>
                </a:solidFill>
                <a:latin typeface="Arial Narrow"/>
              </a:rPr>
              <a:t> THRU 5 =2)</a:t>
            </a:r>
            <a:r>
              <a:rPr b="0" lang="cs-CZ" sz="1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 „zbylé hodnoty“</a:t>
            </a:r>
            <a:r>
              <a:rPr b="0" lang="cs-CZ" sz="1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cs-CZ" sz="1600" spc="-1" strike="noStrike">
                <a:solidFill>
                  <a:srgbClr val="a50021"/>
                </a:solidFill>
                <a:latin typeface="Arial Narrow"/>
              </a:rPr>
              <a:t>ELSE</a:t>
            </a:r>
            <a:r>
              <a:rPr b="0" lang="cs-CZ" sz="16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0" i="1" lang="cs-CZ" sz="1600" spc="-1" strike="noStrike">
                <a:solidFill>
                  <a:srgbClr val="000000"/>
                </a:solidFill>
                <a:latin typeface="Arial Narrow"/>
              </a:rPr>
              <a:t>hodnota</a:t>
            </a:r>
            <a:r>
              <a:rPr b="0" lang="cs-CZ" sz="1600" spc="-1" strike="noStrike">
                <a:solidFill>
                  <a:srgbClr val="000000"/>
                </a:solidFill>
                <a:latin typeface="Arial Narrow"/>
              </a:rPr>
              <a:t>)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usí být až na kon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kódování do nové proměnné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INT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 Narrow"/>
              </a:rPr>
              <a:t>jméno nové proměn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 bývá nová, al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lze i do již existují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pak u případů, kde se hodnoty neměnily zůstanou původní hodno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To někdy s výhodou používáme, ale pozor může to být nebezpečné, pokud se např. rekód nepovede správně napoprvé a my novu proměnou před opravením příkazu nesmažeme (mohou zůstat špatně vytvořené hodnoty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kódovat lze více proměnných najednou (podle stejného klíč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C775-2160-45F9-A0B3-BDD10C984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RECODE: Input/output keyw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LO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bo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LOWES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→ (od) nejnižší hodno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H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bo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HIGHES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→ (do) nejvyšší hodno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THR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→ až do (od hodnoty do hodno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MISSING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→ označuje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uživatelské i systémov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chybějící hodnoty. Pozor, funguje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ouze pro původní hodnoty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tj. pouze pro načtení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SYSMI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→ načte/vytvoří systémový missing (funguje jak pro původní tak pro nové hodno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ELS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→ platí pro ostatní (neuvedené hodno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COP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→ zkopíruje původní hodno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3B00-390D-4D6D-9383-7E1D4C1F8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incip RECODE – základní zad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40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333399"/>
                </a:solidFill>
                <a:latin typeface="Arial"/>
              </a:rPr>
              <a:t>RECODE</a:t>
            </a: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Arial"/>
              </a:rPr>
              <a:t>původní proměnná </a:t>
            </a: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3100" spc="-1" strike="noStrike">
                <a:solidFill>
                  <a:srgbClr val="000000"/>
                </a:solidFill>
                <a:latin typeface="Arial"/>
              </a:rPr>
              <a:t>původní hodnota/y </a:t>
            </a: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cs-CZ" sz="3100" spc="-1" strike="noStrike">
                <a:solidFill>
                  <a:srgbClr val="000000"/>
                </a:solidFill>
                <a:latin typeface="Arial"/>
              </a:rPr>
              <a:t>nová hodnota/y</a:t>
            </a: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) (</a:t>
            </a:r>
            <a:r>
              <a:rPr b="0" i="1" lang="cs-CZ" sz="3100" spc="-1" strike="noStrike">
                <a:solidFill>
                  <a:srgbClr val="000000"/>
                </a:solidFill>
                <a:latin typeface="Arial"/>
              </a:rPr>
              <a:t>původní hodnota/y </a:t>
            </a: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cs-CZ" sz="3100" spc="-1" strike="noStrike">
                <a:solidFill>
                  <a:srgbClr val="000000"/>
                </a:solidFill>
                <a:latin typeface="Arial"/>
              </a:rPr>
              <a:t>nová hodnota/y</a:t>
            </a: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3100"/>
            </a:br>
            <a:r>
              <a:rPr b="1" lang="cs-CZ" sz="3100" spc="-1" strike="noStrike">
                <a:solidFill>
                  <a:srgbClr val="a50021"/>
                </a:solidFill>
                <a:latin typeface="Arial"/>
              </a:rPr>
              <a:t>INTO</a:t>
            </a: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Arial"/>
              </a:rPr>
              <a:t> nová proměnná</a:t>
            </a: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(pokud vynecháme INTO </a:t>
            </a:r>
            <a:r>
              <a:rPr b="0" i="1" lang="cs-CZ" sz="2300" spc="-1" strike="noStrike">
                <a:solidFill>
                  <a:srgbClr val="000000"/>
                </a:solidFill>
                <a:latin typeface="Arial"/>
              </a:rPr>
              <a:t>NováProměnná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provede se rekód v původní proměnné, ale POZOR </a:t>
            </a:r>
            <a:r>
              <a:rPr b="0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pak </a:t>
            </a:r>
            <a:r>
              <a:rPr b="1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původní hodnoty ztratíme</a:t>
            </a:r>
            <a:r>
              <a:rPr b="0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 a je také třeba změnit Labely hodnot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333399"/>
                </a:solidFill>
                <a:latin typeface="Arial"/>
              </a:rPr>
              <a:t>RECODE</a:t>
            </a: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 VAR1 (1 2 =1) (3 4 =2) </a:t>
            </a:r>
            <a:r>
              <a:rPr b="1" lang="cs-CZ" sz="3100" spc="-1" strike="noStrike">
                <a:solidFill>
                  <a:srgbClr val="a50021"/>
                </a:solidFill>
                <a:latin typeface="Arial"/>
              </a:rPr>
              <a:t>INTO</a:t>
            </a: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100" spc="-1" strike="noStrike">
                <a:solidFill>
                  <a:srgbClr val="000000"/>
                </a:solidFill>
                <a:latin typeface="Arial"/>
              </a:rPr>
              <a:t>VAR1r</a:t>
            </a: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3100"/>
            </a:b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→ sloučení hodnot do nové proměnné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333399"/>
                </a:solidFill>
                <a:latin typeface="Arial"/>
              </a:rPr>
              <a:t>RECODE</a:t>
            </a: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 VAR1 (1=3) (2=2) (3=1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otočení škály, přepíše hodnoty v původní proměnné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A5CB-7942-4798-8844-AC014BCFC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Úprava dat v Menu SPSS </a:t>
            </a:r>
            <a:br>
              <a:rPr sz="40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agregování, filtrování, rekódování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95280" y="2238480"/>
            <a:ext cx="43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kazy v sekcích hlavního men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Transfor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ebo přímé zadání pomocí příkazového řádku v Syntaxu – viz dá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"/>
          <p:cNvPicPr/>
          <p:nvPr/>
        </p:nvPicPr>
        <p:blipFill>
          <a:blip r:embed="rId1"/>
          <a:stretch/>
        </p:blipFill>
        <p:spPr>
          <a:xfrm>
            <a:off x="4788000" y="1773360"/>
            <a:ext cx="3773520" cy="37368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4"/>
          <p:cNvSpPr/>
          <p:nvPr/>
        </p:nvSpPr>
        <p:spPr>
          <a:xfrm>
            <a:off x="5724360" y="1989000"/>
            <a:ext cx="115272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3E55-88E7-46CF-84B9-D380A5592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ECODE - příkl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12760" y="765000"/>
            <a:ext cx="871848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8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RECO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ek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2600" spc="-1" strike="noStrike">
                <a:solidFill>
                  <a:srgbClr val="a50021"/>
                </a:solidFill>
                <a:latin typeface="Arial"/>
              </a:rPr>
              <a:t>MISSING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= 999)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600" spc="-1" strike="noStrike">
                <a:solidFill>
                  <a:srgbClr val="a50021"/>
                </a:solidFill>
                <a:latin typeface="Arial"/>
              </a:rPr>
              <a:t>LOWE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a50021"/>
                </a:solidFill>
                <a:latin typeface="Arial"/>
              </a:rPr>
              <a:t>THR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29 =1) (29 </a:t>
            </a:r>
            <a:r>
              <a:rPr b="0" lang="en-US" sz="2600" spc="-1" strike="noStrike">
                <a:solidFill>
                  <a:srgbClr val="a50021"/>
                </a:solidFill>
                <a:latin typeface="Arial"/>
              </a:rPr>
              <a:t>THR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55 = 2) (55 </a:t>
            </a:r>
            <a:r>
              <a:rPr b="0" lang="en-US" sz="2600" spc="-1" strike="noStrike">
                <a:solidFill>
                  <a:srgbClr val="a50021"/>
                </a:solidFill>
                <a:latin typeface="Arial"/>
              </a:rPr>
              <a:t>THR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a50021"/>
                </a:solidFill>
                <a:latin typeface="Arial"/>
              </a:rPr>
              <a:t>HIGHE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3) 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INT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k3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99"/>
                </a:solidFill>
                <a:latin typeface="Arial"/>
              </a:rPr>
              <a:t>RECODE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VAR1 (1=3) (2=2) (3=1) (</a:t>
            </a:r>
            <a:r>
              <a:rPr b="1" lang="cs-CZ" sz="2600" spc="-1" strike="noStrike">
                <a:solidFill>
                  <a:srgbClr val="a50021"/>
                </a:solidFill>
                <a:latin typeface="Arial"/>
              </a:rPr>
              <a:t>ELSE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cs-CZ" sz="2600" spc="-1" strike="noStrike">
                <a:solidFill>
                  <a:srgbClr val="a50021"/>
                </a:solidFill>
                <a:latin typeface="Arial"/>
              </a:rPr>
              <a:t>COPY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cs-CZ" sz="2600" spc="-1" strike="noStrike">
                <a:solidFill>
                  <a:srgbClr val="a50021"/>
                </a:solidFill>
                <a:latin typeface="Arial"/>
              </a:rPr>
              <a:t>INTO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VAR1r. </a:t>
            </a:r>
            <a:r>
              <a:rPr b="0" lang="cs-CZ" sz="2400" spc="-1" strike="noStrike">
                <a:solidFill>
                  <a:srgbClr val="006600"/>
                </a:solidFill>
                <a:latin typeface="Arial Narrow"/>
              </a:rPr>
              <a:t>/* zbytek hodnot se zkopíru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99"/>
                </a:solidFill>
                <a:latin typeface="Arial"/>
              </a:rPr>
              <a:t>RECODE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VAR1 </a:t>
            </a:r>
            <a:r>
              <a:rPr b="1" lang="cs-CZ" sz="2600" spc="-1" strike="noStrike">
                <a:solidFill>
                  <a:srgbClr val="a50021"/>
                </a:solidFill>
                <a:latin typeface="Arial"/>
              </a:rPr>
              <a:t>TO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VAR3 (1=3) (2=2) (3=1) </a:t>
            </a:r>
            <a:r>
              <a:rPr b="1" lang="cs-CZ" sz="2600" spc="-1" strike="noStrike">
                <a:solidFill>
                  <a:srgbClr val="a50021"/>
                </a:solidFill>
                <a:latin typeface="Arial"/>
              </a:rPr>
              <a:t>INTO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VAR1r VAR2r VAR3r. </a:t>
            </a:r>
            <a:r>
              <a:rPr b="0" lang="cs-CZ" sz="2400" spc="-1" strike="noStrike">
                <a:solidFill>
                  <a:srgbClr val="006600"/>
                </a:solidFill>
                <a:latin typeface="Arial Narrow"/>
              </a:rPr>
              <a:t>/*případné další hodnoty → SYSM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99"/>
                </a:solidFill>
                <a:latin typeface="Arial"/>
              </a:rPr>
              <a:t>RECODE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VAR1 (0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5, 1, 3, 7 =1) (2, 2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5, 4, 5 =2) (6 =3). </a:t>
            </a:r>
            <a:br>
              <a:rPr sz="26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* Pozor zde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bez INT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tzn.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epíší se hodnoty v původní proměn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a tak ztratíme původní informaci).</a:t>
            </a:r>
            <a:br>
              <a:rPr sz="2400"/>
            </a:b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Čárka odděluje hodnoty </a:t>
            </a:r>
            <a:r>
              <a:rPr b="0" lang="cs-CZ" sz="2800" spc="-1" strike="noStrike">
                <a:solidFill>
                  <a:srgbClr val="a50021"/>
                </a:solidFill>
                <a:latin typeface="Arial"/>
              </a:rPr>
              <a:t>(ale nemusíme používat, stačí mezera), 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tečka je desetinnou čárko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CODE lze také kombinovat s různými podmínkami a smyčkami (např. DO IF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DO IF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k </a:t>
            </a:r>
            <a:r>
              <a:rPr b="1" lang="cs-CZ" sz="2000" spc="-1" strike="noStrike">
                <a:solidFill>
                  <a:srgbClr val="a50021"/>
                </a:solidFill>
                <a:latin typeface="Arial"/>
              </a:rPr>
              <a:t>G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18.  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/* Rekód proběhne jen u lidí starších 17-ti l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RECOD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AR1 (1=3) (2=2) (3=1) 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IN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AR1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END IF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5E28-87C1-44E7-9332-CC90EED66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Rekódování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stringových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proměnný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kódovat lze i „slovní“ řetězcové - string proměnn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dnoty (znaky/slova) jsou v uvozovkách (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 nebo (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'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'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ázdná hodnota, tj. nic (blank) je významově zn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RECOD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AR1$ ('A','B','C' ='prvni') ('D','E','F' ='druhy')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(' '='nic'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ELS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' '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do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ové proměnné,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ak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a musí být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ředem vytvoře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definován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ako stringo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a mít správně nastavenou délku řetězce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STRING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jméno proměn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A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STRING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2 </a:t>
            </a:r>
            <a:r>
              <a:rPr b="1" lang="cs-CZ" sz="2000" spc="-1" strike="noStrike">
                <a:solidFill>
                  <a:srgbClr val="a50021"/>
                </a:solidFill>
                <a:latin typeface="Arial"/>
              </a:rPr>
              <a:t>(A2)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RECOD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stat1 ('CR' = 'Česká republika') (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ELS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COP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IN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stat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kódem lze převést stringovou proměnnou na numerick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RECOD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ohlavi$ ('Z' = 1) ('M' = 2) 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IN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ohlav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A6F2-F1A6-46AC-815E-CCBA7CD1A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50021"/>
                </a:solidFill>
                <a:latin typeface="Arial"/>
              </a:rPr>
              <a:t>CONVERT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vede hodnoty čísel ze stringového formátu  (zaznamenané ale jako písmena) na číseln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issingy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stringových proměnných nejsou vidět (prázdná buňka je totiž „nic“ tj. znak), ale po rekódu na numerickou, pokud neurčíme jinak, budou v SYSMIS.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300" spc="-1" strike="noStrike">
                <a:solidFill>
                  <a:srgbClr val="333399"/>
                </a:solidFill>
                <a:latin typeface="Arial"/>
              </a:rPr>
              <a:t>RECODE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VAR1$ (' ' = 9) (</a:t>
            </a:r>
            <a:r>
              <a:rPr b="1" lang="cs-CZ" sz="2300" spc="-1" strike="noStrike">
                <a:solidFill>
                  <a:srgbClr val="a50021"/>
                </a:solidFill>
                <a:latin typeface="Arial"/>
              </a:rPr>
              <a:t>CONVERT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) ('-' = 98) INTO VAR1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Rekódování </a:t>
            </a: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stringových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proměnnýc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36DB-48B1-4EEF-8109-3D82C29EC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UTORE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UTORECODE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řevádí hodnot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tringových a numerických proměnných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a po sobě jdoucí celá čísla (pořadí)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 nové proměnné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hodné pro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ednoduché vytvoření numerické proměnné ze stringov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ití nalezne také při převodu spojitých nepřetržitých hodnot s desetinnými čísly, např. faktorové skóre, na celá čísla, což některé procedury vyžadují a šetří se tím výpočtový č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alue labels původní proměnné nebo u stringových proměnných jejich hodnoty jsou automaticky použity jako value labels v nové proměnn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815F-38E8-42A0-B430-CAB484AC3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UTORECODE: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lad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evodu stringového na numerický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form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AUTORECOD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kraj$   </a:t>
            </a:r>
            <a:r>
              <a:rPr b="0" lang="cs-CZ" sz="3200" spc="-1" strike="noStrike">
                <a:solidFill>
                  <a:srgbClr val="006600"/>
                </a:solidFill>
                <a:latin typeface="Arial"/>
              </a:rPr>
              <a:t>/INT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kraj </a:t>
            </a:r>
            <a:r>
              <a:rPr b="0" lang="cs-CZ" sz="3200" spc="-1" strike="noStrike">
                <a:solidFill>
                  <a:srgbClr val="006600"/>
                </a:solidFill>
                <a:latin typeface="Arial"/>
              </a:rPr>
              <a:t>/PRIN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273480" cy="3457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768240" y="1700280"/>
            <a:ext cx="4618080" cy="4897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8"/>
          <p:cNvSpPr/>
          <p:nvPr/>
        </p:nvSpPr>
        <p:spPr>
          <a:xfrm>
            <a:off x="5651640" y="1700280"/>
            <a:ext cx="3241440" cy="916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ázdná buňka ve stringovém znaku má hodnotu „“ (tj. není automaticky SYSM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0"/>
          <p:cNvSpPr/>
          <p:nvPr/>
        </p:nvSpPr>
        <p:spPr>
          <a:xfrm flipH="1">
            <a:off x="1476360" y="1916280"/>
            <a:ext cx="4175280" cy="433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 flipH="1">
            <a:off x="4284360" y="1916280"/>
            <a:ext cx="136692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3492360" y="2205000"/>
            <a:ext cx="287640" cy="4392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1452-A9AE-43FF-BA59-EEB874B3C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Arial"/>
              </a:rPr>
              <a:t>Visual 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sual Bindin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nástroj pro snadné rekódování (pro spojité-kardinální znaky např. dle percentilů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stupné bohužel pouze v některých vyšších verzích SP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ytváření nových proměnný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mocí příkaz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OMPUTE,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5DF7-7241-4E57-8354-B344664DF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COMP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az COMPUTE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tváří novou proměnnou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v numerickém formátu), pomocí matematických, statistických, logických aj. funkcí a operátorů, případně takto modifikuje hodnoty existující numerické i stringové proměnn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: </a:t>
            </a:r>
            <a:r>
              <a:rPr b="1" lang="cs-CZ" sz="3500" spc="-1" strike="noStrike">
                <a:solidFill>
                  <a:srgbClr val="333399"/>
                </a:solidFill>
                <a:latin typeface="Arial"/>
              </a:rPr>
              <a:t>COMPUTE</a:t>
            </a: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500" spc="-1" strike="noStrike">
                <a:solidFill>
                  <a:srgbClr val="000000"/>
                </a:solidFill>
                <a:latin typeface="Arial"/>
              </a:rPr>
              <a:t>nová proměnná</a:t>
            </a: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cs-CZ" sz="3500" spc="-1" strike="noStrike">
                <a:solidFill>
                  <a:srgbClr val="000000"/>
                </a:solidFill>
                <a:latin typeface="Arial"/>
              </a:rPr>
              <a:t>původní proměnná/é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(nebo konstanta většinou doplněno o nějakou funkci či operaci)</a:t>
            </a: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5B2D-8AFE-4112-9AC8-B0ABFCA07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COMPUTE – základní zadání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íklady aritmetických funkc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COMPUT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ar3 = Var1 + Var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čet Var1 a Va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COMPUT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ar2 = 30 – Var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 Var1 odečte konstantu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COMPUT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ar3 = (Var1 / Var2) * 1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cento Var1 z Va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3EE1-D3CB-4FE2-B20E-46B1FA80A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384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Příklady COMPUTE: aritmetické funk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COMPUT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ar3 = </a:t>
            </a:r>
            <a:r>
              <a:rPr b="1" lang="cs-CZ" sz="3200" spc="-1" strike="noStrike">
                <a:solidFill>
                  <a:srgbClr val="990000"/>
                </a:solidFill>
                <a:latin typeface="Arial"/>
              </a:rPr>
              <a:t>AB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Var1 –  Var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bsolutní hodnot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rozdílu Var1 a Va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COMPUT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ar2 = </a:t>
            </a:r>
            <a:r>
              <a:rPr b="1" lang="cs-CZ" sz="3200" spc="-1" strike="noStrike">
                <a:solidFill>
                  <a:srgbClr val="990000"/>
                </a:solidFill>
                <a:latin typeface="Arial"/>
              </a:rPr>
              <a:t>RN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(Var1 / Var2)*10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okrouhle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ocento Var1 z Va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COMPUT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ar3 = </a:t>
            </a:r>
            <a:r>
              <a:rPr b="1" lang="cs-CZ" sz="3200" spc="-1" strike="noStrike">
                <a:solidFill>
                  <a:srgbClr val="990000"/>
                </a:solidFill>
                <a:latin typeface="Arial"/>
              </a:rPr>
              <a:t>TRUNC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Var1 / Var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odnota na celá čísl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 podílu Var1 a Va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COMPUT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ar3 = </a:t>
            </a:r>
            <a:r>
              <a:rPr b="1" lang="cs-CZ" sz="3200" spc="-1" strike="noStrike">
                <a:solidFill>
                  <a:srgbClr val="990000"/>
                </a:solidFill>
                <a:latin typeface="Arial"/>
              </a:rPr>
              <a:t>SQR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Var1 * Var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dmocni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 násobku Var1 a Va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0493-F625-463E-A32A-07D0F253E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Úpravy dat v Syntaxu: </a:t>
            </a:r>
            <a:br>
              <a:rPr sz="40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mé zadání pomocí příkazového řád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79280" y="4869000"/>
            <a:ext cx="8964720" cy="1882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hodou je, že sekvenci příkazů můžeme uložit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soubor s koncovkou *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a kdykoliv se k ní vrátit,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řípadně měnit vstupní proměnné. V případě úpravy dat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oskytuje kontrolu operací a umožňuje úpravy sdíl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ntax lze u každé operace (analýzy či úpravy dat) vygenerovat při zadávání z menu pomocí tlačítk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aste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obně lze do syntaxu vkládat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jména proměnný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1835280" y="6381720"/>
            <a:ext cx="720720" cy="3603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7510320" cy="3824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"/>
          <p:cNvPicPr/>
          <p:nvPr/>
        </p:nvPicPr>
        <p:blipFill>
          <a:blip r:embed="rId2"/>
          <a:stretch/>
        </p:blipFill>
        <p:spPr>
          <a:xfrm>
            <a:off x="6227640" y="2133720"/>
            <a:ext cx="2770200" cy="1722240"/>
          </a:xfrm>
          <a:prstGeom prst="rect">
            <a:avLst/>
          </a:prstGeom>
          <a:ln w="0">
            <a:noFill/>
          </a:ln>
        </p:spPr>
      </p:pic>
      <p:sp>
        <p:nvSpPr>
          <p:cNvPr id="56" name="Oval 16"/>
          <p:cNvSpPr/>
          <p:nvPr/>
        </p:nvSpPr>
        <p:spPr>
          <a:xfrm>
            <a:off x="7164360" y="3573360"/>
            <a:ext cx="432000" cy="2872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8" descr=""/>
          <p:cNvPicPr/>
          <p:nvPr/>
        </p:nvPicPr>
        <p:blipFill>
          <a:blip r:embed="rId3"/>
          <a:stretch/>
        </p:blipFill>
        <p:spPr>
          <a:xfrm>
            <a:off x="6156360" y="4365720"/>
            <a:ext cx="2987640" cy="1787400"/>
          </a:xfrm>
          <a:prstGeom prst="rect">
            <a:avLst/>
          </a:prstGeom>
          <a:ln w="0">
            <a:noFill/>
          </a:ln>
        </p:spPr>
      </p:pic>
      <p:sp>
        <p:nvSpPr>
          <p:cNvPr id="58" name="Oval 19"/>
          <p:cNvSpPr/>
          <p:nvPr/>
        </p:nvSpPr>
        <p:spPr>
          <a:xfrm>
            <a:off x="7093080" y="5877000"/>
            <a:ext cx="431640" cy="2872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2803-00EB-49FE-893F-D955503BC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84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Příklady COMPUTE: statistické funk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MPUTE Var3 = </a:t>
            </a:r>
            <a:r>
              <a:rPr b="1" lang="cs-CZ" sz="3200" spc="-1" strike="noStrike">
                <a:solidFill>
                  <a:srgbClr val="990000"/>
                </a:solidFill>
                <a:latin typeface="Arial"/>
              </a:rPr>
              <a:t>SU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Var1, Var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uče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ar1 a Va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MPUTE Var4 = </a:t>
            </a:r>
            <a:r>
              <a:rPr b="1" lang="cs-CZ" sz="3200" spc="-1" strike="noStrike">
                <a:solidFill>
                  <a:srgbClr val="990000"/>
                </a:solidFill>
                <a:latin typeface="Arial"/>
              </a:rPr>
              <a:t>MI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Var1, Var2, Var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ejnižší hodnot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 Var1, Var2, Va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MPUTE Var4 = </a:t>
            </a:r>
            <a:r>
              <a:rPr b="1" lang="cs-CZ" sz="3200" spc="-1" strike="noStrike">
                <a:solidFill>
                  <a:srgbClr val="990000"/>
                </a:solidFill>
                <a:latin typeface="Arial"/>
              </a:rPr>
              <a:t>MAX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Var1, Var2, Var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ejvyšší hodnot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z Var1, Var2, Va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MPUTE Var4 = </a:t>
            </a:r>
            <a:r>
              <a:rPr b="1" lang="cs-CZ" sz="3200" spc="-1" strike="noStrike">
                <a:solidFill>
                  <a:srgbClr val="990000"/>
                </a:solidFill>
                <a:latin typeface="Arial"/>
              </a:rPr>
              <a:t>MEA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Var1, Var2, Var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růměrná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dnota z Var1, Var2, Va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A7B0-1360-4519-B862-708188959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říklady COMPU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COMPUT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ar5 = </a:t>
            </a:r>
            <a:r>
              <a:rPr b="0" lang="cs-CZ" sz="3200" spc="-1" strike="noStrike">
                <a:solidFill>
                  <a:srgbClr val="990000"/>
                </a:solidFill>
                <a:latin typeface="Arial"/>
              </a:rPr>
              <a:t>RN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3200" spc="-1" strike="noStrike">
                <a:solidFill>
                  <a:srgbClr val="990000"/>
                </a:solidFill>
                <a:latin typeface="Arial"/>
              </a:rPr>
              <a:t>MEA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var1 </a:t>
            </a:r>
            <a:r>
              <a:rPr b="0" lang="cs-CZ" sz="3200" spc="-1" strike="noStrike">
                <a:solidFill>
                  <a:srgbClr val="990000"/>
                </a:solidFill>
                <a:latin typeface="Arial"/>
              </a:rPr>
              <a:t>T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ar4))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okrouhlený průměr z proměnných 1 až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COMPUT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ar2 = Var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kopíruje hodnoty proměnné Var1 do Var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COMPUT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ar1 =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tanta 1 (u všech případů bude hodnota 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052280"/>
            <a:ext cx="784692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MPUTE: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čty apod. proměnných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řešení pro missin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26920" y="3886200"/>
            <a:ext cx="7632720" cy="22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provedeme prostý součet (rozdíl apod.) 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MPUTE var3 = (var1+var2), </a:t>
            </a:r>
            <a:br>
              <a:rPr sz="20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k se sečtou jen případy se všemi platnými hodnotami (příkaz nesečte ty případy, kde je alespoň jeden missing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706C-0547-42A3-8776-FD14413F7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COMPUTE – statistické funkce: </a:t>
            </a:r>
            <a:r>
              <a:rPr b="1" lang="cs-CZ" sz="3400" spc="-1" strike="noStrike">
                <a:solidFill>
                  <a:srgbClr val="000000"/>
                </a:solidFill>
                <a:latin typeface="Arial"/>
              </a:rPr>
              <a:t>podmíněnost počtem validních hodno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8920" y="98100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COMPUT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ijDomc = prijOtec </a:t>
            </a:r>
            <a:r>
              <a:rPr b="1" lang="cs-CZ" sz="2400" spc="-1" strike="noStrike">
                <a:solidFill>
                  <a:srgbClr val="990000"/>
                </a:solidFill>
                <a:latin typeface="Arial"/>
              </a:rPr>
              <a:t>+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ijMatk </a:t>
            </a:r>
            <a:r>
              <a:rPr b="1" lang="cs-CZ" sz="2400" spc="-1" strike="noStrike">
                <a:solidFill>
                  <a:srgbClr val="990000"/>
                </a:solidFill>
                <a:latin typeface="Arial"/>
              </a:rPr>
              <a:t>+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ijO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čet příjmů za domácnost → novou proměnnou bude mít jen ten případ,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kde budou uvedeny všechny tři příjmy, u ostatních, kde je min.1x syst./uživatel. missing bude SISMI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unk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UM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rozdíl od sčítání umožňuje specifikovat, u kolika proměnných může být missing a přesto se daný řádek-případ sečte/zpracuje (platí i pro funkce </a:t>
            </a:r>
            <a:r>
              <a:rPr b="0" lang="cs-CZ" sz="2400" spc="-1" strike="noStrike">
                <a:solidFill>
                  <a:srgbClr val="990000"/>
                </a:solidFill>
                <a:latin typeface="Arial"/>
              </a:rPr>
              <a:t>MEA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990000"/>
                </a:solidFill>
                <a:latin typeface="Arial"/>
              </a:rPr>
              <a:t>MI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990000"/>
                </a:solidFill>
                <a:latin typeface="Arial"/>
              </a:rPr>
              <a:t>MAX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td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COMPUT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ijDomc = </a:t>
            </a:r>
            <a:r>
              <a:rPr b="1" lang="cs-CZ" sz="2400" spc="-1" strike="noStrike">
                <a:solidFill>
                  <a:srgbClr val="990000"/>
                </a:solidFill>
                <a:latin typeface="Arial"/>
              </a:rPr>
              <a:t>SU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prijOtec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ijMatk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ijOst).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→ u těchto statistických funkcí je defaultně 1, tj. stačí validní hodnota u jedné z proměnných a na ní bude spočítán výsledek pro novou proměn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tj. zde min. jeden příjem s validní hodnotou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COMPUT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ijDomc = </a:t>
            </a:r>
            <a:r>
              <a:rPr b="1" lang="cs-CZ" sz="2400" spc="-1" strike="noStrike">
                <a:solidFill>
                  <a:srgbClr val="990000"/>
                </a:solidFill>
                <a:latin typeface="Arial"/>
              </a:rPr>
              <a:t>SUM</a:t>
            </a:r>
            <a:r>
              <a:rPr b="1" lang="cs-CZ" sz="2400" spc="-1" strike="noStrike" u="sng">
                <a:solidFill>
                  <a:srgbClr val="990000"/>
                </a:solidFill>
                <a:uFillTx/>
                <a:latin typeface="Arial"/>
              </a:rPr>
              <a:t>.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prijOtec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ijMatk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ijOs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"tečka" a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číslo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za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SUM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(nebo MIN, MAX atd.)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ká, že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usí být min. 2 proměnné valid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zde ze 3), aby vznikla hodnota na nové proměnn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tj. zde aby byly uvedeny alespoň 2 ze 3 příjmů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 postupu se sčítáním/odčítáním pomocí +/- (aj. operací) musí mít všechny proměnné platné hodnoty, jinak je u daného případu v nové proměnné chybějící hodno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80E0-8E65-48A4-BA8E-E0AEACC14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COMPUTE: řešení pro missingy pomocí </a:t>
            </a: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lad: Celkový příjem jako součet hlavního a vedlejšího příjmu (který ale každý nemá a na hlavní ne všichni odpoví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COMPUTE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rijemCelk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cs-CZ" sz="3200" spc="-1" strike="noStrike">
                <a:solidFill>
                  <a:srgbClr val="990000"/>
                </a:solidFill>
                <a:latin typeface="Arial"/>
              </a:rPr>
              <a:t>VALU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rijHlav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1" lang="cs-CZ" sz="3200" spc="-1" strike="noStrike">
                <a:solidFill>
                  <a:srgbClr val="990000"/>
                </a:solidFill>
                <a:latin typeface="Arial"/>
              </a:rPr>
              <a:t>VALU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rijVedl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ndikace missing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systémový i uživatelský) v nové binární proměnn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IF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SYSMIS Var1) Var1Miss =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7D3A-4C5F-462A-9F67-7D2B76C44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alší využití COMP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az COMPUTE lze kombinovat s různými podmínkami a smyčkami. Např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DO IF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EkAktiv =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COMPUT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zdaRok = Prijem * 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ELS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COMPUT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zdaRok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END IF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měnná mzda za rok se spočítá jako 12-ti násobek měsíčního příjmu jen u ekonomicky aktivních (ostatní mají hodnotu 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kaz COMPUTE toho umí mnohem víc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891A-2EB0-4DEF-99E9-0AEAB0078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ehled funkcí COMP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569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Aritmetické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př.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ABS, RND, TRUNC, MOD, SQRT, EXP, LG10, LN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Statistické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SUM, MEAN, SD, VAR, CFVAR, MIN, M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Stringové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př. ANY, CONCAT, INDEX, LAG,LPAD, LTRIM, NU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Konverze stringového/numerického formátu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STRING, NU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Datum a čas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př. YRMODA, CTIME.DAYS, DATE.YM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Náhodné proměnné a distribuční funkc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UNIFORM, NORMAL, CDFNORM, PROB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Chybějící hodnoty - Missing Valu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VALUE, MISSING, SYSMIS, NMISS, NVAL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Logické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RANGE, A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Cross-case (převod hodnot z předchozího případu)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Value Label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kopie labelů do stringové proměnné): VALUELAB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Podtrženy jsou frekventovaně používané funk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AAF0-6396-487E-B580-8C488CCB7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ákladní operátory a funkce příkazů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COMPUTE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250920" y="6567480"/>
            <a:ext cx="2843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Zdroj: [Bártová, Řehák 1993: 51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214200" y="549360"/>
            <a:ext cx="8713800" cy="610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Aritmetické operá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00"/>
                </a:solidFill>
                <a:latin typeface="Arial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sčítání  </a:t>
            </a:r>
            <a:r>
              <a:rPr b="1" lang="cs-CZ" sz="2200" spc="-1" strike="noStrike">
                <a:solidFill>
                  <a:srgbClr val="990000"/>
                </a:solidFill>
                <a:latin typeface="Arial"/>
              </a:rPr>
              <a:t>-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odečítání  </a:t>
            </a:r>
            <a:r>
              <a:rPr b="1" lang="cs-CZ" sz="2200" spc="-1" strike="noStrike">
                <a:solidFill>
                  <a:srgbClr val="990000"/>
                </a:solidFill>
                <a:latin typeface="Arial"/>
              </a:rPr>
              <a:t>*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ásobení  </a:t>
            </a:r>
            <a:r>
              <a:rPr b="1" lang="cs-CZ" sz="2200" spc="-1" strike="noStrike">
                <a:solidFill>
                  <a:srgbClr val="990000"/>
                </a:solidFill>
                <a:latin typeface="Arial"/>
              </a:rPr>
              <a:t>/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dělení  </a:t>
            </a:r>
            <a:r>
              <a:rPr b="1" lang="cs-CZ" sz="2200" spc="-1" strike="noStrike">
                <a:solidFill>
                  <a:srgbClr val="990000"/>
                </a:solidFill>
                <a:latin typeface="Arial"/>
              </a:rPr>
              <a:t>**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mocnina  </a:t>
            </a:r>
            <a:r>
              <a:rPr b="1" lang="cs-CZ" sz="2200" spc="-1" strike="noStrike">
                <a:solidFill>
                  <a:srgbClr val="990000"/>
                </a:solidFill>
                <a:latin typeface="Arial"/>
              </a:rPr>
              <a:t>( )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závork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Relační operá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Arial"/>
              </a:rPr>
              <a:t>EQ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rovná se  </a:t>
            </a:r>
            <a:r>
              <a:rPr b="1" lang="cs-CZ" sz="2400" spc="-1" strike="noStrike">
                <a:solidFill>
                  <a:srgbClr val="990000"/>
                </a:solidFill>
                <a:latin typeface="Arial"/>
              </a:rPr>
              <a:t>NE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rovná se  </a:t>
            </a:r>
            <a:r>
              <a:rPr b="1" lang="cs-CZ" sz="2400" spc="-1" strike="noStrike">
                <a:solidFill>
                  <a:srgbClr val="990000"/>
                </a:solidFill>
                <a:latin typeface="Arial"/>
              </a:rPr>
              <a:t>LT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nší než &lt; </a:t>
            </a:r>
            <a:r>
              <a:rPr b="1" lang="cs-CZ" sz="2400" spc="-1" strike="noStrike">
                <a:solidFill>
                  <a:srgbClr val="990000"/>
                </a:solidFill>
                <a:latin typeface="Arial"/>
              </a:rPr>
              <a:t>LE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nší nebo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vno &lt;=  </a:t>
            </a:r>
            <a:r>
              <a:rPr b="1" lang="cs-CZ" sz="2400" spc="-1" strike="noStrike">
                <a:solidFill>
                  <a:srgbClr val="990000"/>
                </a:solidFill>
                <a:latin typeface="Arial"/>
              </a:rPr>
              <a:t>GT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ětší než &gt;  </a:t>
            </a:r>
            <a:r>
              <a:rPr b="1" lang="cs-CZ" sz="2400" spc="-1" strike="noStrike">
                <a:solidFill>
                  <a:srgbClr val="990000"/>
                </a:solidFill>
                <a:latin typeface="Arial"/>
              </a:rPr>
              <a:t>GE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ětší nebo rovno &gt;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Logické operá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Arial"/>
              </a:rPr>
              <a:t>AND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obě relace musí být pravda  </a:t>
            </a:r>
            <a:r>
              <a:rPr b="1" lang="cs-CZ" sz="2400" spc="-1" strike="noStrike">
                <a:solidFill>
                  <a:srgbClr val="990000"/>
                </a:solidFill>
                <a:latin typeface="Arial"/>
              </a:rPr>
              <a:t>O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dna relace může být pravda  </a:t>
            </a:r>
            <a:r>
              <a:rPr b="1" lang="cs-CZ" sz="2400" spc="-1" strike="noStrike">
                <a:solidFill>
                  <a:srgbClr val="990000"/>
                </a:solidFill>
                <a:latin typeface="Arial"/>
              </a:rPr>
              <a:t>NO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obrací výsledek nepravda/nepravda následujícího výraz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Numerické fun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Arial"/>
              </a:rPr>
              <a:t>ABS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solutní hodnot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0000"/>
                </a:solidFill>
                <a:latin typeface="Arial"/>
              </a:rPr>
              <a:t>TRUN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celá část čís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Arial"/>
              </a:rPr>
              <a:t>RND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okrouhlení na celé čísl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0000"/>
                </a:solidFill>
                <a:latin typeface="Arial"/>
              </a:rPr>
              <a:t>MOD10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bytek podělení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Arial"/>
              </a:rPr>
              <a:t>SQR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druhá odmocni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0000"/>
                </a:solidFill>
                <a:latin typeface="Arial"/>
              </a:rPr>
              <a:t>EXP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exponenciální fun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Arial"/>
              </a:rPr>
              <a:t>LG1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logaritmus při základu 1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0000"/>
                </a:solidFill>
                <a:latin typeface="Arial"/>
              </a:rPr>
              <a:t>L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řirozený logarit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Funkce pro vynechané hodno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Arial"/>
              </a:rPr>
              <a:t>VALUE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živatelsky vynechávané hodnoty přebírá do výpo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Arial"/>
              </a:rPr>
              <a:t>SYSMI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á hodnotu 1, je-li argument systémový mi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Arial"/>
              </a:rPr>
              <a:t>MISSING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= 1, je-li argument uživat. nebo systémový mi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A996-7D71-4DCB-81EF-E4691F35B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Funkce  převádějí hodnoty z jiných přípa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0000"/>
                </a:solidFill>
                <a:latin typeface="Arial"/>
              </a:rPr>
              <a:t>LAG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bírá hodnotu předchozího případu u dané proměn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Funkce generování náhodných čí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0000"/>
                </a:solidFill>
                <a:latin typeface="Arial"/>
              </a:rPr>
              <a:t>UNIFORM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eneruje pseudonáhodné číslo mezi nulou a danou hodno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0000"/>
                </a:solidFill>
                <a:latin typeface="Arial"/>
              </a:rPr>
              <a:t>NORMAL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eneruje pseudonáhodné číslo z normálního rozložení o průměru 0 a standardní odchylce rovné argumen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Funkce převádějící datum na pořadové čís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0000"/>
                </a:solidFill>
                <a:latin typeface="Arial"/>
              </a:rPr>
              <a:t>YRMOD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rací pořadové číslo zadaného dne (první den podle Gregoriánského kalendáře, tj. YRMODA (1582, 10, 15)=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Vybrané další operátory a funkce příkazů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COMPUTE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0112-A661-4581-92A9-E087AD762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COU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et výskytů určité hodnoty v daném seznamu proměnných → načítání („bodování“) za výskyt vymezených hodnot do nové proměnn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guje i pro stringové proměnn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incip: </a:t>
            </a:r>
            <a:r>
              <a:rPr b="1" lang="cs-CZ" sz="3100" spc="-1" strike="noStrike">
                <a:solidFill>
                  <a:srgbClr val="333399"/>
                </a:solidFill>
                <a:latin typeface="Arial"/>
              </a:rPr>
              <a:t>COUNT</a:t>
            </a: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Arial"/>
              </a:rPr>
              <a:t>nová proměnná</a:t>
            </a: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1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Arial"/>
              </a:rPr>
              <a:t>původní proměnná/é </a:t>
            </a:r>
            <a:r>
              <a:rPr b="1" lang="cs-CZ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cs-CZ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Arial"/>
              </a:rPr>
              <a:t>její hodnoty</a:t>
            </a: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cs-CZ" sz="3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Počáteční hodnota nové proměnné je 0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Použít můžeme klíčová slova: LOWEST, HIGHEST, THRU, SISMIS, MISS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AA78-A1E7-435B-8A2B-9324B116F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abelování (popisky) v syntax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36280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pisky (labely) jsou mezi uvozovkam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" "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nebo apostrofech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' '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pisek k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zvu proměnné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lab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333399"/>
                </a:solidFill>
                <a:latin typeface="Arial"/>
              </a:rPr>
              <a:t>VARIABLE LABEL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kka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ěkové kategori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pisky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zvů hodno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lab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333399"/>
                </a:solidFill>
                <a:latin typeface="Arial"/>
              </a:rPr>
              <a:t>VALUE LABEL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kka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o 35le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36-5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ad 5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Popisky nemusí být u všech hodnot 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(např. u ordinálních znaků stačí krajní hodnoty)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Hodnoty lze labelovat pro vícero proměnných se stejnými kategoriemi najedno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333399"/>
                </a:solidFill>
                <a:latin typeface="Arial"/>
              </a:rPr>
              <a:t>VALUE LABEL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pok1 Spok2  1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espokoje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2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pokoje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Popisky hodnot lze také 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přidat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(původní zůstanou/stejné se přepíší)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ADD VALUE LABELS</a:t>
            </a:r>
            <a:r>
              <a:rPr b="1" lang="cs-CZ" sz="2200" spc="-1" strike="noStrike">
                <a:solidFill>
                  <a:srgbClr val="333399"/>
                </a:solidFill>
                <a:latin typeface="Arial"/>
              </a:rPr>
              <a:t> vekk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ad 7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F160-977A-47D6-90B8-8EACA3193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UNT: příkl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COUN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ar2 = Var1 (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 výskyt hodnoty 2 u Var1 bude ve Var2 „1“ (v podstatě rekó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COUN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ar4 = Var1 Var2 Var3 (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, 4, 7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COUN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PocDeti = Dite1vek, Dite2vek, Dite3vek (</a:t>
            </a:r>
            <a:r>
              <a:rPr b="1" lang="cs-CZ" sz="2800" spc="-1" strike="noStrike">
                <a:solidFill>
                  <a:srgbClr val="990000"/>
                </a:solidFill>
                <a:latin typeface="Arial"/>
              </a:rPr>
              <a:t>LOW THRU HIG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COUN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PobPraha = Pobyt1, Pobyt2, Pobyt3 („Praha“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pobytů v Praze ze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ringových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roměnný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COUN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ar6 = Var1 TO Var5 (</a:t>
            </a:r>
            <a:r>
              <a:rPr b="1" lang="cs-CZ" sz="2800" spc="-1" strike="noStrike">
                <a:solidFill>
                  <a:srgbClr val="990000"/>
                </a:solidFill>
                <a:latin typeface="Arial"/>
              </a:rPr>
              <a:t>SYSMI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syst. missingů u proměnných Var1 až Var5 (SYSMIS nebo </a:t>
            </a:r>
            <a:r>
              <a:rPr b="1" lang="cs-CZ" sz="2000" spc="-1" strike="noStrike">
                <a:solidFill>
                  <a:srgbClr val="990000"/>
                </a:solidFill>
                <a:latin typeface="Arial"/>
              </a:rPr>
              <a:t>MISSIN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bere jak SYSMIS tak i uživatelské missin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FCE8-C34E-4F40-A04C-F53B216BD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COUNT: Příklad vytvoření indexu konzumace médií-novinových titul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Novi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25_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25_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e je využití načítání v COUNT místo sčítání (v COMPUTE) výhodné, protože původní kódování proměnných je „obrácené“, 1=čte, 2=nečte a proto je nelze jednoduše sečíst, aniž bychom 10 původních proměnných nejprve nerekódovali (otočili hodnoty na 0/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žitečné drobnosti v SP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zobrazení, nastavení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D23B-7B5B-4E62-B31C-26AF55CB4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DISPLAY DICTION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cc"/>
                </a:solidFill>
                <a:latin typeface="Arial"/>
              </a:rPr>
              <a:t>DISPLAY DICTIONAR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*vypíše info o proměnných a jejich hodnotách, formátu, missings atd.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d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6321240" cy="4682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"/>
          <p:cNvPicPr/>
          <p:nvPr/>
        </p:nvPicPr>
        <p:blipFill>
          <a:blip r:embed="rId2"/>
          <a:srcRect l="0" t="0" r="0" b="45831"/>
          <a:stretch/>
        </p:blipFill>
        <p:spPr>
          <a:xfrm>
            <a:off x="6516720" y="1782720"/>
            <a:ext cx="2484360" cy="5075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"/>
          <p:cNvPicPr/>
          <p:nvPr/>
        </p:nvPicPr>
        <p:blipFill>
          <a:blip r:embed="rId3"/>
          <a:stretch/>
        </p:blipFill>
        <p:spPr>
          <a:xfrm>
            <a:off x="7737480" y="115920"/>
            <a:ext cx="123516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CC45-1D16-4D1D-8217-95EA0A031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Jak vypnout možnost mít otevřeno </a:t>
            </a: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více datových souborů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v SP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Suppressing Multiple Data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menu: Edit →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artě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nera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aškrtnět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en only one dataset at a tim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1"/>
          <a:stretch/>
        </p:blipFill>
        <p:spPr>
          <a:xfrm>
            <a:off x="2987640" y="2492280"/>
            <a:ext cx="1332000" cy="2664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"/>
          <p:cNvPicPr/>
          <p:nvPr/>
        </p:nvPicPr>
        <p:blipFill>
          <a:blip r:embed="rId2"/>
          <a:stretch/>
        </p:blipFill>
        <p:spPr>
          <a:xfrm>
            <a:off x="4572000" y="2521080"/>
            <a:ext cx="3816360" cy="33084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7"/>
          <p:cNvSpPr/>
          <p:nvPr/>
        </p:nvSpPr>
        <p:spPr>
          <a:xfrm>
            <a:off x="250920" y="5877000"/>
            <a:ext cx="8137440" cy="82404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bo v syntax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Narrow"/>
              </a:rPr>
              <a:t>SET Unicode=No CCC='-,,,' CCE='-,,,' FUZZBITS=6 OLang=English RNG=MC CCB='-,,,' Epoch=Automatic Small=0 CCD='-,,,' Format=F8.0 CCA='-,,,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4572000" y="4221000"/>
            <a:ext cx="1224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0" y="4724280"/>
            <a:ext cx="41036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íce k ovládání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DATASET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ů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 presentac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management v SPSS/PSPP 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99"/>
                </a:solidFill>
                <a:latin typeface="Arial Narrow"/>
              </a:rPr>
              <a:t>http://metodykv.wz.cz/SPSS_navod2_datamanag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3203640" y="4941720"/>
            <a:ext cx="1224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66"/>
                </a:solidFill>
                <a:latin typeface="Arial"/>
              </a:rPr>
              <a:t>Nastavení outputu SP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aktická úprava výstupů se zobrazováním hodnot a názvů proměnný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(oproti továrnímu nastavení, 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de jsou pouze lab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E72F-4C10-4759-B719-3567074B6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8567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Nastavení labelů při zobrazování tabulek 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v outpu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3851280" y="1330200"/>
            <a:ext cx="4842000" cy="4195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6"/>
          <p:cNvSpPr/>
          <p:nvPr/>
        </p:nvSpPr>
        <p:spPr>
          <a:xfrm>
            <a:off x="287280" y="6021360"/>
            <a:ext cx="856944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SE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Numbers=Both ONumbers=Both CCC='-,,,' CCE='-,,,' CCB='-,,,' OVars=Both CCD='-,,,' TVars=Both CCA='-,,,'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NEW FIL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7"/>
          <p:cNvSpPr/>
          <p:nvPr/>
        </p:nvSpPr>
        <p:spPr>
          <a:xfrm>
            <a:off x="5508720" y="1557360"/>
            <a:ext cx="1152360" cy="5047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9"/>
          <p:cNvSpPr/>
          <p:nvPr/>
        </p:nvSpPr>
        <p:spPr>
          <a:xfrm>
            <a:off x="3924360" y="1989000"/>
            <a:ext cx="936720" cy="100836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3924360" y="3716280"/>
            <a:ext cx="936720" cy="10080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1" descr=""/>
          <p:cNvPicPr/>
          <p:nvPr/>
        </p:nvPicPr>
        <p:blipFill>
          <a:blip r:embed="rId2"/>
          <a:stretch/>
        </p:blipFill>
        <p:spPr>
          <a:xfrm>
            <a:off x="6227640" y="2349360"/>
            <a:ext cx="2295720" cy="1171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"/>
          <p:cNvPicPr/>
          <p:nvPr/>
        </p:nvPicPr>
        <p:blipFill>
          <a:blip r:embed="rId3"/>
          <a:stretch/>
        </p:blipFill>
        <p:spPr>
          <a:xfrm>
            <a:off x="539640" y="1314360"/>
            <a:ext cx="2086200" cy="4229280"/>
          </a:xfrm>
          <a:prstGeom prst="rect">
            <a:avLst/>
          </a:prstGeom>
          <a:ln w="0">
            <a:noFill/>
          </a:ln>
        </p:spPr>
      </p:pic>
      <p:sp>
        <p:nvSpPr>
          <p:cNvPr id="229" name="Oval 13"/>
          <p:cNvSpPr/>
          <p:nvPr/>
        </p:nvSpPr>
        <p:spPr>
          <a:xfrm>
            <a:off x="684360" y="5084640"/>
            <a:ext cx="1152360" cy="5050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0441-7737-413A-8729-E0B86BB0B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Nastavení labelů při zobrazování tabulek v outpu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40000" y="1413000"/>
            <a:ext cx="32036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7400" indent="-167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ez názvu proměnné a hodnot kategorií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původní tovární nastave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9966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339966"/>
                </a:solidFill>
                <a:latin typeface="Arial"/>
              </a:rPr>
              <a:t>→ </a:t>
            </a:r>
            <a:r>
              <a:rPr b="1" lang="cs-CZ" sz="1600" spc="-1" strike="noStrike">
                <a:solidFill>
                  <a:srgbClr val="339966"/>
                </a:solidFill>
                <a:latin typeface="Arial"/>
              </a:rPr>
              <a:t>vhodné pro finální prezentaci v tex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40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 názvem proměnné 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odnotami kategorií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aše nastavení)</a:t>
            </a:r>
            <a:br>
              <a:rPr sz="28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339966"/>
                </a:solidFill>
                <a:latin typeface="Arial"/>
              </a:rPr>
              <a:t>→ vhodnější pro analý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5472000" cy="2376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324000" y="4005360"/>
            <a:ext cx="5472000" cy="2332080"/>
          </a:xfrm>
          <a:prstGeom prst="rect">
            <a:avLst/>
          </a:prstGeom>
          <a:ln w="0">
            <a:noFill/>
          </a:ln>
        </p:spPr>
      </p:pic>
      <p:sp>
        <p:nvSpPr>
          <p:cNvPr id="235" name="Oval 6"/>
          <p:cNvSpPr/>
          <p:nvPr/>
        </p:nvSpPr>
        <p:spPr>
          <a:xfrm>
            <a:off x="971640" y="4437000"/>
            <a:ext cx="287280" cy="16560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7"/>
          <p:cNvSpPr/>
          <p:nvPr/>
        </p:nvSpPr>
        <p:spPr>
          <a:xfrm>
            <a:off x="2195640" y="3860640"/>
            <a:ext cx="504720" cy="5050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4196-4F2D-487B-A4F1-D2958A4EE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obrazování labelů/hodnot v outputu lze spustit pomocí skriptu v Syntax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*NASTAVENI Labelů v OUTPUTU SPSS (funguje od verze 1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*vypnutí hodnot kategorii v tabulkách a grafech, tj. jen labels bez jmen proměných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SET TNumbers=Labels ONumbers=Labels CCC='-,,,' CCE='-,,,' CCB='-,,,' OVars=Labels CCD='-,,,' TVars=Labels CCA='-,,,'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*zapnuti hodnot kategorii v tabulkách a grafech, tj. hodnoty+labels a jména proměnných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SET TNumbers=Both ONumbers=Both CCC='-,,,' CCE='-,,,' CCB='-,,,' OVars=Both CCD='-,,,' TVars=Both CCA='-,,,'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*Zobrazování jména proměnných (místo VAR labelů) v seznamu při vstupu do analýz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SET TNumbers=Both ONumbers=Both CCC='-,,,' CCE='-,,,' CCB='-,,,' OVars=Both CCD='-,,,' TVars=Both CCA='-,,,'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5B4F-1228-41B5-BC54-7D1016484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ártová, I. Řehák, J. 1993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Základy SPSS/PC+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 Praha: Univerzita Karlov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SS Inc. 1990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SPSS Reference Guid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Chybějící hodnoty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ISSING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272360" cy="27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astavení v SP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 jejich identifikaci a případné analýze vi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alýza chybějících hodnot (missing values) </a:t>
            </a:r>
            <a:br>
              <a:rPr sz="2400"/>
            </a:b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http://metodykv.wz.cz/AKD2_missing2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4145-240B-4AC9-9BF9-91F92371D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Chybějící hodnoty - MISSING VAL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SPSS rozlišujeme dva typy chybějících hodnot (systémový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ystémový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cs-CZ" sz="3200" spc="-1" strike="noStrike">
                <a:solidFill>
                  <a:srgbClr val="c00000"/>
                </a:solidFill>
                <a:latin typeface="Arial"/>
              </a:rPr>
              <a:t>SYSMIS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prázdná datová buňk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živatelsky definovaný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cs-CZ" sz="3200" spc="-1" strike="noStrike">
                <a:solidFill>
                  <a:srgbClr val="c00000"/>
                </a:solidFill>
                <a:latin typeface="Arial"/>
              </a:rPr>
              <a:t>MISSING</a:t>
            </a: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k určité hodnotě je přiřazena informace – nepočítat s ní v analýze, zůstává ale v datech a lze je „vypnout/zapnout“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BE07-7E21-4EC4-AD29-FFC5EC17F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Existují dva druhy missingů (v SPSS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13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ystémové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cs-CZ" sz="3000" spc="-1" strike="noStrike">
                <a:solidFill>
                  <a:srgbClr val="cc3300"/>
                </a:solidFill>
                <a:latin typeface="Arial"/>
              </a:rPr>
              <a:t>SYSMIS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(v datech: „ </a:t>
            </a:r>
            <a:r>
              <a:rPr b="1" lang="cs-CZ" sz="3000" spc="-1" strike="noStrike">
                <a:solidFill>
                  <a:srgbClr val="cc3300"/>
                </a:solidFill>
                <a:latin typeface="Arial"/>
              </a:rPr>
              <a:t>.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“)</a:t>
            </a:r>
            <a:br>
              <a:rPr sz="3000"/>
            </a:b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de o základní formu označení chybějící hodnoty, ale v podstatě zde není žádná informace proč chybí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častěji záznam v datech nebyl u dané proměnné vůbec proveden, nebo se proměnná daného případu (respondenta) netýká (např. rok rozvodu u svobodných/ženatýc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áme-li např. z dotazníku k dispozici podrobnější informaci (například „Netýká se“, „Odmítl odpovědět“, „Neví“) můžeme mít navíc tak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Uživatelsky definované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cs-CZ" sz="3000" spc="-1" strike="noStrike">
                <a:solidFill>
                  <a:srgbClr val="cc3300"/>
                </a:solidFill>
                <a:latin typeface="Arial"/>
              </a:rPr>
              <a:t>MISSING VAL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datech je označujeme hodnotami „mimo“ rozsah standardních kategorií, např. : „9“ nebo „99“ a často je i labelujeme, např. 8 = Odmítl odpovědět, 9 = Nev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Tyto hodnoty pak nebudou obsaženy v základní části analýz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okud jejich označení jako MISSING VALUES nevypneme, což můžeme podle potřeby využívat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2371680" cy="257040"/>
          </a:xfrm>
          <a:prstGeom prst="rect">
            <a:avLst/>
          </a:prstGeom>
          <a:ln w="0">
            <a:noFill/>
          </a:ln>
        </p:spPr>
      </p:pic>
      <p:sp>
        <p:nvSpPr>
          <p:cNvPr id="71" name="Oval 5"/>
          <p:cNvSpPr/>
          <p:nvPr/>
        </p:nvSpPr>
        <p:spPr>
          <a:xfrm>
            <a:off x="6732720" y="1916280"/>
            <a:ext cx="57600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A9CE-47D5-4D75-894B-32A484291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astavení chybějících hod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MISSING VALUE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ar1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padně další Var2 Var3 …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2800" spc="-1" strike="noStrike">
                <a:solidFill>
                  <a:srgbClr val="cc3300"/>
                </a:solidFill>
                <a:latin typeface="Arial"/>
              </a:rPr>
              <a:t>0 8 9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→ označit lze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ž tři hodnot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které budou vyloučeny ze základu analý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bo: (</a:t>
            </a:r>
            <a:r>
              <a:rPr b="1" lang="cs-CZ" sz="2800" spc="-1" strike="noStrike">
                <a:solidFill>
                  <a:srgbClr val="cc3300"/>
                </a:solidFill>
                <a:latin typeface="Arial"/>
              </a:rPr>
              <a:t>LOWEST</a:t>
            </a:r>
            <a:r>
              <a:rPr b="0" lang="cs-CZ" sz="2800" spc="-1" strike="noStrike">
                <a:solidFill>
                  <a:srgbClr val="cc3300"/>
                </a:solidFill>
                <a:latin typeface="Arial"/>
              </a:rPr>
              <a:t> THRU 5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. či (</a:t>
            </a:r>
            <a:r>
              <a:rPr b="0" lang="cs-CZ" sz="2800" spc="-1" strike="noStrike">
                <a:solidFill>
                  <a:srgbClr val="cc3300"/>
                </a:solidFill>
                <a:latin typeface="Arial"/>
              </a:rPr>
              <a:t>8 THRU </a:t>
            </a:r>
            <a:r>
              <a:rPr b="1" lang="cs-CZ" sz="2800" spc="-1" strike="noStrike">
                <a:solidFill>
                  <a:srgbClr val="cc3300"/>
                </a:solidFill>
                <a:latin typeface="Arial"/>
              </a:rPr>
              <a:t>HIGHES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ze i kombinaci intervalu a jedné hodno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2800" spc="-1" strike="noStrike">
                <a:solidFill>
                  <a:srgbClr val="cc3300"/>
                </a:solidFill>
                <a:latin typeface="Arial"/>
              </a:rPr>
              <a:t>5</a:t>
            </a:r>
            <a:r>
              <a:rPr b="0" lang="cs-CZ" sz="2800" spc="-1" strike="noStrike">
                <a:solidFill>
                  <a:srgbClr val="cc3300"/>
                </a:solidFill>
                <a:latin typeface="Arial"/>
              </a:rPr>
              <a:t> 8 thru Highes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ze zadat i přes Data editor,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le syntax zaručuje kontrolu a dokumentaci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nipulace s da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6443640" y="4149720"/>
            <a:ext cx="2546280" cy="2592360"/>
          </a:xfrm>
          <a:prstGeom prst="rect">
            <a:avLst/>
          </a:prstGeom>
          <a:ln w="0">
            <a:noFill/>
          </a:ln>
        </p:spPr>
      </p:pic>
      <p:sp>
        <p:nvSpPr>
          <p:cNvPr id="76" name="Oval 5"/>
          <p:cNvSpPr/>
          <p:nvPr/>
        </p:nvSpPr>
        <p:spPr>
          <a:xfrm>
            <a:off x="6659640" y="5157720"/>
            <a:ext cx="115236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BE64-B74E-4B1E-B571-07DEEA708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dentifikace a označení chybějících hodnot.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klad „věk studentů VŠ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FREQUENCIES</a:t>
            </a:r>
            <a:r>
              <a:rPr b="0" lang="cs-CZ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v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3429000" cy="5256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4788000" y="981000"/>
            <a:ext cx="4176720" cy="19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2 a 92 jsou z hlediska věku posluchačů kurzu AKD „nesmyslné“ hodnoty, proto je označíme jako chybějící. Pomocí příkazu v syntax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MISSING VALUES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vek (</a:t>
            </a:r>
            <a:r>
              <a:rPr b="1" lang="cs-CZ" sz="2000" spc="-1" strike="noStrike">
                <a:solidFill>
                  <a:srgbClr val="cc3300"/>
                </a:solidFill>
                <a:latin typeface="Arial"/>
              </a:rPr>
              <a:t>12 92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o v data editoru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klikem myši přes men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"/>
          <p:cNvSpPr/>
          <p:nvPr/>
        </p:nvSpPr>
        <p:spPr>
          <a:xfrm flipH="1">
            <a:off x="1116000" y="1268280"/>
            <a:ext cx="3743280" cy="36036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7"/>
          <p:cNvSpPr/>
          <p:nvPr/>
        </p:nvSpPr>
        <p:spPr>
          <a:xfrm flipH="1">
            <a:off x="1115640" y="1268280"/>
            <a:ext cx="3745080" cy="446580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179280" y="6461280"/>
            <a:ext cx="4392720" cy="39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Zároveň vidíme, že v datech zatím žádné uživatelské missingy nebyly definovány (jsou zde pouze 2 případy systémových SYSMI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1"/>
          <p:cNvSpPr/>
          <p:nvPr/>
        </p:nvSpPr>
        <p:spPr>
          <a:xfrm flipH="1" flipV="1">
            <a:off x="1331640" y="6165360"/>
            <a:ext cx="215640" cy="358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2"/>
          <p:cNvSpPr/>
          <p:nvPr/>
        </p:nvSpPr>
        <p:spPr>
          <a:xfrm>
            <a:off x="250920" y="6021360"/>
            <a:ext cx="381636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4572000" y="6165720"/>
            <a:ext cx="4572000" cy="581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Poznámka: Po zadání MV, se zdánlivě nic nestane, pouze jsme v datech označili MV,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proto je dobré vytisknout si opět tabulku třídění 1.stupně: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FREQUENCIES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v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7" descr=""/>
          <p:cNvPicPr/>
          <p:nvPr/>
        </p:nvPicPr>
        <p:blipFill>
          <a:blip r:embed="rId2"/>
          <a:stretch/>
        </p:blipFill>
        <p:spPr>
          <a:xfrm>
            <a:off x="4788000" y="3057480"/>
            <a:ext cx="3960720" cy="31035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9"/>
          <p:cNvSpPr/>
          <p:nvPr/>
        </p:nvSpPr>
        <p:spPr>
          <a:xfrm>
            <a:off x="6804000" y="5013360"/>
            <a:ext cx="1297080" cy="142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08:37:16Z</dcterms:created>
  <dc:creator>Jiri Safr</dc:creator>
  <dc:description/>
  <dc:language>en-US</dc:language>
  <cp:lastModifiedBy>Jiří Šafr</cp:lastModifiedBy>
  <dcterms:modified xsi:type="dcterms:W3CDTF">2015-12-04T00:41:01Z</dcterms:modified>
  <cp:revision>650</cp:revision>
  <dc:subject/>
  <dc:title>Základní transformace dat</dc:title>
</cp:coreProperties>
</file>