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09F-6417-4B3D-85B1-C3E1C525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042-297C-4DD4-987B-D9FAC78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6CF-1D56-4471-9B4B-452CDCCE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F79-45C8-4113-A474-A2B0E893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5B7-3917-4E10-81CB-F58B56C5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3C7-47F5-4864-8EC7-17B55C23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0C2-300B-4593-8F11-34C82B6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19C-129B-4573-9320-ADAC85EB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3AE-EEA2-4759-BD62-396E61FA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7F4-C24D-4DBF-A769-70F95CE8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5FC-45DF-4E4C-BFA7-6913BA4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423-52E7-47E0-AFE0-FCB0972A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474A-4EF7-40A6-8EA0-D2700AE79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todykv.wz.cz/PSPP_navod_1_uvod.pdf" TargetMode="External"/><Relationship Id="rId2" Type="http://schemas.openxmlformats.org/officeDocument/2006/relationships/hyperlink" Target="http://metodykv.wz.cz/PSPP_navod_1_uvod.pdf" TargetMode="External"/><Relationship Id="rId3" Type="http://schemas.openxmlformats.org/officeDocument/2006/relationships/hyperlink" Target="http://metodykv.wz.cz/PSPP_navod_1_uvod.pdf" TargetMode="External"/><Relationship Id="rId4" Type="http://schemas.openxmlformats.org/officeDocument/2006/relationships/hyperlink" Target="http://metodykv.wz.cz/PSPP_navod_1_uvod.pdf" TargetMode="External"/><Relationship Id="rId5" Type="http://schemas.openxmlformats.org/officeDocument/2006/relationships/hyperlink" Target="http://metodykv.wz.cz/PSPP_navod_1_uvod.pdf" TargetMode="External"/><Relationship Id="rId6" Type="http://schemas.openxmlformats.org/officeDocument/2006/relationships/hyperlink" Target="http://metodykv.wz.cz/PSPP_navod_1_uvod.pdf" TargetMode="External"/><Relationship Id="rId7" Type="http://schemas.openxmlformats.org/officeDocument/2006/relationships/hyperlink" Target="http://metodykv.wz.cz/PSPP_navod_1_uvod.pdf" TargetMode="External"/><Relationship Id="rId8" Type="http://schemas.openxmlformats.org/officeDocument/2006/relationships/hyperlink" Target="http://metodykv.wz.cz/PSPP_navod_1_uvod.pdf" TargetMode="External"/><Relationship Id="rId9" Type="http://schemas.openxmlformats.org/officeDocument/2006/relationships/hyperlink" Target="http://metodykv.wz.cz/PSPP_navod_1_uvod.pdf" TargetMode="External"/><Relationship Id="rId10" Type="http://schemas.openxmlformats.org/officeDocument/2006/relationships/hyperlink" Target="http://metodykv.wz.cz/PSPP_navod_1_uvod.pdf" TargetMode="External"/><Relationship Id="rId11" Type="http://schemas.openxmlformats.org/officeDocument/2006/relationships/hyperlink" Target="http://metodykv.wz.cz/PSPP_navod_1_uvod.pdf" TargetMode="External"/><Relationship Id="rId12" Type="http://schemas.openxmlformats.org/officeDocument/2006/relationships/hyperlink" Target="http://metodykv.wz.cz/PSPP_navod_1_uvod.pdf" TargetMode="External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KD II. / 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2923920"/>
            <a:ext cx="8137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Data management v SPSS/PSPP (2): </a:t>
            </a:r>
            <a:br>
              <a:rPr sz="3400"/>
            </a:br>
            <a:r>
              <a:rPr b="1" lang="cs-CZ" sz="3800" spc="-1" strike="noStrike">
                <a:solidFill>
                  <a:srgbClr val="000000"/>
                </a:solidFill>
                <a:latin typeface="Arial"/>
              </a:rPr>
              <a:t>Vybrané speciality a vychytávk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ri.safr(AT)seznam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oslední aktualizace </a:t>
            </a:r>
            <a:r>
              <a:rPr b="1" lang="cs-CZ" sz="800" spc="-1" strike="noStrike">
                <a:solidFill>
                  <a:srgbClr val="990000"/>
                </a:solidFill>
                <a:latin typeface="Arial"/>
              </a:rPr>
              <a:t>12/4/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, Řízení a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(LS 2012, 2013,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ATASET 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7280" y="692280"/>
            <a:ext cx="8569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DATASET COP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í - nový datový soubor, který  zkopíruje data z aktivního (otevřeného) soub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tečné při vytváření vícenásobných podsouborů dat z jednoho základního - původního soub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ATASET NAM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studenti_AK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/*všichni (denní i kombinované studi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ATASET COP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denn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ATASET ACT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denn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/*denní studium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ELECT I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tudium=1. 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/*odmaže všechny případy mimo denní stud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ATASET ACT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studenti_AK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ATASET COP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komb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ATASET ACT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komb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/*kombinované studium =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ELECT I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tudium=2.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/*odmaže všechny případy mimo kombinované stu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or, neuložíte-li je, tak po zavření SPSS soubory zmiz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3213000"/>
            <a:ext cx="7993080" cy="2737080"/>
          </a:xfrm>
          <a:prstGeom prst="rect">
            <a:avLst/>
          </a:prstGeom>
          <a:noFill/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181-4AC4-46D4-89A7-2AA2E62198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LE LAB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FILE LABEL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vádí jméno souboru v outpu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ud jsou data v SPSS formátu (PASW Statistics format), tak se label uloží do Dictio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le label se bude objevovat v outputech v „Notes tables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0F5-262D-4203-B107-834B3D3FEA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stup pořízení dat v MS Excel s následným převodem do SP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i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zvy proměnných v prvním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jméno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ačíná písmen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it si kódový klíč →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se vyvarovat záznamu pomocí sl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 čemuž Excel láká (např. místo „muž“ → 1), jinak bude v SPSS stringová proměnná (tu lze převést na numerický záznam, viz dále, ale je to obtíž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hlédnout celou hotovou matici v Excelu, zda někde není prázdný řádek apod. Kurzor nesmí být na konci (jinak se pak v SPSS objeví prázdné řádky plné missingů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 uložení dat v XLS (musí být soubor XLS zavřený!)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SPSS dáme otevřít data a rozklikneme dolní roletku pro formát XL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růvodci exportu dat vybereme, ž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prvním řádku jsou názvy proměnných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zvolíme excelovskou záložku, kde data js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kontrolujeme kraje datové mat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spodní část a pravou na konci, zda nejsou prázdné buňky pro proměnné či případy. Pokus ano, odstraní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ternativně lze použít formá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K jeho importu viz návod PSPP/SPSS na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todykv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z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z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PSPP_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navod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_1_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uvod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d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(str. 19-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a nově uložíme ve formátu SPSS tj. *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yní můžeme labelovat jak názvy proměnných tak jejich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D2B-E966-435F-8964-A2EFA32F4B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 SPSS se tak lze setkat se 4 typy da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řipomenut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358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ikrodata – individuální da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tj. případy v řád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ejčastěji respondenti, ale např. také novinové články, země nebo regio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gregovaná da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alytické/strukturní proměn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individuální údaje sumované za určitou jednotk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př. území jako regiony/ státy nebo časová období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ají agregací mikroda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sumování, průměrová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mbinovaná mikrodata s kontextuálními da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uď na agregované úrovni nebo jako kontext společný určité skupině individu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individuální mikrod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žáci a informace o jejich rodičích,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ontextuální d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informace o typu školy společná pro žáky ze stejných škol a případně také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nalytické/strukturní data na agregované úrov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průměrný prospěch ve třídě (agregováno z individuálních dat žáků konkrétní tříd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abelární da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agregovaná do tabulek (kontingenční tabulky) 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dříve publikované výsledky mobilitní tabu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9D2-5F34-45AD-8D8A-45E9098A55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98984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dlišný typ dat (úrovně měření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vyžaduje použití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dlišných přístupů k analý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e také odlišný způsob interpretace výsledků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a její možnosti resp. limity)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Načtení dat ze syntaxu </a:t>
            </a:r>
            <a:br>
              <a:rPr sz="4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ro menší datové soubory)</a:t>
            </a:r>
            <a:br>
              <a:rPr sz="32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ulární (agregovaná)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ro data publikovaná například v nějakém text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čtení (mikro)dat ze syntaxu </a:t>
            </a:r>
            <a:br>
              <a:rPr sz="4000"/>
            </a:b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(vhodné pro menší datové soubory nebo tabulární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*hypotetická data: </a:t>
            </a:r>
            <a:r>
              <a:rPr b="1" lang="cs-CZ" sz="1700" spc="-1" strike="noStrike" u="sng">
                <a:solidFill>
                  <a:srgbClr val="ff0000"/>
                </a:solidFill>
                <a:uFillTx/>
                <a:latin typeface="Arial"/>
              </a:rPr>
              <a:t>hodnoty proměnných odděleny mezerou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, stringov</a:t>
            </a:r>
            <a:r>
              <a:rPr b="1" lang="cs-CZ" sz="1700" spc="-1" strike="noStrike" u="sng">
                <a:solidFill>
                  <a:srgbClr val="ff0000"/>
                </a:solidFill>
                <a:uFillTx/>
                <a:latin typeface="Arial"/>
              </a:rPr>
              <a:t>é znaky v " "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333399"/>
                </a:solidFill>
                <a:latin typeface="Arial"/>
              </a:rPr>
              <a:t>DATA LIST LIST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/ okres (A15) progr domduch vek obyv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333399"/>
                </a:solidFill>
                <a:latin typeface="Arial"/>
              </a:rPr>
              <a:t>BEGIN DAT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"Benešov" 1 3  52  40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"Kladno"  0 4   61  674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"M. Boleslav"  1 6  50  609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"Příbram"   0 2  45  481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"Dobříš"  1 1 49  782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333399"/>
                </a:solidFill>
                <a:latin typeface="Arial"/>
              </a:rPr>
              <a:t>END DA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*Labe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33399"/>
                </a:solidFill>
                <a:latin typeface="Arial"/>
              </a:rPr>
              <a:t>VAR LAB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progr "Program pro seniory"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33399"/>
                </a:solidFill>
                <a:latin typeface="Arial"/>
              </a:rPr>
              <a:t>VAR LAB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domduch "Domovy důchodců – počet"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33399"/>
                </a:solidFill>
                <a:latin typeface="Arial"/>
              </a:rPr>
              <a:t>VAR LAB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vek "Průměrný věk"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33399"/>
                </a:solidFill>
                <a:latin typeface="Arial"/>
              </a:rPr>
              <a:t>VAR LAB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obyv "Počet obyvatel"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33399"/>
                </a:solidFill>
                <a:latin typeface="Arial"/>
              </a:rPr>
              <a:t>VAL LAB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prog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0 "Ne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 "Ano"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formát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čísel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(bez desetinného místa) a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typ proměnné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33399"/>
                </a:solidFill>
                <a:latin typeface="Arial"/>
              </a:rPr>
              <a:t>FORMAT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progr domduch vek obyv (f8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33399"/>
                </a:solidFill>
                <a:latin typeface="Arial"/>
              </a:rPr>
              <a:t>VARIABLE LEVEL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domduch vek obyv (scale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33883" b="70921"/>
          <a:stretch/>
        </p:blipFill>
        <p:spPr>
          <a:xfrm>
            <a:off x="4103640" y="4437000"/>
            <a:ext cx="5040360" cy="1273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0" r="61077" b="65461"/>
          <a:stretch/>
        </p:blipFill>
        <p:spPr>
          <a:xfrm>
            <a:off x="4427640" y="1557360"/>
            <a:ext cx="4716360" cy="24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8CA-ED1B-4915-A51C-BC40B01CA9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čtení tabelárních da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 agregované existující kontingenční tabulky (→ vážení procen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1268280"/>
            <a:ext cx="521964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****nacteni kontingencni tabulky aneb sekundarni analyza </a:t>
            </a:r>
            <a:r>
              <a:rPr b="0" lang="cs-CZ" sz="1700" spc="-1" strike="noStrike">
                <a:solidFill>
                  <a:srgbClr val="000000"/>
                </a:solidFill>
                <a:latin typeface="Courier New"/>
              </a:rPr>
              <a:t>(ČR, ISSP 2007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Courier New"/>
              </a:rPr>
              <a:t>DATA LIS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LIST/vek vzdel volil freq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Courier New"/>
              </a:rPr>
              <a:t>VAL LAB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vzdel 1 "ZŠ+VY" 2 "SŠ+VŠ" /  vek 1 "&lt;49" 2 "&gt;50" / volil 1</a:t>
            </a:r>
            <a:r>
              <a:rPr b="0" lang="cs-CZ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"nevolil" 2 "volil"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Courier New"/>
              </a:rPr>
              <a:t>BEGI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ourier New"/>
              </a:rPr>
              <a:t>1 1 1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13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ourier New"/>
              </a:rPr>
              <a:t>1 1 2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9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ourier New"/>
              </a:rPr>
              <a:t>1 2 1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1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ourier New"/>
              </a:rPr>
              <a:t>1 2 2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2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ourier New"/>
              </a:rPr>
              <a:t>2 1 1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14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ourier New"/>
              </a:rPr>
              <a:t>2 1 2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25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ourier New"/>
              </a:rPr>
              <a:t>2 2 1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5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ourier New"/>
              </a:rPr>
              <a:t>2 2 2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17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Courier New"/>
              </a:rPr>
              <a:t>END DATA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Courier New"/>
              </a:rPr>
              <a:t>FORMAT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vek vzdel volil freq (f8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ourier New"/>
              </a:rPr>
              <a:t>WEIGH</a:t>
            </a:r>
            <a:r>
              <a:rPr b="1" lang="cs-CZ" sz="1700" spc="-1" strike="noStrike">
                <a:solidFill>
                  <a:srgbClr val="333399"/>
                </a:solidFill>
                <a:latin typeface="Courier New"/>
              </a:rPr>
              <a:t>T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by freq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Courier New"/>
              </a:rPr>
              <a:t>CRO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vzdel by volil by ve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Courier New"/>
              </a:rPr>
              <a:t>CRO</a:t>
            </a:r>
            <a:r>
              <a:rPr b="0" lang="cs-CZ" sz="1700" spc="-1" strike="noStrike">
                <a:solidFill>
                  <a:srgbClr val="333399"/>
                </a:solidFill>
                <a:latin typeface="Courier New"/>
              </a:rPr>
              <a:t>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vzdel by voli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268280"/>
          <a:ext cx="3672000" cy="2881080"/>
        </p:xfrm>
        <a:graphic>
          <a:graphicData uri="http://schemas.openxmlformats.org/drawingml/2006/table">
            <a:tbl>
              <a:tblPr/>
              <a:tblGrid>
                <a:gridCol w="779400"/>
                <a:gridCol w="1087560"/>
                <a:gridCol w="1004760"/>
                <a:gridCol w="800280"/>
              </a:tblGrid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ě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evol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vol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&lt;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ZŠ+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Š+V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&gt;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ZŠ+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Š+V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4797360"/>
          <a:ext cx="3600360" cy="1862280"/>
        </p:xfrm>
        <a:graphic>
          <a:graphicData uri="http://schemas.openxmlformats.org/drawingml/2006/table">
            <a:tbl>
              <a:tblPr/>
              <a:tblGrid>
                <a:gridCol w="763560"/>
                <a:gridCol w="1066680"/>
                <a:gridCol w="986040"/>
                <a:gridCol w="7840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ě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nevol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vol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&lt;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ZŠ+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SŠ+V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cs-CZ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&gt;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ZŠ+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SŠ+V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24000" y="4292640"/>
            <a:ext cx="3600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3300"/>
                </a:solidFill>
                <a:latin typeface="Arial"/>
              </a:rPr>
              <a:t>Pozice pole v tabulce </a:t>
            </a:r>
            <a:br>
              <a:rPr sz="1600"/>
            </a:br>
            <a:r>
              <a:rPr b="0" lang="cs-CZ" sz="1100" spc="-1" strike="noStrike">
                <a:solidFill>
                  <a:srgbClr val="333399"/>
                </a:solidFill>
                <a:latin typeface="Arial"/>
              </a:rPr>
              <a:t>např.</a:t>
            </a:r>
            <a:r>
              <a:rPr b="1" lang="cs-CZ" sz="1100" spc="-1" strike="noStrike">
                <a:solidFill>
                  <a:srgbClr val="333399"/>
                </a:solidFill>
                <a:latin typeface="Arial"/>
              </a:rPr>
              <a:t> 121 </a:t>
            </a:r>
            <a:r>
              <a:rPr b="0" lang="cs-CZ" sz="1100" spc="-1" strike="noStrike">
                <a:solidFill>
                  <a:srgbClr val="333399"/>
                </a:solidFill>
                <a:latin typeface="Arial"/>
              </a:rPr>
              <a:t>znamená:</a:t>
            </a:r>
            <a:r>
              <a:rPr b="1" lang="cs-CZ" sz="1100" spc="-1" strike="noStrike">
                <a:solidFill>
                  <a:srgbClr val="333399"/>
                </a:solidFill>
                <a:latin typeface="Arial"/>
              </a:rPr>
              <a:t> 1. panel, 2. řádek, 1. sloup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3645000"/>
            <a:ext cx="2880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syntax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osstab_data_input.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6F9-8A70-4ED0-9C22-817AD4C0B9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račování někdy příště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formace o souboru: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ata File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60494" b="46863"/>
          <a:stretch/>
        </p:blipFill>
        <p:spPr>
          <a:xfrm>
            <a:off x="179280" y="1197000"/>
            <a:ext cx="4762440" cy="352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591000" cy="4077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5280" y="4869000"/>
            <a:ext cx="4537080" cy="184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64000" y="5661000"/>
            <a:ext cx="3780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az v syntaxu k vypsání dříve vložené informace o date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ISPLAY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2133720"/>
            <a:ext cx="151272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1484280"/>
            <a:ext cx="3384360" cy="1152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39B-393E-4847-84DD-0A6CF25CA4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ata File Comments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zápis v Syntax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 Data File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INT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ROP DOC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DD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'Výzkum studentů FHS HiSo a KŘS, LS 2011, únor-březen 2011, subpopulace: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'1. HISO AKD I. - denní, n=17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'2. HISO AKD I. - kombi, n=1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'3. KŘS Praktikum - Elem. analýzy dat, n=7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'Poslední úpravy 15/3/2011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ISPLAY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DOCU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EST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80360" cy="4968720"/>
          </a:xfrm>
          <a:prstGeom prst="rect">
            <a:avLst/>
          </a:prstGeom>
          <a:noFill/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796-CBA3-464D-836E-938EA2A646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: Informace o proměnný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ISPLAY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ICTIONA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/VARIABLES=v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hla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581360"/>
            <a:ext cx="3672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Y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B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VARIABLES=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2827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5538" r="16027" b="0"/>
          <a:stretch/>
        </p:blipFill>
        <p:spPr>
          <a:xfrm>
            <a:off x="4067280" y="3716280"/>
            <a:ext cx="4897440" cy="3141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31280" y="1341360"/>
            <a:ext cx="1512720" cy="720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2349360"/>
            <a:ext cx="5400360" cy="129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ICTIONARY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1" lang="cs-CZ" sz="1600" spc="-1" strike="noStrike">
                <a:solidFill>
                  <a:srgbClr val="990000"/>
                </a:solidFill>
                <a:latin typeface="Arial"/>
              </a:rPr>
              <a:t>vypíše označení hodnot proměnné (</a:t>
            </a:r>
            <a:r>
              <a:rPr b="1" lang="cs-CZ" sz="1600" spc="-1" strike="noStrike" u="sng">
                <a:solidFill>
                  <a:srgbClr val="990000"/>
                </a:solidFill>
                <a:uFillTx/>
                <a:latin typeface="Arial"/>
              </a:rPr>
              <a:t>Value Labels</a:t>
            </a:r>
            <a:r>
              <a:rPr b="1" lang="cs-CZ" sz="1600" spc="-1" strike="noStrike">
                <a:solidFill>
                  <a:srgbClr val="990000"/>
                </a:solidFill>
                <a:latin typeface="Arial"/>
              </a:rPr>
              <a:t>), názvy proměnných (Variable Labels), formáty a Missingové hodno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LABE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1" lang="cs-CZ" sz="1600" spc="-1" strike="noStrike">
                <a:solidFill>
                  <a:srgbClr val="990000"/>
                </a:solidFill>
                <a:latin typeface="Arial"/>
              </a:rPr>
              <a:t>vypíše označení názvu proměnných (Variable Lab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4508640"/>
            <a:ext cx="3168720" cy="1008000"/>
          </a:xfrm>
          <a:prstGeom prst="rect">
            <a:avLst/>
          </a:prstGeom>
          <a:noFill/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2C6-0673-4EBE-87B3-7B65700947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TASET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áce s více datovými soubory otevřenými najedn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ouze v SP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ATASET - Práce s více datovými soubory otevřenými najedn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ouze v SP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SPSS od verze 14 lze pracovat s více soubory otevřenými najednou pomocí DATASET příkazů (DATASET NAME, DATASET ACTIVATE, DATASET DECLARE, DATASET COPY, DATASET CLO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ožňují mít otevřeno vícero souborů najednou a pomocí jejich relativních jmen je ovládat – postupně aktivovat. Můžeme tak spojovat data, kopírovat případy, proměnné nebo vlastnosti proměnných mezi soub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ovládání v syntaxu nejprve definujeme jejich pracovní jméno: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DATASET NA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mén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to můžeme otevřít a pojmenovat více soubor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 pak můžeme vyvolávat pro určitou operaci pomocí: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DATASET ACTIVAT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mén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také je zavírat pomocí: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DATASET CLO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mén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3AC-76C7-4A5A-A435-38770ACFA6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ATASET v men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765440" cy="396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68360" y="981000"/>
            <a:ext cx="3591000" cy="120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76440" y="4581360"/>
            <a:ext cx="7789680" cy="109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71640" y="3573360"/>
            <a:ext cx="4824720" cy="719280"/>
          </a:xfrm>
          <a:prstGeom prst="wedgeRoundRectCallout">
            <a:avLst>
              <a:gd name="adj1" fmla="val 60365"/>
              <a:gd name="adj2" fmla="val 145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více otevřenými soubory lze přepínat → na aktivním budou provedeny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57340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v syntaxu: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ATASET ACTIVA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nihy_F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55840" y="1401840"/>
            <a:ext cx="42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2349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v syntaxu: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ATASET NAME</a:t>
            </a:r>
            <a:r>
              <a:rPr b="1" lang="cs-CZ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y_F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9640" y="1125360"/>
            <a:ext cx="2556000" cy="1008360"/>
          </a:xfrm>
          <a:prstGeom prst="wedgeRoundRectCallout">
            <a:avLst>
              <a:gd name="adj1" fmla="val -147824"/>
              <a:gd name="adj2" fmla="val -700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otevření souboru mu můžeme přiřadit pracovní jmé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059280" y="2990880"/>
            <a:ext cx="4171680" cy="43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451640" y="5013360"/>
            <a:ext cx="1513080" cy="86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2852640"/>
            <a:ext cx="86364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12D-E903-4521-BC20-3FCEC927CE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ATASE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ři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jování souborů (MATCH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0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GET FIL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'data1.sav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DATASET NA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bor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ORT CAS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Y 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GET FIL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'data2.sav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ORT CAS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Y 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DATASET NA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bor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GET DA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/TYPE=X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/FILE='data3excel.xls'.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/* varianta otevírání dat při exportu z Excel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ORT CAS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Y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ATCH FIL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ILE=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/FILE=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bor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/FILE=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bor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/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D.  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/* hvězdičkou (</a:t>
            </a:r>
            <a:r>
              <a:rPr b="0" lang="cs-CZ" sz="1800" spc="-1" strike="noStrike">
                <a:solidFill>
                  <a:srgbClr val="990000"/>
                </a:solidFill>
                <a:latin typeface="Arial Narrow"/>
              </a:rPr>
              <a:t>*</a:t>
            </a: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) je označen aktivní soubor 3 do nějž se přihrávají soubory 1 a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AVE OUTFIL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'data123.sav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je, že postupně otevřeme a pojmenujeme více souborů, které pak přihrajeme-spojíme do jednoho aktivního (např. posledního otevřenéh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propojování souborů lze provádět i pomocí jejich načítání z adresáře, tj. odkazem přímo na soubor(y) a jeho cestu v adresáří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197000"/>
            <a:ext cx="8569080" cy="4176720"/>
          </a:xfrm>
          <a:prstGeom prst="rect">
            <a:avLst/>
          </a:prstGeom>
          <a:noFill/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359-11E6-4231-9A22-08250F7269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TASET DECL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3880" y="1125360"/>
            <a:ext cx="8436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DATASET DECLAR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í pracovní jméno pro nový datový soubor (dataset name) v součinnosti s příkazy, které vytváří jako output nové datové soubory (PASW Statistics data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tečné, tam kde nám stač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oření pouze prozatímního (temporary) souboru da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jenom v průběhu běhu programu), nejčastěji jako mezistupeň nějaké analýzy, např. matice distancí, s níž vstupujeme do MDS (tento soubor pak můžeme, ale nemusíme pojmenovat a uložit).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DATASET DECLAR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corrmatrix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REGRESS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/DEPENDENT=var1 /METHOD=ENTER= var2 to var10 /OUTFILE=CORB(</a:t>
            </a:r>
            <a:r>
              <a:rPr b="0" lang="cs-CZ" sz="2400" spc="-1" strike="noStrike">
                <a:solidFill>
                  <a:srgbClr val="990000"/>
                </a:solidFill>
                <a:latin typeface="Arial"/>
              </a:rPr>
              <a:t>corrmatrix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941720"/>
            <a:ext cx="7993080" cy="1295640"/>
          </a:xfrm>
          <a:prstGeom prst="rect">
            <a:avLst/>
          </a:prstGeom>
          <a:noFill/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36C-7D81-4D89-836A-B50B4AEE01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35:20Z</dcterms:created>
  <dc:creator>Jiri Safr</dc:creator>
  <dc:description/>
  <dc:language>en-US</dc:language>
  <cp:lastModifiedBy>Jiri Safr</cp:lastModifiedBy>
  <dcterms:modified xsi:type="dcterms:W3CDTF">2014-04-14T00:23:26Z</dcterms:modified>
  <cp:revision>130</cp:revision>
  <dc:subject/>
  <dc:title>Data management v SPSS/PSPP</dc:title>
</cp:coreProperties>
</file>