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32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6CF-FA3F-4596-81BB-DFC0A86A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0AA9-7030-4BB8-B47A-A7D91418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BEC-2D11-4F93-B462-7AC95C21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83E-80C8-48F4-BB8C-F4770DEB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BFCA-8C3C-43E6-8EB9-B9F84AC5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DDE-10FC-43FD-B9E9-858577EE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536-3795-48D7-843A-5589269D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B50-00B9-41FC-92E5-723FC7A0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CAD-378A-4087-A242-F0252DC5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1F9-0795-473B-8598-0152C346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6A4-8A3F-426C-8834-CB1147E6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489-31D4-481C-9E32-86FA9B6E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A8E6-791F-412B-9F0A-5F6537A51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metodykv.wz.cz/QDA1_crosstab2multivar.ppt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metodykv.wz.cz/AKD1_kontg_tab3st_uvod.ppt" TargetMode="Externa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metodykv.wz.cz/tabulky_intepretace_prezentace.pdf" TargetMode="Externa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8280"/>
            <a:ext cx="8497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ýza kvantitativních dat I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Praktikum elementární analýzy da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852280"/>
            <a:ext cx="77040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Kontingenční tabulk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nalýza kategoriálních 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Úvod. Třídění 2. stupn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iří Ša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iri.safr(zavináč)seznam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6381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ytvořeno 29. 6. 2009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990000"/>
                </a:solidFill>
                <a:latin typeface="Arial"/>
              </a:rPr>
              <a:t>poslední aktualizace </a:t>
            </a:r>
            <a:r>
              <a:rPr b="1" lang="cs-CZ" sz="1400" spc="-1" strike="noStrike">
                <a:solidFill>
                  <a:srgbClr val="990000"/>
                </a:solidFill>
                <a:latin typeface="Arial"/>
              </a:rPr>
              <a:t>22/4/2015</a:t>
            </a:r>
            <a:r>
              <a:rPr b="1" lang="cs-CZ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16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444600"/>
            <a:ext cx="784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UK F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Historická sociologie a Řízení a superv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(2011, 2012, 2013, 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terou nemocnici byste si vybra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708280"/>
          <a:ext cx="8761320" cy="143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876132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39640" y="6093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[Campanelli 200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EAB-7998-49FB-AE69-39E8217DA0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ednorozměrn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stribuce případů pro jednu proměnnou (otázku v dotazníku) pro celkovou popul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orozměrná analýza – tabulka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centní základ a chybějící hodn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72360" y="6583320"/>
            <a:ext cx="19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[Babbie 1997: 37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416720" cy="3989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170028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ulka 1. Zastoupení manažerů podle věku, procenta, hypotetická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C37-5120-4EED-AF22-277C285D26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ění 1. stupně pro kategoriální znak v SPSS 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FREQUENCIE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→ základní příkaz, vytvář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abulky třídění prvního stupně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ro hodnoty znaku): absolutní četnosti, procenta z celku (vč. nevalidních a chybějících hodnot), validní procenta (pouze ze základu platných hodnot) a kumulativní procenta) → vhodné pro kategoriální zna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FREQUENCI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zd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í ale i další statistiky, většinou pro kardinální číselné znaky (např. střední hodnoty a variance: modus, průměr, medián, směrodatná odchylka ) i jednoduché grafy (histogram, barchart) a určení mezí kvantilů (např. tercilů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333399"/>
                </a:solidFill>
                <a:latin typeface="Arial"/>
              </a:rPr>
              <a:t>FREQUENCIES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ek /</a:t>
            </a:r>
            <a:r>
              <a:rPr b="0" lang="cs-CZ" sz="2200" spc="-1" strike="noStrike">
                <a:solidFill>
                  <a:srgbClr val="006600"/>
                </a:solidFill>
                <a:latin typeface="Arial"/>
              </a:rPr>
              <a:t>STATISTICS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990000"/>
                </a:solidFill>
                <a:latin typeface="Arial"/>
              </a:rPr>
              <a:t>MEDIAN MEAN STDDEV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200" spc="-1" strike="noStrike">
                <a:solidFill>
                  <a:srgbClr val="990000"/>
                </a:solidFill>
                <a:latin typeface="Arial"/>
              </a:rPr>
              <a:t>HISTOGRA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00"/>
                </a:solidFill>
                <a:latin typeface="Arial"/>
              </a:rPr>
              <a:t>/NTILES=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SPSS jsou i jiné příkazy, které vytvoří tabulku třídění 1.stupně (např. Custom Tab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B84-BA41-4400-A9AC-540819EA7E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vourozměrná analýz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ategoriálních zna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57336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tah dvou kategoriálních proměnných → porovnání podsku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vliv nezávislé na závislou proměnn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obný princip používáme, pokud je závislá proměnná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kardinální (číselná)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nezávislá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kategoriál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→ porovnáváme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průměry v podskupinách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38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Čtyřpolní (2x2) tabulka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– nejjednodušší situac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obě proměnné jsou dichotomick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39560" y="2095560"/>
            <a:ext cx="8266320" cy="2666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Čtyřpolní (2x2) tabul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658332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Lamser, Růžička 1970: 26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5734080"/>
            <a:ext cx="367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Marginální (okrajové) če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5734080"/>
            <a:ext cx="3095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Celkový počet pozor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716360" y="4797360"/>
            <a:ext cx="144720" cy="93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716360" y="3644640"/>
            <a:ext cx="2664000" cy="2089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524720" y="4581360"/>
            <a:ext cx="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F2EB-A09F-4A71-A250-6AB8BF7122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93720" y="438120"/>
            <a:ext cx="5956560" cy="6419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prve příklad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Procenta v 2x2 tabulce → porovnání subpopula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20000" y="6583320"/>
            <a:ext cx="19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Babbie 1997: 386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85080" y="3573360"/>
            <a:ext cx="21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cc3300"/>
                </a:solidFill>
                <a:latin typeface="Arial"/>
              </a:rPr>
              <a:t>nezávislá</a:t>
            </a:r>
            <a:r>
              <a:rPr b="0" lang="cs-CZ" sz="1600" spc="-1" strike="noStrike">
                <a:solidFill>
                  <a:srgbClr val="cc3300"/>
                </a:solidFill>
                <a:latin typeface="Arial"/>
              </a:rPr>
              <a:t> proměnná (</a:t>
            </a:r>
            <a:r>
              <a:rPr b="0" i="1" lang="cs-CZ" sz="1600" spc="-1" strike="noStrike">
                <a:solidFill>
                  <a:srgbClr val="cc3300"/>
                </a:solidFill>
                <a:latin typeface="Arial"/>
              </a:rPr>
              <a:t>pohlaví</a:t>
            </a:r>
            <a:r>
              <a:rPr b="0" lang="cs-CZ" sz="16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28000" y="69228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cc3300"/>
                </a:solidFill>
                <a:latin typeface="Arial"/>
              </a:rPr>
              <a:t>závislá</a:t>
            </a:r>
            <a:r>
              <a:rPr b="0" lang="cs-CZ" sz="1600" spc="-1" strike="noStrike">
                <a:solidFill>
                  <a:srgbClr val="cc3300"/>
                </a:solidFill>
                <a:latin typeface="Arial"/>
              </a:rPr>
              <a:t> proměnná (</a:t>
            </a:r>
            <a:r>
              <a:rPr b="0" i="1" lang="cs-CZ" sz="1600" spc="-1" strike="noStrike">
                <a:solidFill>
                  <a:srgbClr val="cc3300"/>
                </a:solidFill>
                <a:latin typeface="Arial"/>
              </a:rPr>
              <a:t>genderová rovnost</a:t>
            </a:r>
            <a:r>
              <a:rPr b="0" lang="cs-CZ" sz="16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4360" y="5877000"/>
            <a:ext cx="27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[Babbie 1995: 386-387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260280"/>
            <a:ext cx="8713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stup: uvnitř každé skupiny podle genderu oddělíme ty, kdo jsou pro rovnoprávnost a ty kdo jsou proti (→ závislá proměnná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852560"/>
            <a:ext cx="7354800" cy="3152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95640" y="1557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ž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1557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ž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9EA-740D-4E38-9908-F7BF89EEC7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0320" y="88920"/>
            <a:ext cx="8618400" cy="6486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20000" y="6583320"/>
            <a:ext cx="19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Babbie 1997: 38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08720" y="5229360"/>
            <a:ext cx="35892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4076640"/>
            <a:ext cx="20160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Rozdíl je 20 procentních bod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4076640"/>
            <a:ext cx="41036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Sloupcová procenta → pro muže a ženy zvláš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9666-C673-42A2-8A1F-A78F15B118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640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ulk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metoda popisu dat a vztahů mezi proměnný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dnorozměrná analýza (třídění 1. stupně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vou a vícerozměrná analýz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→ Kontingenční tabul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pořádání tabulky a její interpre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ntingenční tabulka v SPS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→ CROSST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vidla pro tvorbu a prezentaci tabu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409-7C8F-4EF2-B4CF-4795976C43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ativní četnosti – procent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 kontingenční tabul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loupcov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četnosti = součet v každém sloupci reprezentuje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řádkov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četnosti = součet v každém řádku reprezentuje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ují tak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kov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nta z celé tabulk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 políčko z celku), ty ale pro interpretaci vztahů nepoužívá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tabulce jsou tak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gináln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krajové) četnosti → třídění prvního stupně pro jeden znak (záleží na tom, zda jde o řádková nebo sloupcová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C4E-A506-4344-95FF-3E81E8842A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tingenční tabul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tuaci čtyřpolní (2 x 2) tabulky můžeme zobecnit jako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např. 2 x 3 nebo 3 x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interpretaci je pak pouze důležité, zda jsou jedna nebo obě proměnné nominální nebo ordinál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tegoriál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aky mohou v zásadě bý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dichotomické →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0/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např. volil/nevoli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multinominální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→ více jak 2 nominální kategor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např. Studium: HiSo-denní / HiSo-kombi / KŘS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ordinální →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áme pořadí kategorií </a:t>
            </a:r>
            <a:br>
              <a:rPr sz="26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např. Vzdělání: 1. ZŠ, 2. VY, 3. SŠ, 4. VŠ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E6F-B75F-4029-AC3A-543616B7B2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713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ed sestavením kontingenční tabulky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ždy nejprve formulujte 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výzkumnou otázk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řípadně i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ypotéz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→ Ta definuje 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závislo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nezávislo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oměnnou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případně i další – kontrolní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50920" y="1700280"/>
          <a:ext cx="8604000" cy="3816360"/>
        </p:xfrm>
        <a:graphic>
          <a:graphicData uri="http://schemas.openxmlformats.org/drawingml/2006/table">
            <a:tbl>
              <a:tblPr/>
              <a:tblGrid>
                <a:gridCol w="2184480"/>
                <a:gridCol w="2207880"/>
                <a:gridCol w="1297080"/>
                <a:gridCol w="1150920"/>
                <a:gridCol w="176364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NEZÁVISLÁ - vysvětlujíc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09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ZÁVISLÁ - vysvětlovan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lav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koje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ový souč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nespokojen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 % 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%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 % 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%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spokoj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%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 % (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ový souč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% (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 % (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353880" y="260280"/>
            <a:ext cx="843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pořádání kontingenční tabulky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pcov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nta: </a:t>
            </a:r>
            <a:br>
              <a:rPr sz="2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 kategoriích nezávislé proměnné ukazujeme kompletní (100 %) distribuci závislé proměn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805360"/>
            <a:ext cx="858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častěji bývá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ávisl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měnná nalevo v řádcích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závisl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ysvětlující) ve sloupcích →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upcová procen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24200" y="2741760"/>
            <a:ext cx="2544840" cy="785520"/>
          </a:xfrm>
          <a:custGeom>
            <a:avLst/>
            <a:gdLst/>
            <a:ahLst/>
            <a:rect l="l" t="t" r="r" b="b"/>
            <a:pathLst>
              <a:path w="7071" h="2184">
                <a:moveTo>
                  <a:pt x="17414" y="8385"/>
                </a:moveTo>
                <a:cubicBezTo>
                  <a:pt x="17354" y="8376"/>
                  <a:pt x="17299" y="8369"/>
                  <a:pt x="17240" y="8360"/>
                </a:cubicBezTo>
                <a:cubicBezTo>
                  <a:pt x="17173" y="8350"/>
                  <a:pt x="17085" y="8349"/>
                  <a:pt x="17017" y="8335"/>
                </a:cubicBezTo>
                <a:cubicBezTo>
                  <a:pt x="16920" y="8315"/>
                  <a:pt x="16789" y="8266"/>
                  <a:pt x="16694" y="8236"/>
                </a:cubicBezTo>
                <a:cubicBezTo>
                  <a:pt x="16590" y="8203"/>
                  <a:pt x="16477" y="8165"/>
                  <a:pt x="16372" y="8137"/>
                </a:cubicBezTo>
                <a:cubicBezTo>
                  <a:pt x="16251" y="8104"/>
                  <a:pt x="16143" y="8073"/>
                  <a:pt x="16024" y="8038"/>
                </a:cubicBezTo>
                <a:cubicBezTo>
                  <a:pt x="15914" y="8005"/>
                  <a:pt x="15792" y="7993"/>
                  <a:pt x="15677" y="7963"/>
                </a:cubicBezTo>
                <a:cubicBezTo>
                  <a:pt x="15574" y="7936"/>
                  <a:pt x="15487" y="7886"/>
                  <a:pt x="15380" y="7864"/>
                </a:cubicBezTo>
                <a:cubicBezTo>
                  <a:pt x="15274" y="7842"/>
                  <a:pt x="15164" y="7835"/>
                  <a:pt x="15057" y="7814"/>
                </a:cubicBezTo>
                <a:cubicBezTo>
                  <a:pt x="14963" y="7796"/>
                  <a:pt x="14877" y="7773"/>
                  <a:pt x="14784" y="7765"/>
                </a:cubicBezTo>
                <a:cubicBezTo>
                  <a:pt x="14674" y="7755"/>
                  <a:pt x="14556" y="7725"/>
                  <a:pt x="14462" y="7715"/>
                </a:cubicBezTo>
                <a:cubicBezTo>
                  <a:pt x="14274" y="7695"/>
                  <a:pt x="14064" y="7684"/>
                  <a:pt x="13891" y="7665"/>
                </a:cubicBezTo>
                <a:cubicBezTo>
                  <a:pt x="13681" y="7642"/>
                  <a:pt x="13449" y="7632"/>
                  <a:pt x="13246" y="7616"/>
                </a:cubicBezTo>
                <a:cubicBezTo>
                  <a:pt x="12703" y="7572"/>
                  <a:pt x="12027" y="7554"/>
                  <a:pt x="11510" y="7665"/>
                </a:cubicBezTo>
                <a:cubicBezTo>
                  <a:pt x="11431" y="7682"/>
                  <a:pt x="11389" y="7678"/>
                  <a:pt x="11311" y="7715"/>
                </a:cubicBezTo>
                <a:cubicBezTo>
                  <a:pt x="11253" y="7743"/>
                  <a:pt x="11214" y="7783"/>
                  <a:pt x="11163" y="7814"/>
                </a:cubicBezTo>
                <a:cubicBezTo>
                  <a:pt x="11119" y="7840"/>
                  <a:pt x="11060" y="7893"/>
                  <a:pt x="11039" y="7914"/>
                </a:cubicBezTo>
                <a:cubicBezTo>
                  <a:pt x="11026" y="7927"/>
                  <a:pt x="10967" y="8008"/>
                  <a:pt x="10964" y="8013"/>
                </a:cubicBezTo>
                <a:cubicBezTo>
                  <a:pt x="10948" y="8040"/>
                  <a:pt x="10929" y="8081"/>
                  <a:pt x="10915" y="8112"/>
                </a:cubicBezTo>
                <a:cubicBezTo>
                  <a:pt x="10900" y="8146"/>
                  <a:pt x="10882" y="8176"/>
                  <a:pt x="10865" y="8211"/>
                </a:cubicBezTo>
                <a:cubicBezTo>
                  <a:pt x="10838" y="8266"/>
                  <a:pt x="10824" y="8326"/>
                  <a:pt x="10790" y="8385"/>
                </a:cubicBezTo>
                <a:cubicBezTo>
                  <a:pt x="10765" y="8428"/>
                  <a:pt x="10740" y="8469"/>
                  <a:pt x="10716" y="8509"/>
                </a:cubicBezTo>
                <a:cubicBezTo>
                  <a:pt x="10693" y="8547"/>
                  <a:pt x="10661" y="8590"/>
                  <a:pt x="10642" y="8633"/>
                </a:cubicBezTo>
                <a:cubicBezTo>
                  <a:pt x="10630" y="8661"/>
                  <a:pt x="10595" y="8725"/>
                  <a:pt x="10592" y="8732"/>
                </a:cubicBezTo>
                <a:cubicBezTo>
                  <a:pt x="10574" y="8777"/>
                  <a:pt x="10555" y="8856"/>
                  <a:pt x="10542" y="8906"/>
                </a:cubicBezTo>
                <a:cubicBezTo>
                  <a:pt x="10529" y="8957"/>
                  <a:pt x="10527" y="9005"/>
                  <a:pt x="10518" y="9055"/>
                </a:cubicBezTo>
                <a:cubicBezTo>
                  <a:pt x="10511" y="9092"/>
                  <a:pt x="10500" y="9114"/>
                  <a:pt x="10493" y="9154"/>
                </a:cubicBezTo>
                <a:cubicBezTo>
                  <a:pt x="10482" y="9216"/>
                  <a:pt x="10485" y="9292"/>
                  <a:pt x="10468" y="9352"/>
                </a:cubicBezTo>
                <a:cubicBezTo>
                  <a:pt x="10454" y="9399"/>
                  <a:pt x="10433" y="9453"/>
                  <a:pt x="10418" y="9501"/>
                </a:cubicBezTo>
                <a:cubicBezTo>
                  <a:pt x="10407" y="9536"/>
                  <a:pt x="10406" y="9566"/>
                  <a:pt x="10394" y="9600"/>
                </a:cubicBezTo>
                <a:cubicBezTo>
                  <a:pt x="10394" y="9592"/>
                  <a:pt x="10394" y="9584"/>
                  <a:pt x="10394" y="9576"/>
                </a:cubicBezTo>
              </a:path>
              <a:path w="7071" h="2184">
                <a:moveTo>
                  <a:pt x="10344" y="9080"/>
                </a:moveTo>
                <a:cubicBezTo>
                  <a:pt x="10344" y="9320"/>
                  <a:pt x="10344" y="9559"/>
                  <a:pt x="10344" y="9799"/>
                </a:cubicBezTo>
                <a:cubicBezTo>
                  <a:pt x="10379" y="9787"/>
                  <a:pt x="10375" y="9751"/>
                  <a:pt x="10418" y="9724"/>
                </a:cubicBezTo>
                <a:cubicBezTo>
                  <a:pt x="10480" y="9685"/>
                  <a:pt x="10513" y="9645"/>
                  <a:pt x="10567" y="9600"/>
                </a:cubicBezTo>
                <a:cubicBezTo>
                  <a:pt x="10622" y="9554"/>
                  <a:pt x="10702" y="9529"/>
                  <a:pt x="10766" y="9476"/>
                </a:cubicBezTo>
                <a:cubicBezTo>
                  <a:pt x="10808" y="9441"/>
                  <a:pt x="10863" y="9398"/>
                  <a:pt x="10915" y="9377"/>
                </a:cubicBezTo>
                <a:cubicBezTo>
                  <a:pt x="10923" y="9377"/>
                  <a:pt x="10931" y="9377"/>
                  <a:pt x="10939" y="93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F7A-B515-41E3-AB97-26932DA139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50920" y="1700280"/>
          <a:ext cx="8603640" cy="3816000"/>
        </p:xfrm>
        <a:graphic>
          <a:graphicData uri="http://schemas.openxmlformats.org/drawingml/2006/table">
            <a:tbl>
              <a:tblPr/>
              <a:tblGrid>
                <a:gridCol w="2184480"/>
                <a:gridCol w="2351160"/>
                <a:gridCol w="1153080"/>
                <a:gridCol w="1151640"/>
                <a:gridCol w="1763280"/>
              </a:tblGrid>
              <a:tr h="60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20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hlav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koje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ový souč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nespokojen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(71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(29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(100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(83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27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(100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spokoj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(25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(75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(100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ový souč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(100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logické uspořádání tabul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43200" y="2938320"/>
            <a:ext cx="2706840" cy="608040"/>
          </a:xfrm>
          <a:custGeom>
            <a:avLst/>
            <a:gdLst/>
            <a:ahLst/>
            <a:rect l="l" t="t" r="r" b="b"/>
            <a:pathLst>
              <a:path w="7517" h="1688">
                <a:moveTo>
                  <a:pt x="10121" y="9849"/>
                </a:moveTo>
                <a:cubicBezTo>
                  <a:pt x="10149" y="9787"/>
                  <a:pt x="10150" y="9740"/>
                  <a:pt x="10195" y="9675"/>
                </a:cubicBezTo>
                <a:cubicBezTo>
                  <a:pt x="10203" y="9664"/>
                  <a:pt x="10246" y="9623"/>
                  <a:pt x="10270" y="9600"/>
                </a:cubicBezTo>
                <a:cubicBezTo>
                  <a:pt x="10321" y="9552"/>
                  <a:pt x="10359" y="9521"/>
                  <a:pt x="10418" y="9476"/>
                </a:cubicBezTo>
                <a:cubicBezTo>
                  <a:pt x="10444" y="9456"/>
                  <a:pt x="10500" y="9403"/>
                  <a:pt x="10542" y="9377"/>
                </a:cubicBezTo>
                <a:cubicBezTo>
                  <a:pt x="10582" y="9352"/>
                  <a:pt x="10640" y="9296"/>
                  <a:pt x="10666" y="9278"/>
                </a:cubicBezTo>
                <a:cubicBezTo>
                  <a:pt x="10747" y="9221"/>
                  <a:pt x="10823" y="9174"/>
                  <a:pt x="10915" y="9129"/>
                </a:cubicBezTo>
                <a:cubicBezTo>
                  <a:pt x="10989" y="9093"/>
                  <a:pt x="11065" y="9068"/>
                  <a:pt x="11138" y="9030"/>
                </a:cubicBezTo>
                <a:cubicBezTo>
                  <a:pt x="11242" y="8976"/>
                  <a:pt x="11323" y="8948"/>
                  <a:pt x="11435" y="8906"/>
                </a:cubicBezTo>
                <a:cubicBezTo>
                  <a:pt x="11587" y="8849"/>
                  <a:pt x="11732" y="8785"/>
                  <a:pt x="11882" y="8732"/>
                </a:cubicBezTo>
                <a:cubicBezTo>
                  <a:pt x="11972" y="8700"/>
                  <a:pt x="12075" y="8669"/>
                  <a:pt x="12155" y="8633"/>
                </a:cubicBezTo>
                <a:cubicBezTo>
                  <a:pt x="12252" y="8590"/>
                  <a:pt x="12333" y="8566"/>
                  <a:pt x="12428" y="8534"/>
                </a:cubicBezTo>
                <a:cubicBezTo>
                  <a:pt x="12506" y="8508"/>
                  <a:pt x="12597" y="8449"/>
                  <a:pt x="12676" y="8435"/>
                </a:cubicBezTo>
                <a:cubicBezTo>
                  <a:pt x="12805" y="8413"/>
                  <a:pt x="12976" y="8398"/>
                  <a:pt x="13097" y="8385"/>
                </a:cubicBezTo>
                <a:cubicBezTo>
                  <a:pt x="13191" y="8375"/>
                  <a:pt x="13290" y="8344"/>
                  <a:pt x="13370" y="8335"/>
                </a:cubicBezTo>
                <a:cubicBezTo>
                  <a:pt x="13940" y="8267"/>
                  <a:pt x="14571" y="8343"/>
                  <a:pt x="15131" y="8310"/>
                </a:cubicBezTo>
                <a:cubicBezTo>
                  <a:pt x="15835" y="8268"/>
                  <a:pt x="16693" y="8310"/>
                  <a:pt x="17314" y="8310"/>
                </a:cubicBezTo>
              </a:path>
              <a:path w="7517" h="1688">
                <a:moveTo>
                  <a:pt x="16595" y="8162"/>
                </a:moveTo>
                <a:cubicBezTo>
                  <a:pt x="16709" y="8162"/>
                  <a:pt x="16817" y="8167"/>
                  <a:pt x="16917" y="8186"/>
                </a:cubicBezTo>
                <a:cubicBezTo>
                  <a:pt x="17099" y="8221"/>
                  <a:pt x="17379" y="8119"/>
                  <a:pt x="17538" y="8211"/>
                </a:cubicBezTo>
                <a:cubicBezTo>
                  <a:pt x="17565" y="8227"/>
                  <a:pt x="17662" y="8261"/>
                  <a:pt x="17612" y="8261"/>
                </a:cubicBezTo>
                <a:cubicBezTo>
                  <a:pt x="17560" y="8261"/>
                  <a:pt x="17559" y="8275"/>
                  <a:pt x="17538" y="8286"/>
                </a:cubicBezTo>
                <a:cubicBezTo>
                  <a:pt x="17465" y="8323"/>
                  <a:pt x="17328" y="8238"/>
                  <a:pt x="17265" y="8310"/>
                </a:cubicBezTo>
                <a:cubicBezTo>
                  <a:pt x="17245" y="8333"/>
                  <a:pt x="17229" y="8337"/>
                  <a:pt x="17190" y="8360"/>
                </a:cubicBezTo>
                <a:cubicBezTo>
                  <a:pt x="17132" y="8394"/>
                  <a:pt x="17153" y="8410"/>
                  <a:pt x="17091" y="8410"/>
                </a:cubicBezTo>
                <a:cubicBezTo>
                  <a:pt x="17041" y="8410"/>
                  <a:pt x="17033" y="8421"/>
                  <a:pt x="16992" y="8435"/>
                </a:cubicBezTo>
                <a:cubicBezTo>
                  <a:pt x="16952" y="8448"/>
                  <a:pt x="16912" y="8450"/>
                  <a:pt x="16893" y="8459"/>
                </a:cubicBezTo>
                <a:cubicBezTo>
                  <a:pt x="16814" y="8497"/>
                  <a:pt x="16540" y="8395"/>
                  <a:pt x="16496" y="8484"/>
                </a:cubicBezTo>
                <a:cubicBezTo>
                  <a:pt x="16496" y="8492"/>
                  <a:pt x="16496" y="8501"/>
                  <a:pt x="16496" y="8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49960" y="3902040"/>
            <a:ext cx="411120" cy="1216080"/>
          </a:xfrm>
          <a:custGeom>
            <a:avLst/>
            <a:gdLst/>
            <a:ahLst/>
            <a:rect l="l" t="t" r="r" b="b"/>
            <a:pathLst>
              <a:path w="1142" h="3375">
                <a:moveTo>
                  <a:pt x="16000" y="10915"/>
                </a:moveTo>
                <a:cubicBezTo>
                  <a:pt x="15988" y="10963"/>
                  <a:pt x="15988" y="11016"/>
                  <a:pt x="15975" y="11064"/>
                </a:cubicBezTo>
                <a:cubicBezTo>
                  <a:pt x="15958" y="11124"/>
                  <a:pt x="15928" y="11181"/>
                  <a:pt x="15900" y="11238"/>
                </a:cubicBezTo>
                <a:cubicBezTo>
                  <a:pt x="15837" y="11368"/>
                  <a:pt x="15799" y="11499"/>
                  <a:pt x="15752" y="11635"/>
                </a:cubicBezTo>
                <a:cubicBezTo>
                  <a:pt x="15700" y="11785"/>
                  <a:pt x="15631" y="11911"/>
                  <a:pt x="15578" y="12056"/>
                </a:cubicBezTo>
                <a:cubicBezTo>
                  <a:pt x="15525" y="12201"/>
                  <a:pt x="15458" y="12338"/>
                  <a:pt x="15404" y="12478"/>
                </a:cubicBezTo>
                <a:cubicBezTo>
                  <a:pt x="15348" y="12625"/>
                  <a:pt x="15271" y="12774"/>
                  <a:pt x="15231" y="12925"/>
                </a:cubicBezTo>
                <a:cubicBezTo>
                  <a:pt x="15194" y="13064"/>
                  <a:pt x="15168" y="13207"/>
                  <a:pt x="15131" y="13346"/>
                </a:cubicBezTo>
                <a:cubicBezTo>
                  <a:pt x="15109" y="13427"/>
                  <a:pt x="15088" y="13546"/>
                  <a:pt x="15057" y="13619"/>
                </a:cubicBezTo>
                <a:cubicBezTo>
                  <a:pt x="15016" y="13714"/>
                  <a:pt x="14980" y="13799"/>
                  <a:pt x="14958" y="13892"/>
                </a:cubicBezTo>
                <a:cubicBezTo>
                  <a:pt x="14947" y="13940"/>
                  <a:pt x="14947" y="13994"/>
                  <a:pt x="14933" y="14041"/>
                </a:cubicBezTo>
                <a:cubicBezTo>
                  <a:pt x="14921" y="14081"/>
                  <a:pt x="14901" y="14103"/>
                  <a:pt x="14883" y="14140"/>
                </a:cubicBezTo>
                <a:cubicBezTo>
                  <a:pt x="14866" y="14175"/>
                  <a:pt x="14883" y="14191"/>
                  <a:pt x="14859" y="14215"/>
                </a:cubicBezTo>
                <a:cubicBezTo>
                  <a:pt x="14859" y="14207"/>
                  <a:pt x="14859" y="14198"/>
                  <a:pt x="14859" y="14190"/>
                </a:cubicBezTo>
              </a:path>
              <a:path w="1142" h="3375">
                <a:moveTo>
                  <a:pt x="14933" y="10841"/>
                </a:moveTo>
                <a:cubicBezTo>
                  <a:pt x="14914" y="10922"/>
                  <a:pt x="14910" y="10980"/>
                  <a:pt x="14908" y="11064"/>
                </a:cubicBezTo>
                <a:cubicBezTo>
                  <a:pt x="14905" y="11168"/>
                  <a:pt x="14909" y="11260"/>
                  <a:pt x="14933" y="11362"/>
                </a:cubicBezTo>
                <a:cubicBezTo>
                  <a:pt x="14964" y="11496"/>
                  <a:pt x="15003" y="11623"/>
                  <a:pt x="15032" y="11759"/>
                </a:cubicBezTo>
                <a:cubicBezTo>
                  <a:pt x="15080" y="11984"/>
                  <a:pt x="15141" y="12185"/>
                  <a:pt x="15206" y="12404"/>
                </a:cubicBezTo>
                <a:cubicBezTo>
                  <a:pt x="15247" y="12544"/>
                  <a:pt x="15270" y="12695"/>
                  <a:pt x="15330" y="12825"/>
                </a:cubicBezTo>
                <a:cubicBezTo>
                  <a:pt x="15375" y="12922"/>
                  <a:pt x="15431" y="13024"/>
                  <a:pt x="15479" y="13123"/>
                </a:cubicBezTo>
                <a:cubicBezTo>
                  <a:pt x="15511" y="13189"/>
                  <a:pt x="15580" y="13278"/>
                  <a:pt x="15603" y="13322"/>
                </a:cubicBezTo>
                <a:cubicBezTo>
                  <a:pt x="15622" y="13358"/>
                  <a:pt x="15610" y="13415"/>
                  <a:pt x="15628" y="13446"/>
                </a:cubicBezTo>
                <a:cubicBezTo>
                  <a:pt x="15653" y="13491"/>
                  <a:pt x="15696" y="13552"/>
                  <a:pt x="15727" y="13594"/>
                </a:cubicBezTo>
                <a:cubicBezTo>
                  <a:pt x="15775" y="13659"/>
                  <a:pt x="15767" y="13612"/>
                  <a:pt x="15776" y="13694"/>
                </a:cubicBezTo>
                <a:cubicBezTo>
                  <a:pt x="15784" y="13763"/>
                  <a:pt x="15797" y="13883"/>
                  <a:pt x="15801" y="13917"/>
                </a:cubicBezTo>
                <a:cubicBezTo>
                  <a:pt x="15806" y="13954"/>
                  <a:pt x="15826" y="14039"/>
                  <a:pt x="15826" y="14041"/>
                </a:cubicBezTo>
                <a:cubicBezTo>
                  <a:pt x="15833" y="14099"/>
                  <a:pt x="15826" y="14107"/>
                  <a:pt x="15826" y="141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6880" y="3921120"/>
            <a:ext cx="482400" cy="1330200"/>
          </a:xfrm>
          <a:custGeom>
            <a:avLst/>
            <a:gdLst/>
            <a:ahLst/>
            <a:rect l="l" t="t" r="r" b="b"/>
            <a:pathLst>
              <a:path w="1340" h="3698">
                <a:moveTo>
                  <a:pt x="19249" y="10890"/>
                </a:moveTo>
                <a:cubicBezTo>
                  <a:pt x="19238" y="10929"/>
                  <a:pt x="19240" y="10975"/>
                  <a:pt x="19224" y="11014"/>
                </a:cubicBezTo>
                <a:cubicBezTo>
                  <a:pt x="19175" y="11132"/>
                  <a:pt x="19115" y="11249"/>
                  <a:pt x="19076" y="11362"/>
                </a:cubicBezTo>
                <a:cubicBezTo>
                  <a:pt x="19013" y="11541"/>
                  <a:pt x="18987" y="11729"/>
                  <a:pt x="18927" y="11908"/>
                </a:cubicBezTo>
                <a:cubicBezTo>
                  <a:pt x="18850" y="12137"/>
                  <a:pt x="18765" y="12378"/>
                  <a:pt x="18679" y="12602"/>
                </a:cubicBezTo>
                <a:cubicBezTo>
                  <a:pt x="18579" y="12864"/>
                  <a:pt x="18493" y="13105"/>
                  <a:pt x="18406" y="13371"/>
                </a:cubicBezTo>
                <a:cubicBezTo>
                  <a:pt x="18335" y="13590"/>
                  <a:pt x="18262" y="13798"/>
                  <a:pt x="18207" y="14016"/>
                </a:cubicBezTo>
                <a:cubicBezTo>
                  <a:pt x="18178" y="14131"/>
                  <a:pt x="18120" y="14228"/>
                  <a:pt x="18083" y="14339"/>
                </a:cubicBezTo>
                <a:cubicBezTo>
                  <a:pt x="18061" y="14407"/>
                  <a:pt x="18038" y="14474"/>
                  <a:pt x="18009" y="14537"/>
                </a:cubicBezTo>
                <a:cubicBezTo>
                  <a:pt x="17987" y="14584"/>
                  <a:pt x="17993" y="14567"/>
                  <a:pt x="17984" y="14562"/>
                </a:cubicBezTo>
                <a:cubicBezTo>
                  <a:pt x="17984" y="14554"/>
                  <a:pt x="17984" y="14545"/>
                  <a:pt x="17984" y="14537"/>
                </a:cubicBezTo>
              </a:path>
              <a:path w="1340" h="3698">
                <a:moveTo>
                  <a:pt x="17910" y="10890"/>
                </a:moveTo>
                <a:cubicBezTo>
                  <a:pt x="17915" y="10962"/>
                  <a:pt x="17909" y="10997"/>
                  <a:pt x="17935" y="11064"/>
                </a:cubicBezTo>
                <a:cubicBezTo>
                  <a:pt x="17985" y="11191"/>
                  <a:pt x="18049" y="11313"/>
                  <a:pt x="18108" y="11436"/>
                </a:cubicBezTo>
                <a:cubicBezTo>
                  <a:pt x="18212" y="11653"/>
                  <a:pt x="18316" y="11870"/>
                  <a:pt x="18431" y="12081"/>
                </a:cubicBezTo>
                <a:cubicBezTo>
                  <a:pt x="18579" y="12352"/>
                  <a:pt x="18693" y="12638"/>
                  <a:pt x="18852" y="12900"/>
                </a:cubicBezTo>
                <a:cubicBezTo>
                  <a:pt x="18915" y="13004"/>
                  <a:pt x="18989" y="13113"/>
                  <a:pt x="19026" y="13222"/>
                </a:cubicBezTo>
                <a:cubicBezTo>
                  <a:pt x="19052" y="13297"/>
                  <a:pt x="19059" y="13370"/>
                  <a:pt x="19076" y="13446"/>
                </a:cubicBezTo>
                <a:cubicBezTo>
                  <a:pt x="19091" y="13515"/>
                  <a:pt x="19079" y="13604"/>
                  <a:pt x="19100" y="13669"/>
                </a:cubicBezTo>
                <a:cubicBezTo>
                  <a:pt x="19120" y="13731"/>
                  <a:pt x="19176" y="13804"/>
                  <a:pt x="19200" y="13867"/>
                </a:cubicBezTo>
                <a:cubicBezTo>
                  <a:pt x="19216" y="13908"/>
                  <a:pt x="19221" y="13918"/>
                  <a:pt x="19224" y="13967"/>
                </a:cubicBezTo>
                <a:cubicBezTo>
                  <a:pt x="19230" y="14051"/>
                  <a:pt x="19241" y="14144"/>
                  <a:pt x="19249" y="14215"/>
                </a:cubicBezTo>
                <a:cubicBezTo>
                  <a:pt x="19253" y="14248"/>
                  <a:pt x="19244" y="14231"/>
                  <a:pt x="19249" y="142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47000" y="3421080"/>
            <a:ext cx="849240" cy="2251080"/>
          </a:xfrm>
          <a:custGeom>
            <a:avLst/>
            <a:gdLst/>
            <a:ahLst/>
            <a:rect l="l" t="t" r="r" b="b"/>
            <a:pathLst>
              <a:path w="2358" h="6253">
                <a:moveTo>
                  <a:pt x="24434" y="9501"/>
                </a:moveTo>
                <a:cubicBezTo>
                  <a:pt x="24422" y="9544"/>
                  <a:pt x="24425" y="9583"/>
                  <a:pt x="24409" y="9625"/>
                </a:cubicBezTo>
                <a:cubicBezTo>
                  <a:pt x="24402" y="9643"/>
                  <a:pt x="24354" y="9729"/>
                  <a:pt x="24334" y="9774"/>
                </a:cubicBezTo>
                <a:cubicBezTo>
                  <a:pt x="24269" y="9922"/>
                  <a:pt x="24236" y="10065"/>
                  <a:pt x="24186" y="10221"/>
                </a:cubicBezTo>
                <a:cubicBezTo>
                  <a:pt x="24144" y="10352"/>
                  <a:pt x="24108" y="10489"/>
                  <a:pt x="24062" y="10618"/>
                </a:cubicBezTo>
                <a:cubicBezTo>
                  <a:pt x="24002" y="10784"/>
                  <a:pt x="23973" y="10981"/>
                  <a:pt x="23913" y="11139"/>
                </a:cubicBezTo>
                <a:cubicBezTo>
                  <a:pt x="23864" y="11269"/>
                  <a:pt x="23798" y="11434"/>
                  <a:pt x="23739" y="11560"/>
                </a:cubicBezTo>
                <a:cubicBezTo>
                  <a:pt x="23665" y="11719"/>
                  <a:pt x="23602" y="11867"/>
                  <a:pt x="23541" y="12032"/>
                </a:cubicBezTo>
                <a:cubicBezTo>
                  <a:pt x="23475" y="12210"/>
                  <a:pt x="23394" y="12400"/>
                  <a:pt x="23342" y="12577"/>
                </a:cubicBezTo>
                <a:cubicBezTo>
                  <a:pt x="23302" y="12713"/>
                  <a:pt x="23280" y="12861"/>
                  <a:pt x="23243" y="12999"/>
                </a:cubicBezTo>
                <a:cubicBezTo>
                  <a:pt x="23210" y="13122"/>
                  <a:pt x="23156" y="13226"/>
                  <a:pt x="23119" y="13346"/>
                </a:cubicBezTo>
                <a:cubicBezTo>
                  <a:pt x="23078" y="13477"/>
                  <a:pt x="23051" y="13620"/>
                  <a:pt x="23020" y="13743"/>
                </a:cubicBezTo>
                <a:cubicBezTo>
                  <a:pt x="22989" y="13868"/>
                  <a:pt x="22963" y="13978"/>
                  <a:pt x="22920" y="14091"/>
                </a:cubicBezTo>
                <a:cubicBezTo>
                  <a:pt x="22879" y="14201"/>
                  <a:pt x="22868" y="14297"/>
                  <a:pt x="22846" y="14413"/>
                </a:cubicBezTo>
                <a:cubicBezTo>
                  <a:pt x="22822" y="14537"/>
                  <a:pt x="22777" y="14666"/>
                  <a:pt x="22747" y="14785"/>
                </a:cubicBezTo>
                <a:cubicBezTo>
                  <a:pt x="22728" y="14860"/>
                  <a:pt x="22717" y="14933"/>
                  <a:pt x="22697" y="15008"/>
                </a:cubicBezTo>
                <a:cubicBezTo>
                  <a:pt x="22676" y="15087"/>
                  <a:pt x="22652" y="15114"/>
                  <a:pt x="22623" y="15182"/>
                </a:cubicBezTo>
                <a:cubicBezTo>
                  <a:pt x="22594" y="15250"/>
                  <a:pt x="22580" y="15318"/>
                  <a:pt x="22548" y="15381"/>
                </a:cubicBezTo>
                <a:cubicBezTo>
                  <a:pt x="22523" y="15431"/>
                  <a:pt x="22490" y="15452"/>
                  <a:pt x="22474" y="15505"/>
                </a:cubicBezTo>
                <a:cubicBezTo>
                  <a:pt x="22456" y="15561"/>
                  <a:pt x="22452" y="15601"/>
                  <a:pt x="22424" y="15653"/>
                </a:cubicBezTo>
                <a:cubicBezTo>
                  <a:pt x="22416" y="15667"/>
                  <a:pt x="22381" y="15749"/>
                  <a:pt x="22375" y="15753"/>
                </a:cubicBezTo>
                <a:cubicBezTo>
                  <a:pt x="22354" y="15767"/>
                  <a:pt x="22371" y="15690"/>
                  <a:pt x="22350" y="15703"/>
                </a:cubicBezTo>
              </a:path>
              <a:path w="2358" h="6253">
                <a:moveTo>
                  <a:pt x="22077" y="9551"/>
                </a:moveTo>
                <a:cubicBezTo>
                  <a:pt x="22085" y="9781"/>
                  <a:pt x="22130" y="9970"/>
                  <a:pt x="22176" y="10196"/>
                </a:cubicBezTo>
                <a:cubicBezTo>
                  <a:pt x="22219" y="10407"/>
                  <a:pt x="22249" y="10588"/>
                  <a:pt x="22325" y="10791"/>
                </a:cubicBezTo>
                <a:cubicBezTo>
                  <a:pt x="22421" y="11049"/>
                  <a:pt x="22465" y="11300"/>
                  <a:pt x="22548" y="11560"/>
                </a:cubicBezTo>
                <a:cubicBezTo>
                  <a:pt x="22614" y="11766"/>
                  <a:pt x="22679" y="12011"/>
                  <a:pt x="22772" y="12205"/>
                </a:cubicBezTo>
                <a:cubicBezTo>
                  <a:pt x="22849" y="12366"/>
                  <a:pt x="22903" y="12532"/>
                  <a:pt x="22970" y="12701"/>
                </a:cubicBezTo>
                <a:cubicBezTo>
                  <a:pt x="23035" y="12864"/>
                  <a:pt x="23068" y="13026"/>
                  <a:pt x="23169" y="13173"/>
                </a:cubicBezTo>
                <a:cubicBezTo>
                  <a:pt x="23269" y="13318"/>
                  <a:pt x="23329" y="13466"/>
                  <a:pt x="23417" y="13619"/>
                </a:cubicBezTo>
                <a:cubicBezTo>
                  <a:pt x="23475" y="13719"/>
                  <a:pt x="23532" y="13813"/>
                  <a:pt x="23590" y="13917"/>
                </a:cubicBezTo>
                <a:cubicBezTo>
                  <a:pt x="23672" y="14065"/>
                  <a:pt x="23768" y="14220"/>
                  <a:pt x="23838" y="14363"/>
                </a:cubicBezTo>
                <a:cubicBezTo>
                  <a:pt x="23878" y="14446"/>
                  <a:pt x="23923" y="14529"/>
                  <a:pt x="23962" y="14612"/>
                </a:cubicBezTo>
                <a:cubicBezTo>
                  <a:pt x="24000" y="14693"/>
                  <a:pt x="24025" y="14779"/>
                  <a:pt x="24062" y="14860"/>
                </a:cubicBezTo>
                <a:cubicBezTo>
                  <a:pt x="24101" y="14945"/>
                  <a:pt x="24156" y="15035"/>
                  <a:pt x="24186" y="15133"/>
                </a:cubicBezTo>
                <a:cubicBezTo>
                  <a:pt x="24206" y="15198"/>
                  <a:pt x="24222" y="15265"/>
                  <a:pt x="24235" y="15331"/>
                </a:cubicBezTo>
                <a:cubicBezTo>
                  <a:pt x="24244" y="15377"/>
                  <a:pt x="24253" y="15442"/>
                  <a:pt x="24260" y="15480"/>
                </a:cubicBezTo>
                <a:cubicBezTo>
                  <a:pt x="24266" y="15512"/>
                  <a:pt x="24277" y="15564"/>
                  <a:pt x="24285" y="15604"/>
                </a:cubicBezTo>
                <a:cubicBezTo>
                  <a:pt x="24292" y="15642"/>
                  <a:pt x="24309" y="15722"/>
                  <a:pt x="24310" y="15728"/>
                </a:cubicBezTo>
                <a:cubicBezTo>
                  <a:pt x="24310" y="15753"/>
                  <a:pt x="24310" y="15761"/>
                  <a:pt x="24310" y="157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87640" y="5805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33"/>
                </a:solidFill>
                <a:latin typeface="Arial"/>
              </a:rPr>
              <a:t>Názory nemohou ovlivňovat pohlaví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000" y="1052640"/>
            <a:ext cx="8352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řádkov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ocenta nedávají smysl. </a:t>
            </a:r>
            <a:br>
              <a:rPr sz="18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ředchozí tabulku ale lze otočit → spokojenost ve sloupcích, pohlaví v řádcích a pak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řádková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cen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71B-B580-4760-8BD2-1B9EE4EAB2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rpretace tabulky pr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rdinální zna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16720" y="5444640"/>
            <a:ext cx="2627280" cy="79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Tabulku lze otočit o 90st: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zaměnit řádky se sloupci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řádková 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2572" r="0" b="0"/>
          <a:stretch/>
        </p:blipFill>
        <p:spPr>
          <a:xfrm>
            <a:off x="0" y="476280"/>
            <a:ext cx="9144000" cy="2712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0" t="23935" r="0" b="0"/>
          <a:stretch/>
        </p:blipFill>
        <p:spPr>
          <a:xfrm>
            <a:off x="0" y="3284640"/>
            <a:ext cx="7093080" cy="1639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64360" y="3284640"/>
            <a:ext cx="1871640" cy="1847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vztah ordinálních znaků často ukazu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upení vysokých hodnot na diagoná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ale ne nezbytně 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rcRect l="0" t="18366" r="0" b="0"/>
          <a:stretch/>
        </p:blipFill>
        <p:spPr>
          <a:xfrm>
            <a:off x="0" y="5057640"/>
            <a:ext cx="658800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D70-371D-4F91-A436-F529E74F3E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ingenční tabulka v SPSS →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ROSSTA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ategoriální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(vysvětlovaná-závislá)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kategoriální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(vysvětlující- nezávislá) proměnná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kontingenční tabul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cc"/>
                </a:solidFill>
                <a:latin typeface="Arial"/>
              </a:rPr>
              <a:t>CROSSTAB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ar1-závislá </a:t>
            </a:r>
            <a:r>
              <a:rPr b="1" lang="cs-CZ" sz="3000" spc="-1" strike="noStrike">
                <a:solidFill>
                  <a:srgbClr val="cc3300"/>
                </a:solidFill>
                <a:latin typeface="Arial"/>
              </a:rPr>
              <a:t>B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ar2-nezávislá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takto = absolutní četnosti, potřebujeme ale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ROCENT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ty mohou být:</a:t>
            </a:r>
            <a:br>
              <a:rPr sz="2200"/>
            </a:b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loupcová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cc3300"/>
                </a:solidFill>
                <a:latin typeface="Arial"/>
              </a:rPr>
              <a:t>COLUMN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nebo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řádková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cc3300"/>
                </a:solidFill>
                <a:latin typeface="Arial"/>
              </a:rPr>
              <a:t>ROW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případně i z celku tabulky = TOTA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cc"/>
                </a:solidFill>
                <a:latin typeface="Arial"/>
              </a:rPr>
              <a:t>CROSSTABS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var1-</a:t>
            </a:r>
            <a:r>
              <a:rPr b="1" i="1" lang="cs-CZ" sz="3000" spc="-1" strike="noStrike">
                <a:solidFill>
                  <a:srgbClr val="990099"/>
                </a:solidFill>
                <a:latin typeface="Arial"/>
              </a:rPr>
              <a:t>závislá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var2-</a:t>
            </a:r>
            <a:r>
              <a:rPr b="1" i="1" lang="cs-CZ" sz="3000" spc="-1" strike="noStrike">
                <a:solidFill>
                  <a:srgbClr val="990099"/>
                </a:solidFill>
                <a:latin typeface="Arial"/>
              </a:rPr>
              <a:t>nezávislá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6600"/>
                </a:solidFill>
                <a:latin typeface="Arial"/>
              </a:rPr>
              <a:t>/CELLS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 u="sng">
                <a:solidFill>
                  <a:srgbClr val="cc3300"/>
                </a:solidFill>
                <a:uFillTx/>
                <a:latin typeface="Arial"/>
              </a:rPr>
              <a:t>COL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bo otočeně: pořadí proměnných je obráceně a počítáme řádková %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cc"/>
                </a:solidFill>
                <a:latin typeface="Arial"/>
              </a:rPr>
              <a:t>CROSSTAB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ar2-</a:t>
            </a:r>
            <a:r>
              <a:rPr b="0" i="1" lang="cs-CZ" sz="3000" spc="-1" strike="noStrike">
                <a:solidFill>
                  <a:srgbClr val="990099"/>
                </a:solidFill>
                <a:latin typeface="Arial"/>
              </a:rPr>
              <a:t>nezávislá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ar1-</a:t>
            </a:r>
            <a:r>
              <a:rPr b="0" i="1" lang="cs-CZ" sz="3000" spc="-1" strike="noStrike">
                <a:solidFill>
                  <a:srgbClr val="990099"/>
                </a:solidFill>
                <a:latin typeface="Arial"/>
              </a:rPr>
              <a:t>závislá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6600"/>
                </a:solidFill>
                <a:latin typeface="Arial"/>
              </a:rPr>
              <a:t>/CELL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cc3300"/>
                </a:solidFill>
                <a:latin typeface="Arial"/>
              </a:rPr>
              <a:t>ROW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šimněte si, že zadání CROSSTABS je podobné jako M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cc"/>
                </a:solidFill>
                <a:latin typeface="Arial"/>
              </a:rPr>
              <a:t>MEAN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ar1-závislá-číselná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cc3300"/>
                </a:solidFill>
                <a:latin typeface="Arial"/>
              </a:rPr>
              <a:t>B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ar2-nezávislá-kategoriáln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3000" spc="-1" strike="noStrike">
                <a:solidFill>
                  <a:srgbClr val="006600"/>
                </a:solidFill>
                <a:latin typeface="Arial"/>
              </a:rPr>
              <a:t>/CELL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MEAN STDDEV COU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3429000"/>
            <a:ext cx="8353440" cy="863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B46-832E-4302-84C7-E3D1C5E7B8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pretace tabul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ávislá proměnn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je v hypotéze ovlivňována, způsobována (nejčastěji je v řádcí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závislá(é) proměnn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vysvětluje, ovlivňuje závisl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 kategoriích nezávislé proměnné ukazujeme kompletní (100 %) distribuci závislé proměnn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zor!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ěr kauzality je vždy věcí teorie, nelze ji určit z dat samotný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03800" y="61848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Kreidl 200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AD2E-5E84-4A19-9856-92CCE7A1B0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Interpretace tabule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2x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860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Ě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z žen pouze 41 % chodí do kostela a 59 uvádí, že chodí častěji. Proto být ženou snižuje pravděpodobnost, že člověk bude chodit do kostela častě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48690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RÁVNĚ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ávěr, že pohlaví je proměnná, která ovlivňuje chození do kostela se musí u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 základě porovnání mezi muži a ženami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orovnáváme 41 % a 28 %, z čehož činíme závěr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Vyšší pravděpodobnost časté návštěvy kostela (každý týden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ze vysledovat u žen než u muž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125360"/>
            <a:ext cx="2627280" cy="1882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spořádání tabulk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„procenta dolů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0% je ve sloupci a </a:t>
            </a:r>
            <a:r>
              <a:rPr b="0" lang="cs-CZ" sz="1800" spc="-1" strike="noStrike">
                <a:solidFill>
                  <a:srgbClr val="a50021"/>
                </a:solidFill>
                <a:latin typeface="Arial"/>
              </a:rPr>
              <a:t>porovnáváme % </a:t>
            </a: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(čteme) v řádcích</a:t>
            </a:r>
            <a:r>
              <a:rPr b="0" lang="cs-CZ" sz="1800" spc="-1" strike="noStrike">
                <a:solidFill>
                  <a:srgbClr val="a50021"/>
                </a:solidFill>
                <a:latin typeface="Arial"/>
              </a:rPr>
              <a:t> mezi kategoriemi podsku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6583320"/>
            <a:ext cx="19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Babbie 199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700360" y="892080"/>
            <a:ext cx="5979960" cy="2536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948360" y="1916280"/>
            <a:ext cx="7192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2360" y="76500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bulka 2. Navštěvování kostela podle pohlaví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A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00360" y="324468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 General Social Survey, NOR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93C-2ED4-467A-A86A-4EBA238393E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vourozměrná (bivariátní) analýza:</a:t>
            </a:r>
            <a:br>
              <a:rPr sz="3000"/>
            </a:b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čtení tabulky a slučování kategori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1961" b="0"/>
          <a:stretch/>
        </p:blipFill>
        <p:spPr>
          <a:xfrm>
            <a:off x="88920" y="1341360"/>
            <a:ext cx="8964720" cy="3087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0" t="0" r="1185" b="0"/>
          <a:stretch/>
        </p:blipFill>
        <p:spPr>
          <a:xfrm>
            <a:off x="54000" y="4797360"/>
            <a:ext cx="9036000" cy="1494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34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00720" y="6583320"/>
            <a:ext cx="21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[Babbie 1997:383-84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436572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0000"/>
                </a:solidFill>
                <a:latin typeface="Arial"/>
              </a:rPr>
              <a:t>Sloučení kategorií a vynechání „Neví“ → poněkud jiný obráze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8360" y="6165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8000" y="2421000"/>
            <a:ext cx="11872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2924280"/>
            <a:ext cx="118728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F60-C018-4174-8767-A976A9ED658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abul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etoda popis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pretace tabul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bulky skoro vždy dělejte tak, aby vyjadřova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dmíněnou pravděpodobnost, že respondent (věc) bude patřit do jednotlivých kategorií závislé proměnné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a předpokladu, že patří do dané kategorie nezávislé proměnné(nýc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cento je stým násobkem pravděpodobno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[Kreidl 200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B700-F061-4579-BAB1-03710D4FCB1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ovnání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skupi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dělte případy do adekvátních podskupin (dle hypotéz, např. podle vzděl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ište proměnnou pro podskupiny pomocí zvolených statistik (např. procenta, nebo pro číselné znaky medián, průmě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ovnejte tyto údaje pro skupiny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→ porovnání rozdílů v % bodech mezi podskupinam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ategoriemi nezávislé proměnn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1CB-1DA2-4E93-B3DC-8929F59ED5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Explanační interpretace dvojrozměrné tabulky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pady rozdělíme do podskupin podle vlastností nezávislé proměnné (např. muži/že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á podskupina je popsána podle vlastností závislé proměnné (např. spokojen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bulku čteme tak, že porovnáme navzájem podskupiny nezávislé proměnné (muži/ženy) podle vlastností závislé proměnné (spokojen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20000" y="6583320"/>
            <a:ext cx="19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Babbie 199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185-1B87-4378-A707-BFC1623451E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uvislost znaků v tabul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pení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sokých hodnot na diagoná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ky naznačuje, že existuje (lineární)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visl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z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inální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měnný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vislost ale může mít i jinou form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př. v každém sloupci jsou pozorování nahromaděna do jediného pole, jehož pozice je pro každý sloupec jin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43640" y="649116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[Kreidl 200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09D-877E-4ACC-A494-43C91BE432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pretace tabulek 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interpretaci procent obvykle stačí porovnávat extrémní hodnoty a ignorovat střední kategor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kud jde o ordinální proměnné pak není dobré činit obsáhlé závěry na základě  % uvnitř jednotlivých kategorií nezávislé proměn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ysluplné je děl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ovnání distribucí napříč kategoriemi nezávislé proměnn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interpretaci nám mohou napomoci koeficienty asociace/pořadové korelace 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iz prezentac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řídění 3. stupně – úvod do elaborace a míry asoci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ďte opatrní a neberte názvy kategorií zas tak doslova (→ operacionalizace znak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6105600"/>
            <a:ext cx="2232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[Kreidl 200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F1E-E204-4E2B-A9CA-2A60FC16996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POZOR – porovnání podskupin provádíme na </a:t>
            </a:r>
            <a:r>
              <a:rPr b="1" lang="cs-CZ" sz="3400" spc="-1" strike="noStrike">
                <a:solidFill>
                  <a:srgbClr val="000000"/>
                </a:solidFill>
                <a:latin typeface="Arial"/>
              </a:rPr>
              <a:t>relativních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 (%) nikoliv absolutních četnoste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558" t="6350" r="22257" b="1368"/>
          <a:stretch/>
        </p:blipFill>
        <p:spPr>
          <a:xfrm>
            <a:off x="324000" y="1557360"/>
            <a:ext cx="4248000" cy="4176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rcRect l="0" t="0" r="20542" b="2322"/>
          <a:stretch/>
        </p:blipFill>
        <p:spPr>
          <a:xfrm>
            <a:off x="4716360" y="1557360"/>
            <a:ext cx="4248360" cy="4183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V="1">
            <a:off x="395280" y="1413000"/>
            <a:ext cx="3889440" cy="4680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1D3-89EB-42AA-93AB-03E239734BA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áleží na typu nominálních  proměnných a jejich kombin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x3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x3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ox3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nomx3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918-362D-4470-ADC9-B38B3C7AD9D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ROSSTAB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SPS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říklady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 u="sng">
                <a:solidFill>
                  <a:srgbClr val="a50021"/>
                </a:solidFill>
                <a:uFillTx/>
                <a:latin typeface="Arial"/>
              </a:rPr>
              <a:t>n</a:t>
            </a:r>
            <a:r>
              <a:rPr b="0" lang="en-US" sz="3600" spc="-1" strike="noStrike" u="sng">
                <a:solidFill>
                  <a:srgbClr val="a50021"/>
                </a:solidFill>
                <a:uFillTx/>
                <a:latin typeface="Arial"/>
              </a:rPr>
              <a:t>omináln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95280" y="4365720"/>
            <a:ext cx="5219640" cy="17431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rcRect l="0" t="25915" r="0" b="0"/>
          <a:stretch/>
        </p:blipFill>
        <p:spPr>
          <a:xfrm>
            <a:off x="179280" y="1700280"/>
            <a:ext cx="5688000" cy="12351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8360" y="1197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×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3nomin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076640"/>
            <a:ext cx="23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3nominal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×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3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867280" y="1773360"/>
            <a:ext cx="3276720" cy="1081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4920" y="2927520"/>
            <a:ext cx="8839080" cy="99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n tabulce můžeme porovnávat pouz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eden řádek „pozitivní“ kategorie závislé proměnné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navštěvu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ěsíčně) al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o každou kategorii nezávislé proměnn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(pokud je nezávislá proměnná ordinální, pak můžeme pouze sledovat „lineární“ trend mezi nimi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Vhodný je zd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eficient asoci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např.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ramérovo 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nebo Kontingenční koefficient, Lambda). </a:t>
            </a:r>
            <a:r>
              <a:rPr b="0" lang="cs-CZ" sz="1600" spc="-1" strike="noStrike">
                <a:solidFill>
                  <a:srgbClr val="a50021"/>
                </a:solidFill>
                <a:latin typeface="Arial"/>
              </a:rPr>
              <a:t>Nepoužívejte zde nikdy korelac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2360" y="1197000"/>
            <a:ext cx="745164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CROSSTAB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Church </a:t>
            </a:r>
            <a:r>
              <a:rPr b="0" lang="cs-CZ" sz="1800" spc="-1" strike="noStrike">
                <a:solidFill>
                  <a:srgbClr val="cc3300"/>
                </a:solidFill>
                <a:latin typeface="Arial"/>
              </a:rPr>
              <a:t>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egion3 </a:t>
            </a:r>
            <a:r>
              <a:rPr b="0" lang="cs-CZ" sz="1800" spc="-1" strike="noStrike">
                <a:solidFill>
                  <a:srgbClr val="006600"/>
                </a:solidFill>
                <a:latin typeface="Arial"/>
              </a:rPr>
              <a:t>/CELL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COLU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/STATIST </a:t>
            </a: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PH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349360"/>
            <a:ext cx="1224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6920" y="6032520"/>
            <a:ext cx="8839080" cy="7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3n×3n tabulce musíme navíc porovnávat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aždou kategorii závislé proměnné v řádcích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ale zde např. se můžeme zaměřit pouze na typy Katolíků a Ateisty nechat stranou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Vhodný je zde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eficient asociac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např.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Cramérovo V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nebo Kontingenční koefficient, Lambda). </a:t>
            </a:r>
            <a:r>
              <a:rPr b="0" lang="cs-CZ" sz="1400" spc="-1" strike="noStrike">
                <a:solidFill>
                  <a:srgbClr val="a50021"/>
                </a:solidFill>
                <a:latin typeface="Arial"/>
              </a:rPr>
              <a:t>Nepoužívejte zde nikdy korelac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35280" y="2492280"/>
            <a:ext cx="28728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8000" y="2349360"/>
            <a:ext cx="331344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79640" y="5229360"/>
            <a:ext cx="3024000" cy="64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1640" y="5300640"/>
            <a:ext cx="287280" cy="0"/>
          </a:xfrm>
          <a:prstGeom prst="line">
            <a:avLst/>
          </a:prstGeom>
          <a:ln w="22320">
            <a:solidFill>
              <a:srgbClr val="ff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64000" y="5300640"/>
            <a:ext cx="287280" cy="0"/>
          </a:xfrm>
          <a:prstGeom prst="line">
            <a:avLst/>
          </a:prstGeom>
          <a:ln w="22320">
            <a:solidFill>
              <a:srgbClr val="ff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5516640"/>
            <a:ext cx="287280" cy="0"/>
          </a:xfrm>
          <a:prstGeom prst="line">
            <a:avLst/>
          </a:prstGeom>
          <a:ln w="22320">
            <a:solidFill>
              <a:srgbClr val="ff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11640" y="5516640"/>
            <a:ext cx="287280" cy="0"/>
          </a:xfrm>
          <a:prstGeom prst="line">
            <a:avLst/>
          </a:prstGeom>
          <a:ln w="22320">
            <a:solidFill>
              <a:srgbClr val="ff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4000" y="5734080"/>
            <a:ext cx="287280" cy="0"/>
          </a:xfrm>
          <a:prstGeom prst="line">
            <a:avLst/>
          </a:prstGeom>
          <a:ln w="22320">
            <a:solidFill>
              <a:srgbClr val="ff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11640" y="5734080"/>
            <a:ext cx="287280" cy="0"/>
          </a:xfrm>
          <a:prstGeom prst="line">
            <a:avLst/>
          </a:prstGeom>
          <a:ln w="22320">
            <a:solidFill>
              <a:srgbClr val="ff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48000" y="5373720"/>
            <a:ext cx="1224000" cy="0"/>
          </a:xfrm>
          <a:prstGeom prst="line">
            <a:avLst/>
          </a:prstGeom>
          <a:ln w="15840">
            <a:solidFill>
              <a:srgbClr val="ff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48000" y="5589720"/>
            <a:ext cx="1224000" cy="0"/>
          </a:xfrm>
          <a:prstGeom prst="line">
            <a:avLst/>
          </a:prstGeom>
          <a:ln w="15840">
            <a:solidFill>
              <a:srgbClr val="ff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5805360"/>
            <a:ext cx="1224000" cy="0"/>
          </a:xfrm>
          <a:prstGeom prst="line">
            <a:avLst/>
          </a:prstGeom>
          <a:ln w="15840">
            <a:solidFill>
              <a:srgbClr val="ff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92360" y="2637000"/>
            <a:ext cx="1224000" cy="0"/>
          </a:xfrm>
          <a:prstGeom prst="line">
            <a:avLst/>
          </a:prstGeom>
          <a:ln w="15840">
            <a:solidFill>
              <a:srgbClr val="ff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2492280"/>
            <a:ext cx="28728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68360" y="4076640"/>
            <a:ext cx="6875640" cy="353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CROSSTAB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elig3 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B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egion3 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/CELL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COLUM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/STATIST </a:t>
            </a: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PHI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580000" y="4797360"/>
            <a:ext cx="3467160" cy="12286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877080" y="5445000"/>
            <a:ext cx="1224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709-3485-458F-9C5E-15EBF1D3665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3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3o tabl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(both variables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rdinal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0" t="20169" r="0" b="0"/>
          <a:stretch/>
        </p:blipFill>
        <p:spPr>
          <a:xfrm>
            <a:off x="250920" y="765000"/>
            <a:ext cx="6264360" cy="1806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79280" y="6381720"/>
            <a:ext cx="806472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OSSTA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ad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du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TATISTICS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 CC Phi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GAMMA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 CORR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BTA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59640" y="4005360"/>
            <a:ext cx="2484360" cy="2115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oth variables are ordinal so correlation can be measured (and compared with nominal association e.g. Cramer‘s V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amm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can be recommended but it usually gives higher number so compare it with other coefficients. </a:t>
            </a:r>
            <a:br>
              <a:rPr sz="14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(Spearman‘s Rho is rank-order version of Pearson‘s R which is only for ratio-numerical variables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1773360"/>
            <a:ext cx="431640" cy="21564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59280" y="1989000"/>
            <a:ext cx="432000" cy="21600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rcRect l="0" t="0" r="0" b="20794"/>
          <a:stretch/>
        </p:blipFill>
        <p:spPr>
          <a:xfrm>
            <a:off x="324000" y="3789360"/>
            <a:ext cx="6264000" cy="2473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08000" y="4653000"/>
            <a:ext cx="1584360" cy="38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Arial"/>
              </a:rPr>
              <a:t>Coefficients of</a:t>
            </a:r>
            <a:r>
              <a:rPr b="1" lang="en-GB" sz="1200" spc="-1" strike="noStrike">
                <a:solidFill>
                  <a:srgbClr val="a50021"/>
                </a:solidFill>
                <a:latin typeface="Arial"/>
              </a:rPr>
              <a:t>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8000" y="5300640"/>
            <a:ext cx="1584360" cy="38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Arial"/>
              </a:rPr>
              <a:t>Coefficients of</a:t>
            </a:r>
            <a:r>
              <a:rPr b="1" lang="en-GB" sz="1200" spc="-1" strike="noStrike">
                <a:solidFill>
                  <a:srgbClr val="a50021"/>
                </a:solidFill>
                <a:latin typeface="Arial"/>
              </a:rPr>
              <a:t> ordinal corre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5084640"/>
            <a:ext cx="63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5734080"/>
            <a:ext cx="63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2637000"/>
            <a:ext cx="8893080" cy="113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he highest proportion (in the rows) is mostly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on the diagonal</a:t>
            </a: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dicating ordinal correlation (linear trend in mutual ranking). </a:t>
            </a: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However,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this trend is not absolute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: there is 40 % points </a:t>
            </a: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difference between the most distant categories (Element./vocc.</a:t>
            </a: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nd Univ.) within „Less often-never“ but only 22 % points between „Daily“ readers.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e the gra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rcRect l="3204" t="0" r="23602" b="3630"/>
          <a:stretch/>
        </p:blipFill>
        <p:spPr>
          <a:xfrm>
            <a:off x="6481800" y="619200"/>
            <a:ext cx="2662200" cy="2809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95640" y="4797360"/>
            <a:ext cx="2521080" cy="1328400"/>
          </a:xfrm>
          <a:prstGeom prst="rect">
            <a:avLst/>
          </a:prstGeom>
          <a:solidFill>
            <a:srgbClr val="dddddd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hen our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ata is from random sampl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(i.e. not whole population) we have to in addition first test statistical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hypothesis, that the coefficient is not zero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(i.e. it is not zero in the whole population and not only in our sample)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Approx. Significanc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(also 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is here &lt; 5% → we reject the null hypothesis that Gamma/TauB/Spearman is zero in whole population). More on this in QDA I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F0A-1C20-45CA-ABE3-DCD0346B459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7280" y="1125000"/>
            <a:ext cx="8569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e will further elaborate these bivariate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„zero order“ contingency tables/ association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nt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„first order conditional“ tables/ association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ntingency tables: multivariate analysis and elaboration – introduction to third level of data sorting </a:t>
            </a:r>
            <a:br>
              <a:rPr sz="4000"/>
            </a:br>
            <a:r>
              <a:rPr b="0" i="1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etodykv.wz.cz/QDA1_crosstab2multivar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ulky jako metoda popi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nám řekne tabulk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rovnání mezi skupin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zájemný vztah mezi proměnný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orce variace jedné proměnné v č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orce variace dvou (a více) proměnných ve vzájemném vzta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DBC-200E-4EB2-B616-31DB70DA2D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ulky třídění 2.st. mohou být i jiného dru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ůměry v podskupinác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v podstatě odpovídá situaci, kde závislá proměnná je dichotomická a ukazujeme „pozitivní“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 faktorem čas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časové řady (z různých výzkumů, spojené do řady), zde je „čas“ (roky, období, etapy atd.) v roli nezávislé proměnné. (%, průměry, jiné střední hodnoty či míry variabi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719-D7A9-4B0B-BD5C-795BFDAEBA2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řídění druhého stupně (kardinální proměnná v čase): </a:t>
            </a:r>
            <a:br>
              <a:rPr sz="2600"/>
            </a:br>
            <a:r>
              <a:rPr b="1" lang="cs-CZ" sz="2600" spc="-1" strike="noStrike">
                <a:solidFill>
                  <a:srgbClr val="990000"/>
                </a:solidFill>
                <a:latin typeface="Arial"/>
              </a:rPr>
              <a:t>průměry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a směrodatné odchylky v podskupinách </a:t>
            </a:r>
            <a:r>
              <a:rPr b="1" lang="cs-CZ" sz="2600" spc="-1" strike="noStrike">
                <a:solidFill>
                  <a:srgbClr val="990000"/>
                </a:solidFill>
                <a:latin typeface="Arial"/>
              </a:rPr>
              <a:t>dle rok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50920" y="1197000"/>
          <a:ext cx="8893080" cy="515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8930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250920" y="645336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droj: [Šafr 2008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9DFC-6CEE-42CD-B91B-3FF7E604AAE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7280" y="1484280"/>
            <a:ext cx="7846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Arial"/>
              </a:rPr>
              <a:t>Pokračování v prezentaci</a:t>
            </a:r>
            <a:br>
              <a:rPr sz="3400"/>
            </a:br>
            <a:br>
              <a:rPr sz="3400"/>
            </a:br>
            <a:r>
              <a:rPr b="1" lang="cs-CZ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Kontingenční tabulky </a:t>
            </a:r>
            <a:br>
              <a:rPr sz="44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analýza kategoriálních dat:</a:t>
            </a:r>
            <a:br>
              <a:rPr sz="32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řídění 3. stupně – úvod do elaborace a míry asoci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47640" y="4653000"/>
            <a:ext cx="78487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etodykv.wz.cz/AKD1_kontg_tab3st_uvod.ppt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avidla pro tvorbu a prezentaci tabul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robněji v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kázky jak prezentovat tabulky a interpretovat vztahy proměnný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etodykv.wz.cz/tabulky_intepretace_prezentace.pd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avidla pro tvorbu tabul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1164960"/>
            <a:ext cx="88074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otná procenta říkají málo nebo nic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nezamlčovat absolutní četnosti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čí marginální = řádkové, sloupcové a minimálně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elkový počet případů + kolik je průnik ne/platných odpověd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lépe je u jedné proměnné uvádět N u všech katego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první řádce či sloupci je vhodné uvést znak pro %, aby bylo jasné, že se jedná tabulku pro proce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8496000" cy="13683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195640" y="4292640"/>
            <a:ext cx="662436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6381720"/>
            <a:ext cx="3743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droj: upraveno podle [Treiman 2009: 9-33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317-968F-4552-9044-1028A836F62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vidla pro tvorbu tabul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ovat sama sebe tím, že vždy sečtete čísla v jednotlivých řádcích a sloupcích a porovnáte je se skutečnými marginálními četnostmi (z tabulek tř. 1st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á čís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 % v tabulkách většinou bohatě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č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Treiman 2009: 9-11; Kreidl 200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E09-55A7-440B-8EE2-0FFED38A206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avidla pro tvorbu tabulek</a:t>
            </a:r>
            <a:br>
              <a:rPr sz="40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[Kreidl 2000; Babbie 1997; Treiman 2009]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36640"/>
            <a:ext cx="86868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bulka musí mí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ze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psané proměn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řádky a sloupc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ést původní obsah proměnné, zejména pokud se jedná o postojové otázky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nění otáz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ždy uvés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droj 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és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elkový počet případ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marginální distribuce absolutních četností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ést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k byly spočítány procen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rocentní základ), u % tabulky uvé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uvádíme % i absolutní počty současně vš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mínit pokud byly vynechány některé kategorie (např. neví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hybějící hodnoty →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ždy uvést kolik lidí neodpovědělo, ale není nutno je vždy zahrnovat do procentního základu, tj. pracujeme pouze s validními případy (viz práce s missin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94A6-E9A6-4C0B-9558-82C0096225F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ázv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abulky uvést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 tabulky např. Procentní distribuce ... nebo  ... 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ěnné zahrnuté v tabulce, např. Religiozita a Úroveň vzděl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jakého vzorku pocházejí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k sběru d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.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cento uživatelů marihuany podle dosaženého vzdělání, středoškoláci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492C-0DC4-46B3-A18C-324C3D7CB14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 ex post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aokrouhlit desetinná míst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v hotové tabulce v SP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5819760" cy="1962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rcRect l="0" t="0" r="2965" b="0"/>
          <a:stretch/>
        </p:blipFill>
        <p:spPr>
          <a:xfrm>
            <a:off x="6145200" y="2349360"/>
            <a:ext cx="2833560" cy="3932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5429160" cy="25732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79280" y="2970360"/>
            <a:ext cx="590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abulku otevřeme v editačním okně (označit a 2x rozkliknout). Označíme-vybereme políčka s čísly (pravé tl. myši), v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ell properties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berem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ormat valu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de můžeme volit jen číslo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#.#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(místo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#.#%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a bez desetinných míst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ecimals=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08E-4A94-48C7-80FA-371D45D2AEE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ýsledná naformátovaná tabul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784080"/>
            <a:ext cx="850248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 tabulky odstraňte co tam nepatř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vy proměnný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lze vypnout globálně v Edit→Op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bytečné záhlav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bude v názvu tabul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se nedaří tabulku přenést do wordu, lze ji vložit jak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ektorovou grafiku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y→Vložit jinak →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rázek (rozšířený metasoubor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ikdy nepoužívejte rozmazaný jpeg / bmp apod. formáty !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jsou neostré a bobtná velikost soubo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abulka 1. Příjem (kvartily) podle dosaženého stupně vzdělání, ČR 2007, 18-79 let, sloupcová proc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rcRect l="0" t="0" r="10168" b="72802"/>
          <a:stretch/>
        </p:blipFill>
        <p:spPr>
          <a:xfrm>
            <a:off x="5364000" y="1628640"/>
            <a:ext cx="3492720" cy="3603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68360" y="623736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oj: ISSP 2007, ČR, nevážená data, N (valid listwise) = 843 (údaje chybí u 31 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rcRect l="0" t="22022" r="0" b="0"/>
          <a:stretch/>
        </p:blipFill>
        <p:spPr>
          <a:xfrm>
            <a:off x="468360" y="4205160"/>
            <a:ext cx="7559640" cy="20494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79280" y="3429000"/>
            <a:ext cx="8280360" cy="324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587700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424-0DDC-4765-BF2F-CE5D3D46344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38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ále se budeme zabývat pouze 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tabulkami pro kategoriální znak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j. situací, kdy počítáme s absolutními / relativním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četnost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, procenta, pravděpodobn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42920" y="4076640"/>
            <a:ext cx="7058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bulky mohou zobrazovat i jiné míry, např. střední hodnoty pro kardinální zna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růměr, medián). K tomu viz present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řídění 2. a 3. stupně: orientační mapa možností bivariátních analý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http://metodykv.wz.cz/AKD1_mapa_bivaranalyz.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abbie, E. 1995.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Elementary Analyses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(kapitola 15)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p. 375-394 in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he Practice of social Research. 7th Edition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Belmont: Wadswo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isman, M. 1993.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Jak se vyrábí sociologická znalost.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Praha: Karolin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anousek J., P. Charamza. (1992).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Moderní metody zpracování dat – Matematická statistika pro každého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Praha: Gr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apr, J., Z. Šafář. 1969.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Sociologie nebo zdravý rozum?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aha: Mladá fronta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reidl, M. 2000.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odklady ke kurzu Analýza kvantitativních dat.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FSV UK, LS 2000-200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Řehák, J., B. Řeháková. 1986.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Analýza kategorizovaných dat v sociologii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Praha: Academ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eiman, D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J. 2009.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Quantitative data analysis: doing social research to test idea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San Francisco: Jossey-B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Vaus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, A. (1985) 2002.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urveys in Social Research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fth Edition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St Leonards NSW: Allen &amp; Unwin / London: Routled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děkování za cenné konzultace RNDr. L. Gatnarov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F711-912D-4DC6-AD13-AA8FC15CB5E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řídění prvního stupn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30402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7640" y="632952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Zdroj: ISSP 2007, Č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360" y="1197000"/>
            <a:ext cx="71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kvence (absolutní i relativní) kategorií jedné proměn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1640" y="1844640"/>
            <a:ext cx="8280720" cy="392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D19-54A2-4B72-B58D-AFD270CB7A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řídění druhého stupně </a:t>
            </a:r>
            <a:br>
              <a:rPr sz="4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absolutní čet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0560" y="618480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Zdroj: ISSP 2007, Č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484280"/>
            <a:ext cx="94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kvence jedné vs. druhé proměnn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ategorie příjmu podle vzděl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599320" cy="2898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2637000"/>
            <a:ext cx="8650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16C-7249-412F-80E6-802DD3E2A4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řídění druhého stupně </a:t>
            </a:r>
            <a:br>
              <a:rPr sz="4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relativní četnosti – sloupcová proc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5440" y="595008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Zdroj: ISSP 2007, Č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21651" r="0" b="0"/>
          <a:stretch/>
        </p:blipFill>
        <p:spPr>
          <a:xfrm>
            <a:off x="179280" y="2589120"/>
            <a:ext cx="8785440" cy="232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CAE-AD09-46E3-A783-4BF0D56684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vourozměrná tabulka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9640" y="3284640"/>
          <a:ext cx="8229600" cy="21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284640"/>
                    <a:ext cx="82296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84360" y="1341360"/>
            <a:ext cx="784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istují dvě nemocnice, které provádí stejný typ operace. Každá při tom používá jiný typ anestetika (A / 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teré anestetikum byste raději dostali?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6093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[Campanelli 200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4A7-4232-477D-AE15-E6D5A65030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23:11:19Z</dcterms:created>
  <dc:creator>Jiří Šafr (FHS)</dc:creator>
  <dc:description/>
  <dc:language>en-US</dc:language>
  <cp:lastModifiedBy>Jiri Safr</cp:lastModifiedBy>
  <dcterms:modified xsi:type="dcterms:W3CDTF">2015-04-22T13:47:39Z</dcterms:modified>
  <cp:revision>839</cp:revision>
  <dc:subject/>
  <dc:title>Kontingenční tabulky a analýza kategoriálních dat</dc:title>
</cp:coreProperties>
</file>