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A7D-ACB9-47EF-AC76-C3A09E0E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639-A8DF-4155-BBD4-F918A23B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B14-7F59-4D39-A035-D4608804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B42-73D6-414A-B065-711FEBA2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B37-0267-4F29-B8B6-C2A91F00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417-66B9-48FF-B2E2-1C78522C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48D-3A05-4918-B873-FF012A76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0E3-3CE1-4E68-9382-803AFEEF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0F2-F380-46FE-88E6-69FEAB38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825-B4CC-4943-B294-6850213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E93-3A16-4E97-962B-E5AB01C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5B1-23D1-4B51-9C15-90294E7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FA92-5AD5-4CB9-A7C4-A51BAC28313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oc.cas.cz/node/4298" TargetMode="External"/><Relationship Id="rId2" Type="http://schemas.openxmlformats.org/officeDocument/2006/relationships/hyperlink" Target="http://www.soc.cas.cz/node/4298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907560"/>
            <a:ext cx="784872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nalýza kvantitativních dat III. – praktické aplikace vícerozměrných statistických met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ri.safr(AT)sezna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slední aktualizace </a:t>
            </a:r>
            <a:r>
              <a:rPr b="1" lang="cs-CZ" sz="1400" spc="-1" strike="noStrike">
                <a:solidFill>
                  <a:srgbClr val="cc3300"/>
                </a:solidFill>
                <a:latin typeface="Arial"/>
              </a:rPr>
              <a:t>22/2/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47640" y="2781360"/>
            <a:ext cx="78487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Představení kurzu a 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plán prác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ZS 20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máte znát z AKD1 a AKD2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inferenční statisti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počet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andardní chyby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intervalů spolehlivosti pro procenta/podíly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rozdíly (pro průměry nestač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hypotéz pro číselní znaky (t-test, F-test oneway Anova) i v třídění 3. stupně (efektiv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hypotéz 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tegoriální znaky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chikvadrát test dobré shody: 1-way pro komparaci výsledků a 1-w pro kontingenční tabulku).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tnost znát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incip Chikvádrát te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uční výpoče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co jsme nestihli v AKD2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v 20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jsme nestihli v AKD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hypotéz pro průměry (rozptyly), variační koeficient(y), základní transformace (agregace dat), reliabilita, konstrukce indexů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riační koeficient(y), Index nepod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hypotéz o rozdílu dvou průměrů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rozptylů (+ jednoduchá analýza rozpty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transformace: Agregace dat + tabelární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Co jste „nestihli“ v AKD2 v 201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mí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gregova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jovat data (me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t proměnné s pomocí podmínek (do if 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X-Y scatter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af pro průměry v podskupinách s intervalem spolehlivosti (Error B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Jak psá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mpirickou část tex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jen) v 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robně viz samostatnou presentaci, kde jsou ukázky tabulek a další kro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stup jak (začít) psá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vislá proměnná(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 ní si vyhrajte, nepůjde již v hotovém textu mě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cept/operacionalizace/jednotky/ rekódování, deskripce (variance, rozložení,…),, zakotvení (porovnání s výsledky jiných výzkum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stup jak (začít) psá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pracovat si projekt (diplomovou práci) na otá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těchto otázek udělat (pod)kapitoly (v1. kroku stačí nadpisy + ano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ázky by měly být stupňovitě do sebe zapadající (→ co je třeba vyřešit nejdříve, co nelze bez jiného předchozího kroku, co naopak ano a co tedy lze odložit na později … 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bude psát JŠ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ference v příjmech a chudobě (materiální deprivaci) v závislosti na perifernosti úze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iv rodinného prostředí na dosažené vzdělání a socioekonomický status v kontextu perifernosti lokality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3300"/>
                </a:solidFill>
                <a:latin typeface="Arial"/>
              </a:rPr>
              <a:t>A co budete psát v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ttp://metodykv.w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KD III. – základní teze 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 odlišnosti od AKD I. A I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urz je pro vás – pro řešení vašich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→ „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nalyticko-sociologická díln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ždy krátká přednáška k tématu (obecně o metodě), následuje společně zadávaný příklad v SPSS a (ideálně)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plikace na vlastních date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om „velkých metod“ také drobné užitečnosti a nezbytnosti jako složitější manipulace při transformacích či užitečné míry co SPSS neumí (např. kvalitativní variance, index nepodo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a případně něco důležitého, na co se nedostalo v AKD2 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děláme „vše pro diplomky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jde-li se konsensus a vytrvalost, pak všichni budeme průběžně z hodiny na hodinu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avidelně psát text diplomky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= analytické část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ásledně ostatním vysvětlovat jak a proč jste jakou metodu použili s jakým výsledkem a interpretac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exty si vzájemně čí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ovšem je, že první část analýz většinou zahrnují popisné analýzy a na ty prostor v AKD3 nebude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to viz samostatnou presentac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stup výkladu v AKD I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 ideální pos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ecný výklad („je tady taková možnost analýzy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ologický problém (otázka v diplomce) → metoda → její praktická apl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a závěr (i v průběhu): Problém → metoda/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síme se výklad a aplikace upravit tak, aby bylo jasno, na co se dají použít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konkrétních diplomových prac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latí pouze pro DP u J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vě hlavní části kurzu</a:t>
            </a:r>
            <a:br>
              <a:rPr sz="40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oblasti aplikace vícerozměrných met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rz má mít v zásadě dvě hlavní čá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nalýza latentních struktu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„asociace mezi „nezávislými“ proměnnými a redukce jejich počtu do obecnějších dimenzí či typů (klastrů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ěkdy jen defacto příprava závislé proměnné pro 2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gresní analýza a její verze pro kategoriální da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kauzální usuzování ohledně vztahů mezi závislou a několika nezávislými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ádro kurzu je druhá část vícerozměrná regre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Vypadá to, že začneme právě s 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krétní náplň kurzu závisí na složení a potřebách studentů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aktuálně řešené problematiky v SOÚ AV ČR, v.v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sah kurzu (plán do 20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 jsme nestihli v AK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ování hypotéz pro průměry (rozptyly), variační koeficient(y), základní transformace (agregace dat), reliabilita, konstrukce indexů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Regresní analýza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 (úvod, princi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Vícerozměrná lineárně regresní analýza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Regresní analýza pro kategoriální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nomická logistická regrese (0/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nomická logistická regrese (1/2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nominální logistická regrese (B/M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ogitové mo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ýza latentních struktur (metoda hl. kompon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ální transformace dat (vektor, „případo-roky“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ýza časových řad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vojné třídě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působení faktorů v kontingenční tabulce (fitting two-way table), korespondenční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 tomu navíc v 2017 (plá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8920" y="1125360"/>
            <a:ext cx="87138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íme se pouze na aktuální řešené projek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cio-prostorové znevýhodnění obyvatel periferních venkovských oblastí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GA ČR, SOÚ AV ČR, v.v.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a z výzkumu Periferie ČR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SDA RESEAR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OP VVV, SOÚ AV ČR, v.v.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a z předvýzkumu VWT tes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orkshop: úvod práce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tistickém programu S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raz na modelování dat (limity, testy, klastrovaná data, a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máte znát z AKD1 a AKD2 (1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úpravy dat: čištění, missingy, rekodování, vytváření nových proměnných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regace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ntingenční tabulky: JKB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ění 3. stupně (efektiv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Elaborace vztah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y asociace 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tegoriální da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CV, CC, Gam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variance a kore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má standardizace intenzitních ukaz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8:25:27Z</dcterms:created>
  <dc:creator>Jiri Safr</dc:creator>
  <dc:description/>
  <dc:language>en-US</dc:language>
  <cp:lastModifiedBy>Jiří Šafr</cp:lastModifiedBy>
  <dcterms:modified xsi:type="dcterms:W3CDTF">2017-02-22T16:44:47Z</dcterms:modified>
  <cp:revision>188</cp:revision>
  <dc:subject/>
  <dc:title>AKD3   Plán práce</dc:title>
</cp:coreProperties>
</file>