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2824-B7CF-4B0E-8654-DFD0EC6B6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27B1-43A1-4C48-9521-BA7A7E426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9F52-8746-4F11-8DA3-F83450955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F74D-A85E-4FB8-9F4E-2DC0F6E12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5179-C1D5-4CE1-B3C4-90F321A99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CB41-27E3-487C-98FA-6BD9F01AA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E151-A691-4041-BFFB-B154110D4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9741-CA8F-424E-9E34-73E3BC572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6BC4-A6F4-4F1E-A494-3C6A055F0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A506-5C77-439E-BC2C-A4A33BDF3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CFCE-C0F4-4289-8BCF-5FB51D49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48DA-BA6C-43F4-AA1D-09FCCDA0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31AA0-59D7-4FC4-933A-A212C08FCB3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7640" y="907560"/>
            <a:ext cx="7848720" cy="21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Analýza kvantitativních dat III. – praktické aplikace vícerozměrných statistických met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57360"/>
            <a:ext cx="6400800" cy="17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Jiří Šaf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iri.safr(AT)seznam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oslední aktualizace </a:t>
            </a:r>
            <a:r>
              <a:rPr b="1" lang="cs-CZ" sz="1400" spc="-1" strike="noStrike">
                <a:solidFill>
                  <a:srgbClr val="cc3300"/>
                </a:solidFill>
                <a:latin typeface="Arial"/>
              </a:rPr>
              <a:t>27/2/20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0" y="333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663300"/>
                </a:solidFill>
                <a:latin typeface="Arial"/>
              </a:rPr>
              <a:t>UK F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663300"/>
                </a:solidFill>
                <a:latin typeface="Arial"/>
              </a:rPr>
              <a:t>Historická sociolo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647640" y="2781360"/>
            <a:ext cx="7848720" cy="21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Arial"/>
              </a:rPr>
              <a:t>Představení kurzu a </a:t>
            </a:r>
            <a:br>
              <a:rPr sz="5400"/>
            </a:br>
            <a:r>
              <a:rPr b="1" lang="cs-CZ" sz="5400" spc="-1" strike="noStrike">
                <a:solidFill>
                  <a:srgbClr val="000000"/>
                </a:solidFill>
                <a:latin typeface="Arial"/>
              </a:rPr>
              <a:t>plán práce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v LS 201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88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 LS 2019s důraz n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50560" y="764640"/>
            <a:ext cx="87138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ntuitivní porozumění → co děláte v kontex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nterpretac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edikovane hodnoty a marginální efek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Grafické zobrazení výsledků (SPSS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elikost efektu (effect siz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lastrovou strukturu v datech a z ní vyplývající bias 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ierarchická struktura jako součást modelu (ale uvidíme jestli na to dojd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 co si dát v datech pozor: reliabilita, power-size, heteroskedasticita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na úvod …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st MSV-KVNT-S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ychle repe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tistika v SPSS JKBM: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3-way crosstabs, elaborace,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ákladní strategie testovaní hypotéz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Co máte znát z AKD1 a AKD2 (1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kladní úpravy dat: čištění, missingy, rekodování, vytváření nových proměnných, a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gregace d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c00000"/>
                </a:solidFill>
                <a:latin typeface="Arial"/>
              </a:rPr>
              <a:t>Kontingenční tabulky: JKBM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řídění 3. stupně (efektivně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c00000"/>
                </a:solidFill>
                <a:latin typeface="Arial"/>
              </a:rPr>
              <a:t>Elaborace vztah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ry asociace pro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ategoriální dat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CV, CC, Gamm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variance a kore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má standardizace intenzitních ukazatel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Co máte znát z AKD1 a AKD2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 inferenční statistik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počet </a:t>
            </a:r>
            <a:r>
              <a:rPr b="1" lang="cs-CZ" sz="2800" spc="-1" strike="noStrike">
                <a:solidFill>
                  <a:srgbClr val="c00000"/>
                </a:solidFill>
                <a:latin typeface="Arial"/>
              </a:rPr>
              <a:t>standardní chyby </a:t>
            </a:r>
            <a:r>
              <a:rPr b="0" lang="cs-CZ" sz="2800" spc="-1" strike="noStrike">
                <a:solidFill>
                  <a:srgbClr val="c00000"/>
                </a:solidFill>
                <a:latin typeface="Arial"/>
              </a:rPr>
              <a:t>a </a:t>
            </a:r>
            <a:r>
              <a:rPr b="1" lang="cs-CZ" sz="2800" spc="-1" strike="noStrike">
                <a:solidFill>
                  <a:srgbClr val="c00000"/>
                </a:solidFill>
                <a:latin typeface="Arial"/>
              </a:rPr>
              <a:t>intervalů spolehlivosti pro procenta/podíly</a:t>
            </a:r>
            <a:r>
              <a:rPr b="0" lang="cs-CZ" sz="28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rozdíly (pro průměry nestač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stování hypotéz pro číselní znaky (t-test, F-test oneway Anova) i v třídění 3. stupně (efektivně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stování hypotéz pro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ategoriální znaky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chikvadrát test dobré shody: 1-way pro komparaci výsledků a 1-w pro kontingenční tabulku).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utnost znát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rincip Chikvádrát test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ruční výpočet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1. co jsme nestihli v AKD2 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(v 201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Co jsme nestihli v AKD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stování hypotéz pro průměry (rozptyly), variační koeficient(y), základní transformace (agregace dat), reliabilita, konstrukce indexů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ariační koeficient(y), Index nepodob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stování hypotéz o rozdílu dvou průměrů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rozptylů (+ jednoduchá analýza rozptyl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kladní transformace: Agregace dat + tabelární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c00000"/>
                </a:solidFill>
                <a:latin typeface="Arial"/>
              </a:rPr>
              <a:t>Co jste „nestihli“ v AKD2 v 2016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Umí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125000"/>
            <a:ext cx="83628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gregovat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pojovat data (mer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vářet proměnné s pomocí podmínek (do if 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X-Y scatter-plot s regresními přímkami pro podskupiny (→ interakce vlivu X a Z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Graf pro průměry v podskupinách s intervalem spolehlivosti (Error B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počítat interval spolehlivosti pro podíl (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Jak psát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empirickou část tex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nejen) v diplo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odrobně viz samostatnou presentaci, kde jsou ukázky tabulek a další krok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stup jak (začít) psát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závislá proměnná(é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 ní si vyhrajte, nepůjde již v hotovém textu měn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cept/operacionalizace/jednotky/ rekódování, deskripce (variance, rozložení,…),, zakotvení (porovnání s výsledky jiných výzkumů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stup jak (začít) psát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ozpracovat si projekt (diplomovou práci) na otáz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dle těchto otázek udělat (pod)kapitoly (v1. kroku stačí nadpisy + anota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tázky by měly být stupňovitě do sebe zapadající (→ co je třeba vyřešit nejdříve, co nelze bez jiného předchozího kroku, co naopak ano a co tedy lze odložit na později … 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Co bude psát JŠ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liv rodinného prostředí – kulturní a sociální kapitál –  na dosažené vzdělání a socioekonomický status v kontextu perifernosti lokality (multilevel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nalýza panelových dat z panelu ZŠ: rozvoj čtenářské gramotnosti a determinant školního úspěchu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cc3300"/>
                </a:solidFill>
                <a:latin typeface="Arial"/>
              </a:rPr>
              <a:t>A co budete psát v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tudijní materiály a podkl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50560" y="691920"/>
            <a:ext cx="8785080" cy="60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ff"/>
                </a:solidFill>
                <a:latin typeface="Arial"/>
              </a:rPr>
              <a:t>http://metodykv.wz.cz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Zde najdete úplně vše!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č. organizačních aktualit</a:t>
            </a:r>
            <a:br>
              <a:rPr sz="20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některé texty jsou zaheslované, o heslo si napiš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le nejprve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čtěte 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Studijní oporu ke kurzu KMVP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otální základy designu sociologického kvantitativního výzkumu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dyby snad někdo nevěděl, tak úplný základ analýzy (AKD1):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Ukázky jak prezentovat tabulky a interpretovat vztahy proměnných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Studijní opora ke kurzu Praktikum EADKV (úvod do analýzy kvantitativních dat v prostředí statistického software PSPP/ SPSS)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ttp://kmvp.wz.cz/praktikum_analyzy_kvn_dat_opora01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pak 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Praktické rady k presentaci dat (nejen) z regresních modelů v textu např. diplomové prá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kladní doporučená lit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reš, P., L. Rabušic, P. Soukup. 2017. 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Analýza sociálněvědních dat (nejen) v SPSS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. Brno: Muni Press.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ttps://www.press.muni.cz/knihy/projekty-nakladatelstvi/sp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iman, D. J. 2009.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Quantitative data analysis: doing social research to test ideas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an Francisco: Jossey-Bass.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https://www.wiley.com/en-cz/Quantitative+Data+Analysis%3A+Doing+Social+Research+to+Test+Ideas-p-97811185126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arování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urz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AKD3 není pro začátečníky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dmínka je AKD1 a AKD2 nebo ekvival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zn. nebudeme se učit zapínat/Vypínat statistický progr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tože budeme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odelovat vztahy v datech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 datech a modelech budeme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(kriticky) přemýšl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ukážeme si také jak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ýsledky z modelů presentov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AKD III. – základní teze </a:t>
            </a:r>
            <a:br>
              <a:rPr sz="40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a odlišnosti od AKD I. A AKD II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urz je pro vás – pro řešení vašich problém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→ „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nalyticko-sociologická dílna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ždy krátká přednáška k tématu (obecně o metodě), následuje společně zadávaný příklad v SPSS/Stata a (ideálně)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plikace na vlastních datech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rom „velkých metod“ také drobné užitečnosti a nezbytnosti jako složitější manipulace při transformacích či užitečné míry co SPSS neumí (např. kvalitativní variance, index nepodobnost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a případně něco důležitého, na co se nedostalo v AKD2 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Uděláme „vše pro diplomky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jde-li se konsensus a vytrvalost, pak všichni budeme průběžně z hodiny na hodinu </a:t>
            </a: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pravidelně psát text diplomky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= analytické části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následně ostatním vysvětlovat jak a proč jste jakou metodu použili s jakým výsledkem a interpretac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texty si vzájemně čís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blém ovšem je, že první část analýz většinou zahrnují popisné analýzy a na ty prostor v AKD3 nebude…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na to viz samostatnou presentaci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stup výkladu v AKD II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to ideální postu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becný výklad („je tady taková možnost analýzy“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ciologický problém (otázka v diplomce) → metoda → její praktická aplik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na závěr (i v průběhu): Problém → metoda/(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kusíme se výklad a aplikace upravit tak, aby bylo jasno, na co se dají použít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 konkrétních diplomových pracích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platí pouze pro DP u JŠ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Dvě hlavní části kurzu</a:t>
            </a:r>
            <a:br>
              <a:rPr sz="40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oblasti aplikace vícerozměrných met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821844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urz má mít v zásadě dvě hlavní čás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nalýza latentních struktur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→ „asociace mezi „nezávislými“ proměnnými a redukce jejich počtu do obecnějších dimenzí či typů (klastrů)“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někdy jen defacto příprava závislé proměnné pro 2)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Regresní analýza a její verze pro kategoriální dat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→ kauzální usuzování ohledně vztahů mezi závislou a několika nezávislými proměnným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Jádro kurzu je druhá část vícerozměrná regres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 Vypadá to, že začneme právě s ní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nkrétní náplň kurzu závisí na složení a potřebách studentů 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+ aktuálně řešené problematiky v SOÚ AV ČR, v.v.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sah kurzu (plán do 201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o jsme nestihli v AKD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stování hypotéz pro průměry (rozptyly), variační koeficient(y), základní transformace (agregace dat), reliabilita, konstrukce indexů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Regresní analýza</a:t>
            </a:r>
            <a:r>
              <a:rPr b="0" lang="cs-CZ" sz="2400" spc="-1" strike="noStrike">
                <a:solidFill>
                  <a:srgbClr val="c00000"/>
                </a:solidFill>
                <a:latin typeface="Arial"/>
              </a:rPr>
              <a:t> (úvod, princip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00000"/>
                </a:solidFill>
                <a:latin typeface="Arial"/>
              </a:rPr>
              <a:t>Vícerozměrná lineárně regresní analýza (O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Regresní analýza pro kategoriální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inomická logistická regrese (0/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lynomická logistická regrese (1/2/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ultinominální logistická regrese (B/M/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ogitové mod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nalýza latentních struktur (metoda hl. komponen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eciální transformace dat (vektor, „případo-roky“,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nalýza časových řad (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vojné třídě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- působení faktorů v kontingenční tabulce (fitting two-way table), korespondenční analý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31320"/>
            <a:ext cx="85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 tomu navíc v 2017-2019 (plá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79280" y="1125360"/>
            <a:ext cx="885672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mezíme se pouze na aktuální řešené projek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Socio-prostorové znevýhodnění obyvatel periferních venkovských oblast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GA ČR, SOÚ AV ČR, v.v.i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→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ata z výzkumu Periferie ČR 2016 v 2019 asi už 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CSDA-R RESEARCH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OP VVV, SOÚ AV ČR, v.v.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→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ata z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CSDA-R 2017 a předvýzku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VWT test),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ISSP 2017- Sociální sít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Panel ZŠ (4 a 5 vl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Workshop: úvod práce v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tatistickém programu St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ůraz na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modelování da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a úskalí s tím spjatá (limity, testy, klastrovaná data, atd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6T18:25:27Z</dcterms:created>
  <dc:creator>Jiri Safr</dc:creator>
  <dc:description/>
  <dc:language>en-US</dc:language>
  <cp:lastModifiedBy>Jiří Šafr</cp:lastModifiedBy>
  <dcterms:modified xsi:type="dcterms:W3CDTF">2019-02-27T15:55:25Z</dcterms:modified>
  <cp:revision>252</cp:revision>
  <dc:subject/>
  <dc:title>AKD3   Plán práce</dc:title>
</cp:coreProperties>
</file>