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media/image1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20F-61FA-4196-9396-46524A2A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694-F8CC-4014-84D2-560A74F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9A9-2914-4D32-983A-14DAE743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81A-7680-4609-AA7D-8F456958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406-5038-460D-8DFD-877B3F57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A11-D282-4811-88E4-4B05671F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8C2-CCA2-490A-B02C-84AECBEB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373-E5FC-4D1D-9034-27E540C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2C8-94BB-489B-B65E-4EC6AA9F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137-53AE-419B-BE74-90251DE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A21-0E12-4177-A6D1-475CE69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41D-E2AC-48C3-A444-455C412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03C6-29B8-4006-95E4-AB5E44F6DE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todykv.wz.cz/tabulky_intepretace_prezentace.pdf" TargetMode="External"/><Relationship Id="rId2" Type="http://schemas.openxmlformats.org/officeDocument/2006/relationships/hyperlink" Target="http://metodykv.wz.cz/tabulky_intepretace_prezentace.pdf" TargetMode="External"/><Relationship Id="rId3" Type="http://schemas.openxmlformats.org/officeDocument/2006/relationships/hyperlink" Target="http://metodykv.wz.cz/spss2_tabulky.ppt" TargetMode="External"/><Relationship Id="rId4" Type="http://schemas.openxmlformats.org/officeDocument/2006/relationships/hyperlink" Target="http://metodykv.wz.cz/AKD1_mapa_bivaranalyz.ppt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907560"/>
            <a:ext cx="784872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nalýza kvantitativních dat III. – praktické aplikace vícerozměrných statistick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27/5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47640" y="2781360"/>
            <a:ext cx="78487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 psát empirickou část odborného textu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minární, diplomová práce)</a:t>
            </a:r>
            <a:br>
              <a:rPr sz="32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pisné statistiky a bivariát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nažte se o jednoduch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pisujte data a formulujte závěry tak, aby tomu rozuměla i vaše babička. Nesrozumitelnost a zevrubnost není to samé. Opravdu elegantní vysvětlení jsou většinou jednoduch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varujte se frází, které nic neznamenaj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sto: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Nyní budeme zkoumat, jaký závěr lze učinit, zda A by mohlo mít nějaký efekt na B?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 →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vlivňuje A B?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lačte pasivní větné konstrukce. 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sto: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jistilo se, že X souvisí s 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 →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 souvisí s 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sto: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Byla zkonstruována škála historického vědomí občanů Č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 →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konstruoval/a jsem škál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…“ nebo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oužil jsem škálu 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varujte se odborné hantýrky, pokud to nepomáhá porozumění text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jmy-koncepty jsou tady od toho, aby precizovaly, standardizovaly a hlavně šetřily místo v textu (místo odstavce stačí slovo). Al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eferujte běžný jazyk, vždy tam, kde to fungu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Nadbytečné používání odborných termínů váš text neudělá vědečtější, jen odradíte čtenář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879640" y="6381720"/>
            <a:ext cx="62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upraveno podle [Treiman 2009: 31-62], původně [Miller 2004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bule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interpretace čísel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87280" y="69192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etřete se zkratkam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Zkratky jso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hodné v tabulkách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de není moc místa), ale ušetření místa v textu za cenu zmateného čtenáře za to nestoj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e zkratkách se vyžívají hlavně psychologové, ale pak se to špatně čte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hodněte se pro to, v jaké osobě budete psát. Nepoužívejte „My“, tam kde jde o „Já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íšete-li sami, pak v první osobě jednotného čísla. Lze ale psát „My“, pokud tím máte namysli sebe (autora) a čtenáře (např. „Jak vidíme v tabulce 1 …“). Psaní v prvním osobě není u nás vždy jediná možná varianta, ale postupně se stále více prosaz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jmy asociace a korelace popisují vztah mezi proměnnými (jako celky) nikoliv mezi konkrétními hodnotam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Tyto pojmy nepopisují jedno konkrétní políčko v tabulce (pro A x B). Odpovídající fráze je např.: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ezi A a B je pozitivní korel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 nebo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kud je vysoké A pak i B je vyso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,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odnoty A rostou s hodnotami 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, ale neplatí, tj. nepište: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ezi A a vysokými hodnotami B je korel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é nikdy nepište: „</a:t>
            </a:r>
            <a:r>
              <a:rPr b="0" i="1" lang="cs-CZ" sz="2000" spc="-1" strike="noStrike">
                <a:solidFill>
                  <a:srgbClr val="1c1c1c"/>
                </a:solidFill>
                <a:latin typeface="Arial"/>
              </a:rPr>
              <a:t>A koreluje s B na 80 %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, protože toto je špatná interpretace korelačního koeficien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když už tak, převeďte korelac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umocněním) na koeficient determinac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poté jej můžete interpretovat jako podíl vysvětlené variance v hodnotách A na základě hodnot B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jděte si koleg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hruba na stejné odborné úrovni jako jste vy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se kterým si budete texty navzájem čí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Snažte se o zachování spravedlivé symetrie objemu/času čtení. Profitujete z toho jak jako autor tak i jako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879640" y="655308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upraveno podle [Treiman 2009: 31-62], původně [Miller 2004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bule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interpretace čísel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dm principů psaní „o číslech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stav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text pro čísla, která budete prezento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ím, že specifikujete „Ws“ (Co/Kdo/Kde/Kd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adekvátní příklady a analog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lovník (pojmy), které zavede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Definujte synonyma pro koncepty, které budete užívat (a jen ty používejte v textu). Nahraďte matematicko-statistický slovník a symboly výrazy běžného jazyka srozumitelného pro netechnické čtenář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ěte se, zda čísla budete presentovat v tabulkách nebo grafech. Zamyslete se kolik času bude čtenář potřebovat na zpracování čísel →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te ukazování čísel (opisování z tabulek do textu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oužívej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om čísel také slovní vyjádř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ísto čísla s % lze slovně vyjádřené zlomk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ďte čísla a interpretujte je v textu. Uveďte je a uveďte jejich význam a smysl. Interpretujte je a t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 vztahu k hlavnímu téma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kuj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 a velikost asociace mezi proměnným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je trend: roste/ klesá? Pokud rozdíly mezi skupinami/ místy: kdo má nejvyšší/ nejnižší hodnot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popisu vztahu mezi mnoha čísly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umarizujte celkový vzor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píš než všechna jednotlivá čísla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jdě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lepší generalizaci pro data. Uveďte jí na příkladech čísel z tabulky graf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A také, je-li, popišt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rend, který tomuto obecnému tren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odpovídá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j. výjimky z trendu/ vzorce asocia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24720" y="6595920"/>
            <a:ext cx="251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[Miller 2005: 3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esentace tabulek s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 popisnými statistikami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třídění prvního stupně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n pro závislou  (vysvětlovanou) proměn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opisné statistiky: jejich smysl a přiměře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každém textu je třeba nejprve nějak popsat hodnoty (rozložení hodnot) proměnných, které budeme dále analyzovat bivariátně či vícerozměr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láme to vždy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 maximální stručností a věcnou zacílenos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ěnujeme se především závislé proměnné/ným, z nezávislých těm, které jsme sami konstruovali, či jsou jinak zajímavé/nesamozřejm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apř. nebudete u nezávislých proměnných popisovat, jaký je podíl věkových kategorií, ale můžete v textu zmínit jaký je podíl rodin s žádným, jedním a více dětm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ý text není možné zahltit nezáživným popisem populace a pak jen krátce řešit samotnou analýzu – výzkumné otázky/hypotézy.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o nemusí úplně platit pro výzkumnou zprávu, kde je detailní deskripce někdy podstatou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kriptivní popis (třídění prvního stupně, míry centrální tendence/variability atd.) lze spojit až s bivariátní analýzou.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bulky s popisnými statistikami dáváme do pří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yslete vždy na čtenáře, aby váš text neodložil znuděn hned po přečtení prvních dvou-tří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ulaci/ výběrový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bor popisujte detailně pouze, pokud jde o váš vlastní výzk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bo nějakou specifickou popula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ikdy nepopisujte na datech z celonárodního výzkumu např. kolik je mužů a žen, věkových skupin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družená tabulka pro třídění 1. stu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mám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íce proměnných se stejnými kategori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baterie otázek), můžeme jejich četnosti  presentovat v jedné sdružené tabul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SPSS např. pomocí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TABL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arší jednodušší verze, stále funguje ale pouze přes syntax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v novějších verzích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CTABLES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je vyžaduje specielní licenci. </a:t>
            </a:r>
            <a:br>
              <a:rPr sz="2800"/>
            </a:b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lternativní řešení je několik </a:t>
            </a:r>
            <a:r>
              <a:rPr b="0" lang="cs-CZ" sz="2500" spc="-1" strike="noStrike">
                <a:solidFill>
                  <a:srgbClr val="000066"/>
                </a:solidFill>
                <a:latin typeface="Arial"/>
              </a:rPr>
              <a:t>FREQUENCIES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a spojit pak dílčí tabulky v Excel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69920" y="3789360"/>
            <a:ext cx="8802720" cy="1817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33280" y="5734080"/>
            <a:ext cx="867564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AB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/FTOTAL $t 'Celkem %‚  /FORMAT BLANK MISSING('.'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TABLES ( q3_a + q3_b + q3_c + q3_d ) BY  (LABELS) + $t  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STATISTICS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PC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(F7.1) '%' ) /TITLE   ="Jak moc baví dotázaného …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486560" y="65833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 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o samé pomocí</a:t>
            </a:r>
            <a:r>
              <a:rPr b="0" lang="cs-CZ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C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08000" y="2565360"/>
            <a:ext cx="8856720" cy="3934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 Custom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C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LABELS VARIABLES=q3_a q3_b q3_c q3_d DISPLAY=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TABLE q3_a [C][ROWPCT.COUNT PCT40.1, TOTALS[COUNT F40.0, ROWPCT.COUNT PCT40.1]] + q3_b [C][ROWPCT.COUNT PCT40.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TALS[COUNT F40.0, ROWPCT.COUNT PCT40.1]] + q3_c [C][ROWPCT.COUNT PCT40.1, TOTALS[COUNT F40.0, ROWPCT.COUNT PCT40.1]] + q3_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C][ROWPCT.COUNT PCT40.1, TOTALS[COUNT F40.0, ROWPCT.COUNT PCT40.1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SLABELS VISIBLE=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CLABELS ROWLABELS=OP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CATEGORIES VARIABLES=q3_a q3_b q3_c q3_d ORDER=A KEY=VALUE EMPTY=INCLUDE TOTAL=YES POSITION=AFTER MISSING=EXCL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19040" y="981000"/>
            <a:ext cx="8305920" cy="1357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7308720" y="23493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 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pisné statistiky pro závislou i nezávislé proměn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353200" cy="5827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50920" y="6521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Katrňák 2006: 18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543640" y="836640"/>
            <a:ext cx="360036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sporný formát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ladní tabulka třídění 1. stupně pro několik znaků dohroma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me zde počet platných případů,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řední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3300"/>
                </a:solidFill>
                <a:latin typeface="Arial"/>
              </a:rPr>
              <a:t>(průměr), což nemusí být vždy adekvátní </a:t>
            </a:r>
            <a:r>
              <a:rPr b="0" lang="cs-CZ" sz="1400" spc="-1" strike="noStrike">
                <a:solidFill>
                  <a:srgbClr val="cc3300"/>
                </a:solidFill>
                <a:latin typeface="Arial"/>
              </a:rPr>
              <a:t>typu proměn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směrodatnou odchylk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pis hodn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 kategoriálních znaků.</a:t>
            </a:r>
            <a:br>
              <a:rPr sz="2400"/>
            </a:b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se tato tabulka dává pouze do pří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179280" y="1197000"/>
            <a:ext cx="86364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fektivní presentace vícero kontingenčních tabule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řídění 2. stup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u z možností j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„sdružená“ kontingenč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bul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Kombinované tabulky třídění 2. stupně pro několik nezávislých proměnných → bivariátní profil naší hlavní závislé proměnné(ý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e hodí zejména pro texty, kde musíme šetřit místem, jde o úspornou formu presen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92360" y="-171360"/>
            <a:ext cx="3600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í „profilová“ tabulka třídění 2. stupně (několik nezávislých znaků), pro dvě závislé promě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64000" y="2421000"/>
            <a:ext cx="3780000" cy="43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é proměnné jsou sice spojité-kardinální (dále analyzovány v OLS), zde ale pro přehlednost pouze % souhlasu a nesouhla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ávislé proměnné mají co nejmenší počet kategorií → přehlednost rozdí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rnativně by šlo ukazovat průměry závislé proměnné, ale takto máme z věcného hlediska mnohem lepší materiál k interpre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tvořeno v Excelu ze série kontingenčních tabulek z SPSS. V SPSS by bylo možno udělat celou tabulku pomocí modulu T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6"/>
          <p:cNvGraphicFramePr/>
          <p:nvPr/>
        </p:nvGraphicFramePr>
        <p:xfrm>
          <a:off x="108000" y="115920"/>
          <a:ext cx="4751280" cy="67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47512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7"/>
          <p:cNvSpPr/>
          <p:nvPr/>
        </p:nvSpPr>
        <p:spPr>
          <a:xfrm>
            <a:off x="2843280" y="6613560"/>
            <a:ext cx="23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[Šafr, nepublikovaný rukopis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ak psá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mpirickou část tex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jen) v 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[Evans, Kelley, Kolosi 1992: 47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to udělat v SP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tři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děleně jednotlivé kontingenční tabul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CROSSTAB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ty pak pospojovat v Excelu → pracné, ale jednoduché na zadání v syntax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ustom Tabl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CTABL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družené tabulky (dostupné v nových verzích SPSS a specielním modulu) →  elegantní, složité na syntax, a musíte mít specielní = dražší licenci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ble of Frequen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TABL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ředchůdce CT ve starších verzích → taktéž vyžaduje specielní licenci, ale dá se relativně efektivně zadávat i přes syntax (zdá se že funguje i na nejnovějších verzích, v menu to ale nenajde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Sdružená kontingenční</a:t>
            </a: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tabulka v Custom T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920" y="5084640"/>
            <a:ext cx="8964720" cy="1617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* Custom Ta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66"/>
                </a:solidFill>
                <a:latin typeface="Arial"/>
              </a:rPr>
              <a:t>CTAB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/VLABELS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ARIABLES = S30 vzd4 vekkat prijem4 Cte3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DISPLAY=DEFAUL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TABLE S30 [C] + vekkat [C] + vzd4 [C] + prijem4 [C]  BY Cte3 [C][ROWPCT.COUNT PCT40.1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OTALS[ROWPCT.COUNT PCT40.0, COUNT F40.0]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CATEGORIES VARIABLES=S30 vekkat vzd4  prijem4  ORDER=A KEY=VALUE EMPTY=INCLU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CATEGORIES VARIABLES=Cte3 ORDER=A KEY=VALUE EMPTY=INCLUDE TOTAL=YES POSITION=AF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39640" y="631800"/>
            <a:ext cx="7056720" cy="4346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48656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 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7280" y="-3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Arial"/>
              </a:rPr>
              <a:t>Sdružená kontingenční</a:t>
            </a:r>
            <a:r>
              <a:rPr b="0" lang="cs-CZ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300" spc="-1" strike="noStrike">
                <a:solidFill>
                  <a:srgbClr val="000000"/>
                </a:solidFill>
                <a:latin typeface="Arial"/>
              </a:rPr>
              <a:t>tabulka v TAB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 bohužel jen pro absolutní če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5112000" cy="4152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7280" y="5950080"/>
            <a:ext cx="85694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AB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TABLE =  (S30 + vzd4 + vekkat + prijem4)  BY (Ct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STATISTICS COUNT ( (F7.0) 'N'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ezentace základních bivariátních vzta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ou máme jednu (či více) závislou-vysvětlovanou proměnnou a naše hlavní hypotézy (a v nich nezávislé znaky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prve vztahy dané hypotézami můžeme sledovat jednoduše bivariát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bivariátní vztah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a znaky kategoriální-ordinál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800"/>
            </a:br>
            <a:r>
              <a:rPr b="0" i="1" lang="cs-CZ" sz="2000" spc="-1" strike="noStrike">
                <a:solidFill>
                  <a:srgbClr val="a50021"/>
                </a:solidFill>
                <a:latin typeface="Arial"/>
              </a:rPr>
              <a:t>závislá proměnn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zdělanostní aspirace dítěte, </a:t>
            </a:r>
            <a:r>
              <a:rPr b="0" i="1" lang="cs-CZ" sz="2000" spc="-1" strike="noStrike">
                <a:solidFill>
                  <a:srgbClr val="a50021"/>
                </a:solidFill>
                <a:latin typeface="Arial"/>
              </a:rPr>
              <a:t>nezávisl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aspirace rodič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0920" y="6521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Katrňák 2006: 18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28600" y="1773360"/>
            <a:ext cx="8686800" cy="4776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50920" y="5157720"/>
            <a:ext cx="85690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bivariátní vztah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a znaky kategoriál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nominální a ordinální). </a:t>
            </a:r>
            <a:br>
              <a:rPr sz="2800"/>
            </a:br>
            <a:r>
              <a:rPr b="0" i="1" lang="cs-CZ" sz="2000" spc="-1" strike="noStrike">
                <a:solidFill>
                  <a:srgbClr val="a50021"/>
                </a:solidFill>
                <a:latin typeface="Arial"/>
              </a:rPr>
              <a:t>závislá proměnn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způsob získání 1. pracovního místa, </a:t>
            </a:r>
            <a:r>
              <a:rPr b="0" i="1" lang="cs-CZ" sz="2000" spc="-1" strike="noStrike">
                <a:solidFill>
                  <a:srgbClr val="a50021"/>
                </a:solidFill>
                <a:latin typeface="Arial"/>
              </a:rPr>
              <a:t>nezávisl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zdělá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6521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[Hauberer, Šafr  2012: 5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50920" y="1538280"/>
            <a:ext cx="8353440" cy="481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87280" y="5805360"/>
            <a:ext cx="57247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1106640"/>
            <a:ext cx="6912000" cy="5751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bivariátní vztah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2300" spc="-1" strike="noStrike">
                <a:solidFill>
                  <a:srgbClr val="a50021"/>
                </a:solidFill>
                <a:latin typeface="Arial"/>
              </a:rPr>
              <a:t>závislá proměnná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kardinální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: Pro-čtenářské klima rodiny </a:t>
            </a:r>
            <a:r>
              <a:rPr b="0" lang="cs-CZ" sz="2300" spc="-1" strike="noStrike" u="sng">
                <a:solidFill>
                  <a:srgbClr val="cc3300"/>
                </a:solidFill>
                <a:uFillTx/>
                <a:latin typeface="Arial"/>
              </a:rPr>
              <a:t>ve 2 dimenzích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300" spc="-1" strike="noStrike">
                <a:solidFill>
                  <a:srgbClr val="a50021"/>
                </a:solidFill>
                <a:latin typeface="Arial"/>
              </a:rPr>
              <a:t>nezávislá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kategoriální-ordinální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: vzdělá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191280" y="6381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[Gorčíková, Šafr  2012: 7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2952720" cy="219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714920" y="-1539720"/>
            <a:ext cx="417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72360" y="1557360"/>
            <a:ext cx="2627280" cy="462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vislé proměn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spojité-kardinální a </a:t>
            </a: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standardizované na z-skó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mají stejnou metriku-rozsah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dále byly analyzovány v OL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i nezávislá proměnná je kardinální, lze X-Y (scatterplot) graf, a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ěkdy je interpretačně zajímavější jednu z proměnných kategorizovat a pak ukazovat průměry v podskupin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chopitelně jsou i jiné varianty znaků a možnosti prezent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ním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nik pro platné případy (effective s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y v textu by měly být provedeny 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istentním podsouboru se stejným počtem platných přípa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růni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začít – co napsat na 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éma? Do jakého kontextu ho zasazuj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č má smysl zabývat se právě tímto téma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co navazujete? Co je vaše inov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se tím někdo zabýval před vámi, k čemu došel?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konkrétní výsledky a jejich zobecnění,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 biografie-medailony aut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nik pro platné případy (effective s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průnik pro platné případy (princip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STW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řazení missingů), který se v textu nebude měnit (effective sample), může jít jen o kapitolu (její části) nebo o celý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šechny tabulky/analýzy by měly být založeny na jednom podsouboru, tj. stejném počtu příp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prve vše zkontrolo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nejjednodušeji velikost průniku zjistíme pomocí DESCRIPTIVES (viz dá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chybějících hodnot (missingů) u závislé proměnné je pořád stejný, ale může se měnit podle nezávislých proměnný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může být, ž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kový průnik missingů všech analyzovaných proměnných může být již příliš velk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&gt; 5%). → kontrolovat reprezentativitu analyzovaného podsou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k lze zvážit pro nezávislé proměnné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„zahrnutí chybějících hodnot“ do analýzy nejjednodušeji pomocí nahrazení průměrem (Replace with Mean). To samotné se ale nedoporučuje, lepší volba je to doplnit 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dikaci, zda u konkrétní proměnné hodnota chybě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dummy var) a testovat její statistickou význam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mputaci hodno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existují sofistikované metody doplnění (aproximace) chybějících hodnot pro nezávislé proměnné na základě odhadu z hodnot jiných proměnný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hybějící hodnoty v datech mohou bý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issing completely at random (MCAR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ideální situace, výsledky nejsou zkreslené (bi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issing at random (MAR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chybějící hodnoty jsou jen u některé proměnné, ale nejsou ničím systematicky ovlivn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ot missing at random (NMAR) </a:t>
            </a:r>
            <a:br>
              <a:rPr sz="3200"/>
            </a:br>
            <a:r>
              <a:rPr b="0" lang="cs-CZ" sz="3200" spc="-1" strike="noStrike">
                <a:solidFill>
                  <a:srgbClr val="cc3300"/>
                </a:solidFill>
                <a:latin typeface="Arial"/>
              </a:rPr>
              <a:t>→ chybějící hodnoty jsou něčím (nenáhodně) podmíněny </a:t>
            </a:r>
            <a:br>
              <a:rPr sz="3200"/>
            </a:br>
            <a:r>
              <a:rPr b="1" lang="cs-CZ" sz="3200" spc="-1" strike="noStrike">
                <a:solidFill>
                  <a:srgbClr val="cc3300"/>
                </a:solidFill>
                <a:latin typeface="Arial"/>
              </a:rPr>
              <a:t>→ problém zkresl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Kontrola reprezentativity analyzovaného podsouboru celkově platných případů, filtr na effective s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kontrolu si vytvoříme filtr s celkovým průnikem platných případů (prostým součtem všech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latn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t všech proměnných): </a:t>
            </a: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_Lsw6v = Závislá+Nezávislá1+Nezávislá2+Nezávislá3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atd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Fi_Lsw6v 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LOW THRU HIGH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Fi_Lsw6v =  s27 vek prijem s30 s18 vzd3 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SYSMIS MISSI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* pozor toto zadání předpokládá, že jsou již ošetřeny missingy a je ve výsledku opačné.</a:t>
            </a:r>
            <a:br>
              <a:rPr sz="2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_Lsw6v (0 =1) (1 thru highest =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jednoduchá kontrola reprezentativity, např.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CROS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kkat by Fi_Listw /cel c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a všechny bivariátní analýzy zapneme filtr pro podskupinu platných případů.</a:t>
            </a: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FILTER B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_Lsw6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vislá proměnná(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ní si vyhrajte, nepůjde již v hotovém textu mě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cept/operacionalizace/jednotky/ rekódování, deskripce (variance, rozložení,…), zakotvení (porovnání s výsledky jiných výzkum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pracovat si projekt (diplomovou práci) na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těchto otázek udělat (pod)kapitoly (v1. kroku stačí nadpisy + ano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y by měly být stupňovitě do sebe zapadající (→ co je třeba vyřešit nejdříve, co nelze bez jiného předchozího kroku, co naopak ano a co tedy lze odložit na později …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textu empirické čá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pis závislé proměn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e tupě ale zakotveně interpretovat (např. vývoj v č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ivariátní vztah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ty nejdůležitější z hlediska te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ultivariační analýz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regrese, modely=hypotézy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v ní lze dále: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e (nejlépe dle teor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é znázornění čistých efektů (estimated 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z (kontingenčních)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ulek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→ interpretace a prezentace čísel v tex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4581360"/>
            <a:ext cx="7490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raveno podle [Treiman 2009: 31-62], původně [Miller 20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ledující část je kopie presentace AKD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úpravě, formátování tabulek a psaní interpretací čtěte dok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kázky jak prezentovat tabulky a interpretovat vztahy proměnný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todykv.wz.cz/tabulky_intepretace_prezentace.pd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samotné konstrukci a interpretaci tabulek viz např. present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ntingenční tabulky: Úvod. Třídění 2. stupně - analýza kategoriálních dat </a:t>
            </a:r>
            <a:br>
              <a:rPr sz="1800"/>
            </a:b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todykv.wz.cz/spss2_tabulky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řídění 2. a 3. stupně: orientační mapa možností bivariátních analýz + ukázka interpretace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etodykv.wz.cz/AKD1_mapa_bivaranalyz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psát tex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bule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interpretace čísel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bulky popisujte především z hledisk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ěcného význa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čísla opisujte do textu jen pokud je třeba, aby bylo jasno, co/kde tabulka ukazuje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uhé opakování čísel z tabulky nestač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střeďte s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závěry „co čísla znamenají“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myslem je prezentovat a ověřovat  myšlenky (hypotézy)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i tak musíte uvádět tolik čísel, aby se i nepoučený čtenář v tabulce zorient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0920" y="6381720"/>
            <a:ext cx="62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upraveno podle [Treiman 2009: 31-62], původně [Miller 2004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8:25:27Z</dcterms:created>
  <dc:creator>Jiri Safr</dc:creator>
  <dc:description/>
  <dc:language>en-US</dc:language>
  <cp:lastModifiedBy>Jiří Šafr</cp:lastModifiedBy>
  <dcterms:modified xsi:type="dcterms:W3CDTF">2015-12-02T17:49:53Z</dcterms:modified>
  <cp:revision>350</cp:revision>
  <dc:subject/>
  <dc:title>AKD3   Plán práce</dc:title>
</cp:coreProperties>
</file>