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6.wmf" ContentType="image/x-wmf"/>
  <Override PartName="/ppt/media/image13.wmf" ContentType="image/x-wmf"/>
  <Override PartName="/ppt/media/image14.png" ContentType="image/png"/>
  <Override PartName="/ppt/media/image4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2.wmf" ContentType="image/x-wmf"/>
  <Override PartName="/ppt/media/image35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F05-C1A5-426F-82C2-777EE101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324-19C3-42A8-BFC4-35978797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FF9-F712-4EC4-85D8-3F397E86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617D-CE2E-4492-B310-B6E39A05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F9C0-B351-4FF2-ABF4-9B80E420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FE4F-7BD2-4063-A360-D1EC1842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869F-EDC9-4BC8-8076-C8C0365C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3857-D1CA-4DD0-8BF0-F8A7403B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2064-02F1-4D7F-A443-D46047EC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4C4E-5181-47DA-BC03-65F97DEB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F598-AA15-4D99-B28A-4E0480A0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FAB-4CAE-4FE5-B03C-F0B2F3C1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929E-FA85-4F5A-B9AF-693A4047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0D76-2FD9-4092-A193-3B72D616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D62A-0420-45DC-949E-654CF3EB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DB58-DBC4-4B43-8636-29099C05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7403-479C-47D3-A255-3FEB07FE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E97-F5DF-4A66-8D7C-F2EB5D28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EBB-5536-41C7-A986-C6397E28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9D4-619B-4FE7-A810-DFEEEA0C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682-9CDA-451A-ADDE-9F4AB8D6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383-CC80-4164-A7C7-D5172682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ECD2-9431-4150-BB72-6C8B98B7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9523-4D17-462B-A658-A42FB3FE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2543-86BB-4622-B7D0-6E28C78CFFE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463C-A6CB-4544-A408-8AD62EDA1B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etodykv.wz.cz/AKD2_hypotezy1.ppt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metodykv.wz.cz/AKD2_regrese.ppt" TargetMode="External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new.euromise.org/czech/tajne/ucebnice/html/html/statist.html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package" Target="../embeddings/oleObject1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package" Target="../embeddings/oleObject1.xls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1052280"/>
            <a:ext cx="784872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nalýza kvantitativních dat III. – praktické aplikace vícerozměrných statistických met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iří Ša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ri.safr(AT)seznam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slední aktualizace </a:t>
            </a:r>
            <a:r>
              <a:rPr b="1" lang="cs-CZ" sz="1200" spc="-1" strike="noStrike">
                <a:solidFill>
                  <a:srgbClr val="cc3300"/>
                </a:solidFill>
                <a:latin typeface="Arial"/>
              </a:rPr>
              <a:t>8/3/2016 </a:t>
            </a:r>
            <a:r>
              <a:rPr b="0" lang="cs-CZ" sz="1200" spc="-1" strike="noStrike">
                <a:solidFill>
                  <a:srgbClr val="cc3300"/>
                </a:solidFill>
                <a:latin typeface="Arial"/>
              </a:rPr>
              <a:t>(11/3/20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UK F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Historická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801720" y="3141720"/>
            <a:ext cx="7848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-testy a jednoduchá One-way ANOVA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testování hypotéz pro průměry (rozptyly)</a:t>
            </a:r>
            <a:br>
              <a:rPr sz="3200"/>
            </a:br>
            <a:br>
              <a:rPr sz="32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známka – 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arametrické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neparametrické tes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kud </a:t>
            </a:r>
            <a:r>
              <a:rPr b="1" lang="cs-CZ" sz="3200" spc="-1" strike="noStrike">
                <a:solidFill>
                  <a:srgbClr val="cc3300"/>
                </a:solidFill>
                <a:latin typeface="Arial"/>
              </a:rPr>
              <a:t>nejsou dodrženy předpoklad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malé výběry, normalita rozložení, ordinální závislý znak atd.) pak bychom měli pro testy střeních hodnot používat </a:t>
            </a:r>
            <a:r>
              <a:rPr b="1" lang="cs-CZ" sz="3200" spc="-1" strike="noStrike">
                <a:solidFill>
                  <a:srgbClr val="cc3300"/>
                </a:solidFill>
                <a:latin typeface="Arial"/>
              </a:rPr>
              <a:t>neparametrických test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iz dále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o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vouvýběrového Independent-samples t-tes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nn-Whitney U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o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ne-Way ANOVA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→ Kruskal-Walli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ne-way analysis of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kud má nezávislá proměnná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více kategorií než dvě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pak alternativou pro dvouvýběrový t-test j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jednoduchá analýza rozptylu (one-way ANO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ne-Way Analysis of Variance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(ANOVA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duchá (bivariátní) analýza rozpty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47CC-943D-4C80-83C3-D6D814A430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F-test a Analýza rozptyl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F-te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alternativní metoda pro srovnání výběrů pomoc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dílu jejich rozptyl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Předchozí testy T-testy a Z-test byly založeny na rozdílech průměru a směrodatné odchylky.)</a:t>
            </a:r>
            <a:br>
              <a:rPr sz="12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připomeňme si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ozptyl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= součet čtverců rozdílů jednotlivých pozorování od průměr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nalýza rozptylu s jednoduchým tříděním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ne-way ANOV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zkoumá rozdíly průměrů závislé (kardinální-číselné) proměnné mez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ěkol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kupinam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nými jedn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závislou kategoriální proměnn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ktor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18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kud má faktor jen dvě kategorie pak je test totožný s dvouvýběrovým T-te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tyto skupiny shodné nebo průměry tvoří nějaké identifikované shluky?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0: všechny průměrné hodnoty jsou v jednotlivých (sub)populacích stej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: rozdělím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lkový rozptyl závisle proměn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na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ariabilitu uvnitř skup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→ jak se každá hodnota ve skupině liší od skupinového průměru; residuální variabili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ariabilitu mezi skupinam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k se navzájem liší skupinové průměry, tj. porovnání všech skupinových průměrů s celkovým průměrem ze všech pozor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 = SE + S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bo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Celkový součet čtverců = součet čtverců uvnitř skupin + součet čtverců mezi výbě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ud skutečně neexistuje žádný rozdíl mezi skupinovými průměry, pak variabilita mezi skupinami i variabilita uvnitř skupiny reprezentují stejný jev - stejný populační rozptyl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ovnání variability v rámci skupiny a mezi skupinami se provádí pomoc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F tes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stové kritérium F (rozklad součtu čtverců odchylek měření od společného průměru) srovnáme s tabulkovým F-rozdělen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851280" y="1341360"/>
            <a:ext cx="4608360" cy="569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ážený rozptyl mezi průměry skup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–––––––––––––––––––––––––––––––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rozptyl mezi jedinci ve stejné skupin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788000" y="6583320"/>
            <a:ext cx="435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podle [Königová et al. 1988: 154; Hendl 2006: 349-35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ne-way ANOVA - předpo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pokladem j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vnost rozptylů 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testovaných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dskupinác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zuálně ověříme pomocí ErrorBar grafu se směrodatnými odchylkami</a:t>
            </a:r>
            <a:br>
              <a:rPr sz="3200"/>
            </a:b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GRAPH  /ERRORBAR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cc3300"/>
                </a:solidFill>
                <a:latin typeface="Arial"/>
              </a:rPr>
              <a:t>STDDEV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1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prijem BY vzd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e tomu tak n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sokoškoláci mají  větší rozptyl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jmech než ostat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viz také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Levenův te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"/>
          <p:cNvPicPr/>
          <p:nvPr/>
        </p:nvPicPr>
        <p:blipFill>
          <a:blip r:embed="rId1"/>
          <a:stretch/>
        </p:blipFill>
        <p:spPr>
          <a:xfrm>
            <a:off x="5076720" y="3765600"/>
            <a:ext cx="3864240" cy="30924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"/>
          <p:cNvSpPr/>
          <p:nvPr/>
        </p:nvSpPr>
        <p:spPr>
          <a:xfrm>
            <a:off x="324000" y="6381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[data ISSP 2007, Č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ONEWA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ije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zd4  /STATISTICS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ESCRIPTIV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OMOGENEIT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/PLOT MEANS  /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STHO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ONFERRONI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PHA(0.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*Zde máme navíc zadány: popisné statistiky, Levenův test homogeneity rozptylů, graf průměrů, a tzv.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st-hoc test pro statistický test, které skupiny se navzájem odlišuj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Bonferroniho te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 zadání pouze F-testu stačí jednoduše: </a:t>
            </a: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ONEWAY</a:t>
            </a:r>
            <a:r>
              <a:rPr b="0" lang="cs-CZ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ijem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zd4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bo v Means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MEAN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jem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zd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STATISTIC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 u="sng">
                <a:solidFill>
                  <a:srgbClr val="cc3300"/>
                </a:solidFill>
                <a:uFillTx/>
                <a:latin typeface="Arial"/>
              </a:rPr>
              <a:t>ANOV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ne-way ANOVA – zad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rcRect l="34215" t="0" r="0" b="0"/>
          <a:stretch/>
        </p:blipFill>
        <p:spPr>
          <a:xfrm>
            <a:off x="162000" y="663480"/>
            <a:ext cx="3303360" cy="2052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3708360" y="692280"/>
            <a:ext cx="3884760" cy="2122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3"/>
          <a:stretch/>
        </p:blipFill>
        <p:spPr>
          <a:xfrm>
            <a:off x="3708360" y="2917800"/>
            <a:ext cx="3330720" cy="2362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4"/>
          <a:stretch/>
        </p:blipFill>
        <p:spPr>
          <a:xfrm>
            <a:off x="250920" y="2760840"/>
            <a:ext cx="1942920" cy="25192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9"/>
          <p:cNvSpPr/>
          <p:nvPr/>
        </p:nvSpPr>
        <p:spPr>
          <a:xfrm>
            <a:off x="7812000" y="1125360"/>
            <a:ext cx="1081080" cy="863640"/>
          </a:xfrm>
          <a:prstGeom prst="borderCallout1">
            <a:avLst>
              <a:gd name="adj1" fmla="val 18750"/>
              <a:gd name="adj2" fmla="val -8333"/>
              <a:gd name="adj3" fmla="val 11763"/>
              <a:gd name="adj4" fmla="val -160500"/>
            </a:avLst>
          </a:prstGeom>
          <a:solidFill>
            <a:srgbClr val="ffff99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ávislá proměnn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číselná-kardinální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7740720" y="2133720"/>
            <a:ext cx="1152360" cy="647640"/>
          </a:xfrm>
          <a:prstGeom prst="borderCallout1">
            <a:avLst>
              <a:gd name="adj1" fmla="val 18750"/>
              <a:gd name="adj2" fmla="val -8333"/>
              <a:gd name="adj3" fmla="val 30638"/>
              <a:gd name="adj4" fmla="val -141046"/>
            </a:avLst>
          </a:prstGeom>
          <a:solidFill>
            <a:srgbClr val="ffff99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Nezávislá proměnn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kategoriální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ne-way ANOVA – Output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1616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evenův test (Homogeneity of variance test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shodnost rozptylů v podskupin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7129440" cy="2316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179280" y="4581360"/>
            <a:ext cx="3961080" cy="1386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4211640" y="4357800"/>
            <a:ext cx="4932360" cy="25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H0 (shoda rozptylů) zde nemůžeme přijmout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500"/>
            </a:br>
            <a:r>
              <a:rPr b="1" i="1" lang="cs-CZ" sz="1500" spc="-1" strike="noStrike">
                <a:solidFill>
                  <a:srgbClr val="000000"/>
                </a:solidFill>
                <a:latin typeface="Arial"/>
              </a:rPr>
              <a:t>P value </a:t>
            </a:r>
            <a:r>
              <a:rPr b="1" lang="cs-CZ" sz="1500" spc="-1" strike="noStrike">
                <a:solidFill>
                  <a:srgbClr val="c00000"/>
                </a:solidFill>
                <a:latin typeface="Arial"/>
              </a:rPr>
              <a:t>&lt;</a:t>
            </a: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 0,05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. Homogenita je porušena.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→ alternativní postupy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rovedeme </a:t>
            </a: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transformac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(např. zlogaritmování závislé proměnné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oužijeme </a:t>
            </a: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neparatmetrický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Kruskal-Wallis one-way analysis of vari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- také to můžeme </a:t>
            </a: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ignorovat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. ANOVA je vůči této podmínce poměrně robustní, pokud jsou podskupiny (v nezávislé proměnné) přibližně stejně velké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79280" y="836640"/>
            <a:ext cx="8785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isné statisti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průměry v podskupinách, STD, S.E., Intervaly spolehliv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to výsledky posléze věcně interpretujeme (samotný F-test je až v další tabul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 flipH="1">
            <a:off x="3850920" y="4797360"/>
            <a:ext cx="360360" cy="719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1" descr=""/>
          <p:cNvPicPr/>
          <p:nvPr/>
        </p:nvPicPr>
        <p:blipFill>
          <a:blip r:embed="rId3"/>
          <a:stretch/>
        </p:blipFill>
        <p:spPr>
          <a:xfrm>
            <a:off x="7020000" y="1730520"/>
            <a:ext cx="212400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ne-way ANOVA – Output (2): hlavní výsledek 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-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507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 test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ig. &lt; 0,05 proto zamítáme H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o shodě průměrů/rozptylů v podskupinác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: </a:t>
            </a: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samotný F-test </a:t>
            </a:r>
            <a:r>
              <a:rPr b="1" lang="cs-CZ" sz="2800" spc="-1" strike="noStrike">
                <a:solidFill>
                  <a:srgbClr val="cc3300"/>
                </a:solidFill>
                <a:latin typeface="Arial"/>
              </a:rPr>
              <a:t>neříká, které podskupiny se liší navzáje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ouze víme, že minimálně jedna vzdělanostní skupina se liší v průměrném příjmu od ostatní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 dále provedeme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st-hoc tes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nebo porovnáme Intervaly spolehlivosti mezi skupin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6048360" cy="18032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4859280" y="1557360"/>
            <a:ext cx="1656000" cy="72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5309-85BD-43A1-97A8-3233726F66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oduchá analýza rozptyl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one-way ANOVA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imultánní porovnání mezi skupinami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800" spc="-1" strike="noStrike">
                <a:solidFill>
                  <a:srgbClr val="cc3300"/>
                </a:solidFill>
                <a:latin typeface="Arial"/>
              </a:rPr>
              <a:t>post-hoc test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8000" y="1104840"/>
            <a:ext cx="8928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F-testem testujeme pouze globální hypotézu, podle které „průměry jsou ve skupinách dle faktoru stejné“.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le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nevíme, které ani kolik z nich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e případně lišší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ětšinou proto v dalším kroku provedeme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mnohonásobná porovnávání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, tj.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orovnáme každou dvojici průměrů: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ětšinou Post-hoc testem a nebo pomocí porovnání intervalů spolehlivosti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ost-hoc testy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používají upravenou hladinu významnosti: čím více porovnání (skupin dle faktoru), tím potřebujeme hladinu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přísnější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jich cílem je udržet danou hladinu pravděpodobnosti chyby prvního druhu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α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(5 %) tak, že ji rozdělí mezi všechna porovnání. 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ěkteré z těchto testů jsou velmi konzervativní. Může se stát, že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test zamítne hypotézu o rovnosti průměrů, a přitom žádná dvojice průměrů se od sebe podle výsledků metod mnohonásobného porovnávání navzájem významně neliší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Existuje několik variant testů (většinou jde o upravený dvouvýběrový T-test):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Bonferroniho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(konzervativní),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Fisherův LSD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– least significant difference (nejliberálnější),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Tukeyova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Duncanova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a d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podle [Hendl 2006: 354-356; Zvárová 2009: kap. 1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7AF1-B0E2-4B73-8AEE-980E43D798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ednoduchá analýza rozptylu ANOVA (F-test) 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v SPSS 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ONEWAY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 ANOV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211640" y="1052640"/>
            <a:ext cx="4782960" cy="1554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4752720" cy="14176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7"/>
          <p:cNvSpPr/>
          <p:nvPr/>
        </p:nvSpPr>
        <p:spPr>
          <a:xfrm>
            <a:off x="179280" y="1268280"/>
            <a:ext cx="3961080" cy="1511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ONEWA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je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4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STATISTIC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SCRIPTIV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POSTHOC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BONFERRON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0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ůměrný příjem se mezi vzdělanostními kategoriemi neli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3"/>
          <a:stretch/>
        </p:blipFill>
        <p:spPr>
          <a:xfrm>
            <a:off x="5219640" y="3213000"/>
            <a:ext cx="3743280" cy="2853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0"/>
          <p:cNvSpPr/>
          <p:nvPr/>
        </p:nvSpPr>
        <p:spPr>
          <a:xfrm>
            <a:off x="5219640" y="2637000"/>
            <a:ext cx="3745080" cy="71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333399"/>
                </a:solidFill>
                <a:uFillTx/>
                <a:latin typeface="Arial"/>
              </a:rPr>
              <a:t>2. krok:</a:t>
            </a:r>
            <a:r>
              <a:rPr b="1" lang="cs-CZ" sz="1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GB" sz="1400" spc="-1" strike="noStrike" u="sng">
                <a:solidFill>
                  <a:srgbClr val="333399"/>
                </a:solidFill>
                <a:uFillTx/>
                <a:latin typeface="Arial"/>
              </a:rPr>
              <a:t>Post Hoc Tests</a:t>
            </a: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1400"/>
            </a:br>
            <a:r>
              <a:rPr b="0" lang="cs-CZ" sz="800" spc="-1" strike="noStrike">
                <a:solidFill>
                  <a:srgbClr val="800000"/>
                </a:solidFill>
                <a:latin typeface="Arial"/>
              </a:rPr>
              <a:t>→ Které kategorie se statisticky významně významně odlišují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800000"/>
                </a:solidFill>
                <a:latin typeface="Arial"/>
              </a:rPr>
              <a:t>Bonferroniho test</a:t>
            </a:r>
            <a:r>
              <a:rPr b="0" lang="cs-CZ" sz="900" spc="-1" strike="noStrike">
                <a:solidFill>
                  <a:srgbClr val="800000"/>
                </a:solidFill>
                <a:latin typeface="Arial"/>
              </a:rPr>
              <a:t> je jednoduchý a konzervativní - přísný; použít lze i jiné testy (LSD, Tukey atd.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3780000" y="3429000"/>
            <a:ext cx="1296720" cy="504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2"/>
          <p:cNvSpPr/>
          <p:nvPr/>
        </p:nvSpPr>
        <p:spPr>
          <a:xfrm>
            <a:off x="3132000" y="4437000"/>
            <a:ext cx="2016360" cy="647640"/>
          </a:xfrm>
          <a:prstGeom prst="wedgeRoundRectCallout">
            <a:avLst>
              <a:gd name="adj1" fmla="val 26851"/>
              <a:gd name="adj2" fmla="val -13848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0000"/>
                </a:solidFill>
                <a:latin typeface="Arial"/>
              </a:rPr>
              <a:t>H0 zamítáme</a:t>
            </a:r>
            <a:r>
              <a:rPr b="0" lang="cs-CZ" sz="1200" spc="-1" strike="noStrike">
                <a:solidFill>
                  <a:srgbClr val="800000"/>
                </a:solidFill>
                <a:latin typeface="Arial"/>
              </a:rPr>
              <a:t>: dosažená hladina významnosti </a:t>
            </a:r>
            <a:r>
              <a:rPr b="0" i="1" lang="cs-CZ" sz="12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cs-CZ" sz="1200" spc="-1" strike="noStrike">
                <a:solidFill>
                  <a:srgbClr val="800000"/>
                </a:solidFill>
                <a:latin typeface="Arial"/>
              </a:rPr>
              <a:t> je nižší než 0,05 i 0,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0" y="4365720"/>
            <a:ext cx="3059280" cy="1312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Hodnota průměrného příjmu se statisticky významně (na </a:t>
            </a:r>
            <a:r>
              <a:rPr b="0" i="1" lang="cs-CZ" sz="1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&lt; 0,01) </a:t>
            </a:r>
            <a:r>
              <a:rPr b="1" lang="cs-CZ" sz="1000" spc="-1" strike="noStrike">
                <a:solidFill>
                  <a:srgbClr val="333399"/>
                </a:solidFill>
                <a:latin typeface="Arial"/>
              </a:rPr>
              <a:t>liší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podle úrovně vzdělání. </a:t>
            </a:r>
            <a:r>
              <a:rPr b="1" lang="cs-CZ" sz="1000" spc="-1" strike="noStrike">
                <a:solidFill>
                  <a:srgbClr val="333399"/>
                </a:solidFill>
                <a:latin typeface="Arial"/>
              </a:rPr>
              <a:t>Minimálně jedna kategorie se liší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od ostatních. Rozdíly v příjmu nejsou způsobeny náhodnými vlivy a lze je zobecnit z výběru na populaci. Následný </a:t>
            </a:r>
            <a:r>
              <a:rPr b="1" lang="cs-CZ" sz="1000" spc="-1" strike="noStrike">
                <a:solidFill>
                  <a:srgbClr val="333399"/>
                </a:solidFill>
                <a:latin typeface="Arial"/>
              </a:rPr>
              <a:t>Post-hoc test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(Bonferroniho nerovnost) ukazuje, že od všech ostatních stupňů se odlišuje pouze příjem ZŠ (platí pro </a:t>
            </a:r>
            <a:r>
              <a:rPr b="0" i="1" lang="cs-CZ" sz="1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&lt; 0,05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7236000" y="3933720"/>
            <a:ext cx="431640" cy="2016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5" descr=""/>
          <p:cNvPicPr/>
          <p:nvPr/>
        </p:nvPicPr>
        <p:blipFill>
          <a:blip r:embed="rId4"/>
          <a:srcRect l="4392" t="2081" r="792" b="3630"/>
          <a:stretch/>
        </p:blipFill>
        <p:spPr>
          <a:xfrm>
            <a:off x="3203640" y="5157720"/>
            <a:ext cx="2016000" cy="1609920"/>
          </a:xfrm>
          <a:prstGeom prst="rect">
            <a:avLst/>
          </a:prstGeom>
          <a:ln w="0">
            <a:noFill/>
          </a:ln>
        </p:spPr>
      </p:pic>
      <p:sp>
        <p:nvSpPr>
          <p:cNvPr id="235" name="Line 16"/>
          <p:cNvSpPr/>
          <p:nvPr/>
        </p:nvSpPr>
        <p:spPr>
          <a:xfrm flipV="1">
            <a:off x="5508720" y="5516640"/>
            <a:ext cx="115092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324000" y="5805360"/>
            <a:ext cx="237492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názorněno graficky (</a:t>
            </a:r>
            <a:r>
              <a:rPr b="1" lang="cs-CZ" sz="1000" spc="-1" strike="noStrike">
                <a:solidFill>
                  <a:srgbClr val="cc3300"/>
                </a:solidFill>
                <a:latin typeface="Arial"/>
              </a:rPr>
              <a:t>shoda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průměrů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0"/>
          <p:cNvSpPr/>
          <p:nvPr/>
        </p:nvSpPr>
        <p:spPr>
          <a:xfrm>
            <a:off x="826920" y="6524640"/>
            <a:ext cx="43200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1"/>
          <p:cNvSpPr/>
          <p:nvPr/>
        </p:nvSpPr>
        <p:spPr>
          <a:xfrm flipV="1">
            <a:off x="826920" y="6165360"/>
            <a:ext cx="360360" cy="2890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7956720" y="6659640"/>
            <a:ext cx="1368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Zdroj: data ISSP 2007, Č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316800" y="2852640"/>
            <a:ext cx="21164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333399"/>
                </a:solidFill>
                <a:uFillTx/>
                <a:latin typeface="Arial"/>
              </a:rPr>
              <a:t>1. krok: </a:t>
            </a:r>
            <a:r>
              <a:rPr b="1" lang="cs-CZ" sz="1400" spc="-1" strike="noStrike" u="sng">
                <a:solidFill>
                  <a:srgbClr val="333399"/>
                </a:solidFill>
                <a:uFillTx/>
                <a:latin typeface="Arial"/>
              </a:rPr>
              <a:t>F-</a:t>
            </a:r>
            <a:r>
              <a:rPr b="1" lang="en-GB" sz="1400" spc="-1" strike="noStrike" u="sng">
                <a:solidFill>
                  <a:srgbClr val="333399"/>
                </a:solidFill>
                <a:uFillTx/>
                <a:latin typeface="Arial"/>
              </a:rPr>
              <a:t>Test</a:t>
            </a:r>
            <a:r>
              <a:rPr b="1" lang="cs-CZ" sz="1400" spc="-1" strike="noStrike" u="sng">
                <a:solidFill>
                  <a:srgbClr val="333399"/>
                </a:solidFill>
                <a:uFillTx/>
                <a:latin typeface="Arial"/>
              </a:rPr>
              <a:t> (test H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6"/>
          <p:cNvSpPr/>
          <p:nvPr/>
        </p:nvSpPr>
        <p:spPr>
          <a:xfrm>
            <a:off x="5292720" y="6165720"/>
            <a:ext cx="2879640" cy="576360"/>
          </a:xfrm>
          <a:prstGeom prst="wedgeRoundRectCallout">
            <a:avLst>
              <a:gd name="adj1" fmla="val -62842"/>
              <a:gd name="adj2" fmla="val -37601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Identifikovat statisticky významné rozdíly můžeme také pomocí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intervalů spolehlivosti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a ty zobrazit v grafu (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ERRORBAR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6735600" y="1270080"/>
            <a:ext cx="1221120" cy="13366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62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stování hypotéz pro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růměry (rozptyly)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 bivariátní analý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vazuje a doplňuje AKD II., v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estování hypotéz (1) - Princip a testy pro číselné/kardinální zna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etodykv.wz.cz/AKD2_hypotezy1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ne-way ANOVA – Output (3)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ost-hoc test (Bonferroni)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→ rozdíly mezi skupina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6192720" cy="47214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6"/>
          <p:cNvSpPr/>
          <p:nvPr/>
        </p:nvSpPr>
        <p:spPr>
          <a:xfrm>
            <a:off x="6588000" y="1989000"/>
            <a:ext cx="2556000" cy="62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st porovnává každou kategorii s každou, hvězdička * nám ukazuje, kde jsou rozdíly v průměru statisticky signifikantní na Alfa min. 5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ledek si můžeme  přehledně znázorn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spojnice značí shodu průměru, na hl. Alfa 0,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 flipV="1">
            <a:off x="7164360" y="5157720"/>
            <a:ext cx="50328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7164360" y="57340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3743280" y="2852640"/>
            <a:ext cx="612720" cy="324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1835280" y="2492280"/>
            <a:ext cx="901440" cy="360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79280" y="6453360"/>
            <a:ext cx="60483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Mnohem praktičtější je ale grafické zobrazení průměrů a intervalů spolehlivosti (viz dál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růměry s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ntervaly spolehlivosti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ezi skupinami (ERROR-B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70000" y="119700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GRAPH ERRORBA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prijem BY vzd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5651640" y="1689120"/>
            <a:ext cx="331308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máme mnohem více informací, interval spolehlivosti v sobě zahrnuje informaci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zptylu (standardní chybě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tu případ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skupi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9" descr=""/>
          <p:cNvPicPr/>
          <p:nvPr/>
        </p:nvPicPr>
        <p:blipFill>
          <a:blip r:embed="rId1"/>
          <a:stretch/>
        </p:blipFill>
        <p:spPr>
          <a:xfrm>
            <a:off x="5219640" y="3573360"/>
            <a:ext cx="3924360" cy="3144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"/>
          <p:cNvPicPr/>
          <p:nvPr/>
        </p:nvPicPr>
        <p:blipFill>
          <a:blip r:embed="rId2"/>
          <a:stretch/>
        </p:blipFill>
        <p:spPr>
          <a:xfrm>
            <a:off x="0" y="1538280"/>
            <a:ext cx="5076720" cy="40705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2"/>
          <p:cNvSpPr/>
          <p:nvPr/>
        </p:nvSpPr>
        <p:spPr>
          <a:xfrm>
            <a:off x="-1440" y="5445000"/>
            <a:ext cx="608616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nezapomeňte, že záleží, jaké je na ose Y rozpětí (SPSS v grafu  „optimalizuje“ zobrazení)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to pozor při interpretaci. Porovnejte (stejné) graf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avidlo na to není, ale určitě byste měli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ukázat minimálně rozpětí +/-1 StD od průmě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, což pokrývá cca 68 % případů (zde x=10,7 StD 6,7 → rozsah na Y: 4-18 tis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878544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elikost účinku v One-way ANOVA: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míra závislosti kardinální na kategoriální proměnn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ze sílu vztahu mezi závislou a kategoriemi nezávislé proměnné vyjádřit zjednodušeně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jedním číslem“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440C-404C-4B15-AF0A-089786E538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oduchá analýza rozptyl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one-way ANOVA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elikost účinku (míra závislosti) Et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16000" y="1196640"/>
            <a:ext cx="8712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Míru vlivu závislé proměnné na nezávislou (tj. velikost účinku – effect size) můžeme v ANOVA vyjádřit pomocí koeficientu </a:t>
            </a:r>
            <a:r>
              <a:rPr b="1" lang="cs-CZ" sz="2700" spc="-1" strike="noStrike">
                <a:solidFill>
                  <a:srgbClr val="000000"/>
                </a:solidFill>
                <a:latin typeface="Arial"/>
              </a:rPr>
              <a:t>Eta</a:t>
            </a:r>
            <a:r>
              <a:rPr b="1" lang="cs-CZ" sz="2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Eta-squared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 / ST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boli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čet čtverců mezi výběry (poměr variability vysvětlené kategoriemi SA) / celkový součet čtverců odchylek od celkového průměru (ST)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Between-Groups Sum of Squares / Total Sum of Squ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Jde o nelineární korelační koeficient (Eta), který nabývá hodnot </a:t>
            </a:r>
            <a:r>
              <a:rPr b="1" lang="cs-CZ" sz="2700" spc="-1" strike="noStrike">
                <a:solidFill>
                  <a:srgbClr val="000000"/>
                </a:solidFill>
                <a:latin typeface="Arial"/>
              </a:rPr>
              <a:t>0–1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Arial"/>
              </a:rPr>
              <a:t>Eta</a:t>
            </a:r>
            <a:r>
              <a:rPr b="1" lang="cs-CZ" sz="27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vyjadřuje, </a:t>
            </a:r>
            <a:r>
              <a:rPr b="1" lang="cs-CZ" sz="2700" spc="-1" strike="noStrike">
                <a:solidFill>
                  <a:srgbClr val="000000"/>
                </a:solidFill>
                <a:latin typeface="Arial"/>
              </a:rPr>
              <a:t>kolik variability závislé proměnné je vysvětleno faktorem, tj. rozdíly mezi kategoriemi nezávislé proměnné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~ koef. determinace R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 lineární regre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Umožňuje porovnání vlivu různých faktorů nebo komparaci vlivu faktoru v odlišném prostředí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611280" y="2379600"/>
            <a:ext cx="2089080" cy="504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588000" y="6583320"/>
            <a:ext cx="25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podle [Hendl 2006: 356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D943-17F9-4FF7-BE0B-29B591A6E2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58560" y="115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ednoduchá analýza rozptylu ANOVA s Et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SPSS v 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MEANS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případně i v CROSSTA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23640" y="116532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ta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 One-Way není, ale lze jednoduše dopočít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oduchou ANOVU lze získat i v rámci příkazu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MEAN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STATISTICS = ANOVA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kde bude automaticky i Eta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611280" y="2852640"/>
            <a:ext cx="3960720" cy="1152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MEA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prijem BY vzd4 /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STATISTIC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 u="sng">
                <a:solidFill>
                  <a:srgbClr val="cc3300"/>
                </a:solidFill>
                <a:uFillTx/>
                <a:latin typeface="Arial"/>
              </a:rPr>
              <a:t>ANOV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0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ůměrný příjem se mezi vzdělanostními kategoriemi neli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5508720" y="2481120"/>
            <a:ext cx="3200400" cy="1895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7257960" cy="12668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3"/>
          <a:stretch/>
        </p:blipFill>
        <p:spPr>
          <a:xfrm>
            <a:off x="684360" y="5626080"/>
            <a:ext cx="3887640" cy="9255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8"/>
          <p:cNvSpPr/>
          <p:nvPr/>
        </p:nvSpPr>
        <p:spPr>
          <a:xfrm>
            <a:off x="3419640" y="6021360"/>
            <a:ext cx="1152360" cy="504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7956720" y="6659640"/>
            <a:ext cx="1368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Zdroj: data ISSP 2007, Č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4932360" y="5589720"/>
            <a:ext cx="3168720" cy="576000"/>
          </a:xfrm>
          <a:prstGeom prst="wedgeRoundRectCallout">
            <a:avLst>
              <a:gd name="adj1" fmla="val -66032"/>
              <a:gd name="adj2" fmla="val 7534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0000"/>
                </a:solidFill>
                <a:latin typeface="Arial"/>
              </a:rPr>
              <a:t>Eta2</a:t>
            </a:r>
            <a:r>
              <a:rPr b="0" lang="cs-CZ" sz="1200" spc="-1" strike="noStrike">
                <a:solidFill>
                  <a:srgbClr val="800000"/>
                </a:solidFill>
                <a:latin typeface="Arial"/>
              </a:rPr>
              <a:t> = Between Groups SS / Total 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0000"/>
                </a:solidFill>
                <a:latin typeface="Arial"/>
              </a:rPr>
              <a:t>= 2785,592 / 37591,231 = </a:t>
            </a:r>
            <a:r>
              <a:rPr b="1" lang="cs-CZ" sz="1200" spc="-1" strike="noStrike">
                <a:solidFill>
                  <a:srgbClr val="800000"/>
                </a:solidFill>
                <a:latin typeface="Arial"/>
              </a:rPr>
              <a:t>0,07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1"/>
          <p:cNvSpPr/>
          <p:nvPr/>
        </p:nvSpPr>
        <p:spPr>
          <a:xfrm flipH="1" flipV="1">
            <a:off x="5076720" y="4797360"/>
            <a:ext cx="79056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"/>
          <p:cNvSpPr/>
          <p:nvPr/>
        </p:nvSpPr>
        <p:spPr>
          <a:xfrm flipH="1" flipV="1">
            <a:off x="4932360" y="5373720"/>
            <a:ext cx="17287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bdélník 1"/>
          <p:cNvSpPr/>
          <p:nvPr/>
        </p:nvSpPr>
        <p:spPr>
          <a:xfrm>
            <a:off x="6227640" y="6283440"/>
            <a:ext cx="15130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 / 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0" lang="cs-CZ" sz="1000" spc="-1" strike="noStrike">
                <a:solidFill>
                  <a:srgbClr val="c00000"/>
                </a:solidFill>
                <a:latin typeface="Arial"/>
              </a:rPr>
              <a:t>Between / To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Neparametrické testy </a:t>
            </a: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NPar Tes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→ 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řadové (Rank) testy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eparametrické testy 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NPar Tests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→ „pořadové (Rank) testy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porovnání souborů statistických dat, u nichž není normální rozdělení pravděpodobností sledovaného znaku → náhodná veličina má neznámé rozdělení, které neumíme charakterizovat pomocí průměru a rozptylu (µ, 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lová hypotéza, se proto vztahuje jen k obecným vlastnostem rozdělení: (shodu tvaru křivky rozdělení v porovnávaných souborech da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počty jsou založeny na pořadových číslech jednotlivých hodnot variační řady (→ pořadové testy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me je proto použít i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o ordinální proměn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hodnoty, které nemají přesný číselný význam, odráží jen pořad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64BF-78E4-48E1-AB7B-91D367D517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Neparametrické testy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(Non-parametric Tes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rametrické metody předpokládají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hodný výbě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ormální rozděl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distribuce znaku)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elké výbě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z populace, známé (shodné) rozptyly v sub/populacích, z nichž byl proveden výb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parametrické metod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ezávislé na rozdě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méně citlivé na odchylky extrémních hod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 pro výběry velmi malého rozs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é pro nominální i ordinální znak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le dochází častěji k chybnému nezamítnutí nepravdivé H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Chí-kvadrát testy, binomický test, testy středních hodnot (Mann-Whitney, Kruskal-Wallis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rametrický te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wo-Independent-Samples Tests</a:t>
            </a:r>
            <a:br>
              <a:rPr sz="24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ann-Whitneyův pořadový test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1714680" cy="2409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2340000" y="1341360"/>
            <a:ext cx="3083040" cy="2262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3"/>
          <a:stretch/>
        </p:blipFill>
        <p:spPr>
          <a:xfrm>
            <a:off x="104760" y="3645000"/>
            <a:ext cx="4467240" cy="1047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4"/>
          <a:stretch/>
        </p:blipFill>
        <p:spPr>
          <a:xfrm>
            <a:off x="4932360" y="3645000"/>
            <a:ext cx="3753000" cy="126684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8"/>
          <p:cNvSpPr/>
          <p:nvPr/>
        </p:nvSpPr>
        <p:spPr>
          <a:xfrm>
            <a:off x="611280" y="4797360"/>
            <a:ext cx="23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cc3300"/>
                </a:solidFill>
                <a:latin typeface="Arial"/>
              </a:rPr>
              <a:t>Mann-Whitney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3564000" y="5515920"/>
            <a:ext cx="5327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Sig. &lt; 0,5</a:t>
            </a:r>
            <a:r>
              <a:rPr b="0" lang="cs-CZ" sz="1800" spc="-1" strike="noStrike">
                <a:solidFill>
                  <a:srgbClr val="cc3300"/>
                </a:solidFill>
                <a:latin typeface="Arial"/>
              </a:rPr>
              <a:t> → Nulovou hypotézu o shodě rozdělení (pořadí v podskupinách) veličin zamítá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0" descr=""/>
          <p:cNvPicPr/>
          <p:nvPr/>
        </p:nvPicPr>
        <p:blipFill>
          <a:blip r:embed="rId5"/>
          <a:stretch/>
        </p:blipFill>
        <p:spPr>
          <a:xfrm>
            <a:off x="108000" y="5084640"/>
            <a:ext cx="3168720" cy="16750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1"/>
          <p:cNvSpPr/>
          <p:nvPr/>
        </p:nvSpPr>
        <p:spPr>
          <a:xfrm>
            <a:off x="5724360" y="1413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vivalent dvouvýběrového t-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2627280" y="6165720"/>
            <a:ext cx="53964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508720" y="2513160"/>
            <a:ext cx="363528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PAR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-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prije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STATISTICS DESCRIP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arametrický te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ruskal-Wall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e-way analysis of varia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70160" y="472428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Kruskal-Wallis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2340000" y="5877000"/>
            <a:ext cx="647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1587240" cy="22654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5" descr=""/>
          <p:cNvPicPr/>
          <p:nvPr/>
        </p:nvPicPr>
        <p:blipFill>
          <a:blip r:embed="rId2"/>
          <a:stretch/>
        </p:blipFill>
        <p:spPr>
          <a:xfrm>
            <a:off x="2268360" y="1268280"/>
            <a:ext cx="3024360" cy="2246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6" descr=""/>
          <p:cNvPicPr/>
          <p:nvPr/>
        </p:nvPicPr>
        <p:blipFill>
          <a:blip r:embed="rId3"/>
          <a:stretch/>
        </p:blipFill>
        <p:spPr>
          <a:xfrm>
            <a:off x="5435640" y="3573360"/>
            <a:ext cx="2971800" cy="1581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"/>
          <p:cNvPicPr/>
          <p:nvPr/>
        </p:nvPicPr>
        <p:blipFill>
          <a:blip r:embed="rId4"/>
          <a:stretch/>
        </p:blipFill>
        <p:spPr>
          <a:xfrm>
            <a:off x="179280" y="5013360"/>
            <a:ext cx="2791080" cy="15811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18"/>
          <p:cNvSpPr/>
          <p:nvPr/>
        </p:nvSpPr>
        <p:spPr>
          <a:xfrm>
            <a:off x="3276720" y="5300280"/>
            <a:ext cx="5327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3300"/>
                </a:solidFill>
                <a:latin typeface="Arial"/>
              </a:rPr>
              <a:t>Sig. &lt; 0,5</a:t>
            </a:r>
            <a:r>
              <a:rPr b="0" lang="cs-CZ" sz="1800" spc="-1" strike="noStrike">
                <a:solidFill>
                  <a:srgbClr val="cc3300"/>
                </a:solidFill>
                <a:latin typeface="Arial"/>
              </a:rPr>
              <a:t> → Nulovou hypotézu o shodě rozdělení (pořadí v podskupinách) veličin zamítá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0" descr=""/>
          <p:cNvPicPr/>
          <p:nvPr/>
        </p:nvPicPr>
        <p:blipFill>
          <a:blip r:embed="rId5"/>
          <a:stretch/>
        </p:blipFill>
        <p:spPr>
          <a:xfrm>
            <a:off x="179280" y="3573360"/>
            <a:ext cx="4600800" cy="10479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21"/>
          <p:cNvSpPr/>
          <p:nvPr/>
        </p:nvSpPr>
        <p:spPr>
          <a:xfrm>
            <a:off x="5508720" y="2276640"/>
            <a:ext cx="363528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PAR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K-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prije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zd4(1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STATISTICS DESCRIP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5508720" y="1413000"/>
            <a:ext cx="34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vivalent jednoduché analýzy rozptylu One-Way AN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05A5-DD80-43B3-B3B0-4090CEDB90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-tes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→ modifikace Z-tes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známe směrodatnou odchylk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základním soboru (populaci), můžeme j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hadnout pomocí výběrové směrodatné odchyl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 našem vzorku z populac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k se k místo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rozložení (normální) použije tzv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udentov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rozlož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ho tvar a rozložení závisí na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tu stupňů volnosti df, který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f = n – 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belované hodnoty (pro stupně volnosti a požadované hladiny statistické významnost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a jednostranné a dvoustranné testy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se kterými porovnáme výsled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věřovat pomocí T-testu můž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díl naměřené hodnoty vůči určité hodnotě (teoretické, nebo naměřené v jiném souboru, např. čase/zemi) (one-sample location 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a dva průměry jsou ve dvou (či více) sub-populacích stejné (two-sample location 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a se průměrný rozdíl mezi dvěma proměnnými u stejných případů rovná nule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ired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peated measures t-tes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 regresní analýze, zda se regresní koeficient (tj. sklon regr. přímky) lišší od nul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7308720" y="1989000"/>
            <a:ext cx="183528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33280" y="764640"/>
            <a:ext cx="867744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 tříděním druhého stupně bychom se neměli spokojit!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řídění třetího stupně a elaborace vztah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6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tistický test provedeme nejen za celek ale také zvlášť v každé kategorii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řetí - kontrolní proměnn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863640" y="4292280"/>
            <a:ext cx="74534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y viz prezent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tingenční tabulka: vztahy mezi kategorizovanými znaky - míry asociace/korelace, znaménkové schéma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KD2_kontg_tab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pp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ndardizace v kontingenční tabulce – kontrola vlivu 3 faktor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KD2_kontg_tab_standardizace.pp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nebo (lépe) použijeme multivariační analýzu,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resní analýza - lineární regrese (OLS)</a:t>
            </a:r>
            <a:br>
              <a:rPr sz="1800"/>
            </a:br>
            <a:r>
              <a:rPr b="1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etodykv.wz.cz/AKD2_regrese.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B6C3-DE09-417D-8FB0-0FD55E6A89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loučení (posouzení) vlivu třetí proměn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řídění 3 stup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ingenční tabulka A x B x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 pro tři proměnné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lil 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(závislá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x VŠ 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(nezávislá-vysvětlující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x Pohlaví 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(nezávislá </a:t>
            </a:r>
            <a:r>
              <a:rPr b="1" lang="cs-CZ" sz="1600" spc="-1" strike="noStrike">
                <a:solidFill>
                  <a:srgbClr val="800000"/>
                </a:solidFill>
                <a:latin typeface="Arial"/>
              </a:rPr>
              <a:t>kontrolní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ujem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ztah mezi A a B odděleně v kategoriích 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nejjednodušeji  pomoc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eficientů asociace/korel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kontingenční koef., Cramérovo V, Phi,… pořadové korelace Spermanovo Rho, TauB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detailněji pak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lasicky % rozdíly mezi kategoriem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bo adjustovaná resid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arciální korel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ro spojité proměn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ultivariační metod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např. regresní analýza, vícerozm. analýzu rozptylu ANO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B7E1-FB60-4B5D-BF11-385E39C181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 Vaus, D. A. 1986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urveys in Social Resear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London: George Allen &amp; Unwin (Publishers) L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endl, J. (2006) 2009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řehled statistických meto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Praha: Portá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reš, P., L. Rabušic, P. Soukup. 2015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Analýza sociálněvědních dat (nejen) v SPS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Brno: Masarykova univerz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árová, J. 1999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Základy statistiky pro biomedicínské ob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[on-line] Dostupné na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.euromise.org/czech/tajne/ucebnice/html/html/statis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166E-08FA-4A5F-9A30-BCC685F606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-test: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sty pro prům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569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ednovýběrový t-te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One-sample t-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díl od populačního průměr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0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bo porovnání s jinou testovou-teoretickou hodnotou. </a:t>
            </a:r>
            <a:br>
              <a:rPr sz="20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ypotézou je, že střední hodnota normálního rozdělení (průměr), z něhož výběr pochází, se rovná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např. H0: výběrová hodnota průměrného příjmu se neliší od hodnoty 10,5 tis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T-TEST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  /</a:t>
            </a:r>
            <a:r>
              <a:rPr b="1" lang="cs-CZ" sz="1800" spc="-1" strike="noStrike" u="sng">
                <a:solidFill>
                  <a:srgbClr val="800000"/>
                </a:solidFill>
                <a:uFillTx/>
                <a:latin typeface="Courier New"/>
              </a:rPr>
              <a:t>TESTVAL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1800" spc="-1" strike="noStrike">
                <a:solidFill>
                  <a:srgbClr val="ff0000"/>
                </a:solidFill>
                <a:latin typeface="Courier New"/>
              </a:rPr>
              <a:t>10.5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 /</a:t>
            </a:r>
            <a:r>
              <a:rPr b="1" lang="cs-CZ" sz="1800" spc="-1" strike="noStrike">
                <a:solidFill>
                  <a:srgbClr val="800000"/>
                </a:solidFill>
                <a:latin typeface="Courier New"/>
              </a:rPr>
              <a:t>VARIABLES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 prij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árový t-te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air-sampled t-test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rovnání dvou průměrů v závislých výběrech, tj. při uspořádání pozorování ve dvojicích (měřené proměnné jsou na sobě závislé). </a:t>
            </a:r>
            <a:br>
              <a:rPr sz="20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častěji jde o zjišťování velikosti či obměny znaku u téže osoby ve dvou časových okamžicíc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např. názor před a po shlédnutí filmu nebo v panelovém výzkumu). 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nebo porovnání průměrů u dvou věcně „srovnatelných“ proměnných, tj. hodnoty musí mít stejný rozsah. </a:t>
            </a:r>
            <a:br>
              <a:rPr sz="16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př. intenzita sledování TV (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q1_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 a intenzita chození do kina (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q1_b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 (H0: Průměry jsou shodné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T-TEST </a:t>
            </a:r>
            <a:r>
              <a:rPr b="1" lang="cs-CZ" sz="1800" spc="-1" strike="noStrike" u="sng">
                <a:solidFill>
                  <a:srgbClr val="800000"/>
                </a:solidFill>
                <a:uFillTx/>
                <a:latin typeface="Courier New"/>
              </a:rPr>
              <a:t>PAIRS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 q1_a </a:t>
            </a:r>
            <a:r>
              <a:rPr b="1" lang="cs-CZ" sz="1800" spc="-1" strike="noStrike">
                <a:solidFill>
                  <a:srgbClr val="800000"/>
                </a:solidFill>
                <a:latin typeface="Courier New"/>
              </a:rPr>
              <a:t>WITH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 q1_b (</a:t>
            </a:r>
            <a:r>
              <a:rPr b="1" lang="cs-CZ" sz="1800" spc="-1" strike="noStrike">
                <a:solidFill>
                  <a:srgbClr val="800000"/>
                </a:solidFill>
                <a:latin typeface="Courier New"/>
              </a:rPr>
              <a:t>PAIRED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vouvýběrový t-te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Independent-samples t-test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→ porovnání dvou průměrů v nezávislých výběrech, tj. test rozdílu průměrných hodnot znaku u dvou podskupin podle dichotomického znaku </a:t>
            </a:r>
            <a:br>
              <a:rPr sz="20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př. Příjem (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ijem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 podle pohlaví (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S30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 (H0: Rozdíl mezi průměry v podskupinách je nulový.) </a:t>
            </a:r>
            <a:br>
              <a:rPr sz="1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prve provedem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st rovnosti rozptyl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- testem)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→ různý způsob výpočtu t-testu pro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2 a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T-TEST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1800" spc="-1" strike="noStrike" u="sng">
                <a:solidFill>
                  <a:srgbClr val="800000"/>
                </a:solidFill>
                <a:uFillTx/>
                <a:latin typeface="Courier New"/>
              </a:rPr>
              <a:t>GROUPS</a:t>
            </a:r>
            <a:r>
              <a:rPr b="1" lang="cs-CZ" sz="18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s30(1 2)/ </a:t>
            </a:r>
            <a:r>
              <a:rPr b="1" lang="cs-CZ" sz="1800" spc="-1" strike="noStrike">
                <a:solidFill>
                  <a:srgbClr val="800000"/>
                </a:solidFill>
                <a:latin typeface="Courier New"/>
              </a:rPr>
              <a:t>VARIABLES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 prijem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8F66-0D75-4E22-A5BB-BB1035E56D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rincip jednovýběrového t-testu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One-sample t-t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3880" y="1268280"/>
            <a:ext cx="85392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: zjistit, zda se průměrná hodnota proměnné v našem výběrovém souboru liší od populační (či „teoretické“) hodnoty (např. srovnání s jinou populací či obdobím). H0: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růměry se neliš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up: spočítáme rozdíl hodnot průměrů, směrodatnou odchylku (SD)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z ní standardní chybu (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estová t-hodno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Vydělíme rozdíl mezi výběrovým a populačním průměrem standardní chybou. Porovnáme s tabulkovou hodnotou (nebo pomocí software získáme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hodno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toho plyne, že pokud známe rozptyl/ směrodatnou odchylku výpočet můžeme provést bez mikro-dat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na základě publikovaných výsled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7164360" y="3078000"/>
            <a:ext cx="1403280" cy="702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6D8F-8E0A-4BD8-8FF7-2FC5CD9415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Jednovýběrový t-test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One-sample t-test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ustranná alternativa (2-tailed)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Výstup v SP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5689440" cy="5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T-TES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/</a:t>
            </a:r>
            <a:r>
              <a:rPr b="1" lang="fr-FR" sz="1800" spc="-1" strike="noStrike" u="sng">
                <a:solidFill>
                  <a:srgbClr val="800000"/>
                </a:solidFill>
                <a:uFillTx/>
                <a:latin typeface="Arial"/>
              </a:rPr>
              <a:t>TESTVAL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.5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VARIABL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prij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0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ůměrný příjem (ve výběru) j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10,5 tis. K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084720" y="1413000"/>
            <a:ext cx="2936880" cy="662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250920" y="1943280"/>
            <a:ext cx="6053040" cy="1485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324000" y="5229360"/>
            <a:ext cx="6053040" cy="1485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179280" y="4724280"/>
            <a:ext cx="5400720" cy="589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T-TES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/</a:t>
            </a:r>
            <a:r>
              <a:rPr b="1" lang="fr-FR" sz="1800" spc="-1" strike="noStrike" u="sng">
                <a:solidFill>
                  <a:srgbClr val="800000"/>
                </a:solidFill>
                <a:uFillTx/>
                <a:latin typeface="Arial"/>
              </a:rPr>
              <a:t>TESTVAL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VARIABL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prij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0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ůměrný příjem (ve výběru) j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13 tis. K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5796000" y="3429000"/>
            <a:ext cx="3168720" cy="504720"/>
          </a:xfrm>
          <a:prstGeom prst="wedgeRoundRectCallout">
            <a:avLst>
              <a:gd name="adj1" fmla="val -131962"/>
              <a:gd name="adj2" fmla="val -8742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0000"/>
                </a:solidFill>
                <a:latin typeface="Arial"/>
              </a:rPr>
              <a:t>H0 nemůžeme zamítnout</a:t>
            </a:r>
            <a:r>
              <a:rPr b="0" lang="cs-CZ" sz="1200" spc="-1" strike="noStrike">
                <a:solidFill>
                  <a:srgbClr val="800000"/>
                </a:solidFill>
                <a:latin typeface="Arial"/>
              </a:rPr>
              <a:t>: dosažená hladina významnosti </a:t>
            </a:r>
            <a:r>
              <a:rPr b="0" i="1" lang="cs-CZ" sz="12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cs-CZ" sz="1200" spc="-1" strike="noStrike">
                <a:solidFill>
                  <a:srgbClr val="800000"/>
                </a:solidFill>
                <a:latin typeface="Arial"/>
              </a:rPr>
              <a:t> je vyšší než 0,0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324000" y="2276640"/>
            <a:ext cx="1079280" cy="504720"/>
          </a:xfrm>
          <a:prstGeom prst="wedgeRoundRectCallout">
            <a:avLst>
              <a:gd name="adj1" fmla="val 44999"/>
              <a:gd name="adj2" fmla="val 115722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0000"/>
                </a:solidFill>
                <a:latin typeface="Arial"/>
              </a:rPr>
              <a:t>Testové kritérium </a:t>
            </a:r>
            <a:r>
              <a:rPr b="1" lang="cs-CZ" sz="1200" spc="-1" strike="noStrike">
                <a:solidFill>
                  <a:srgbClr val="8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300720" y="2421000"/>
            <a:ext cx="2735280" cy="576360"/>
          </a:xfrm>
          <a:prstGeom prst="wedgeRoundRectCallout">
            <a:avLst>
              <a:gd name="adj1" fmla="val -80351"/>
              <a:gd name="adj2" fmla="val 9462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00000"/>
                </a:solidFill>
                <a:latin typeface="Arial"/>
              </a:rPr>
              <a:t>Výsledek testu (nezamítnutí H0) potvrzuje i to, že </a:t>
            </a:r>
            <a:r>
              <a:rPr b="1" lang="cs-CZ" sz="1000" spc="-1" strike="noStrike">
                <a:solidFill>
                  <a:srgbClr val="800000"/>
                </a:solidFill>
                <a:latin typeface="Arial"/>
              </a:rPr>
              <a:t>interval spolehlivosti</a:t>
            </a:r>
            <a:r>
              <a:rPr b="0" lang="cs-CZ" sz="1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800000"/>
                </a:solidFill>
                <a:latin typeface="Arial"/>
              </a:rPr>
              <a:t>pro rozdíl</a:t>
            </a:r>
            <a:r>
              <a:rPr b="0" lang="cs-CZ" sz="1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i="1" lang="cs-CZ" sz="10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0" lang="cs-CZ" sz="1000" spc="-1" strike="noStrike">
                <a:solidFill>
                  <a:srgbClr val="800000"/>
                </a:solidFill>
                <a:latin typeface="Arial"/>
              </a:rPr>
              <a:t> a </a:t>
            </a:r>
            <a:r>
              <a:rPr b="0" i="1" lang="cs-CZ" sz="10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0" lang="cs-CZ" sz="1000" spc="-1" strike="noStrike">
                <a:solidFill>
                  <a:srgbClr val="800000"/>
                </a:solidFill>
                <a:latin typeface="Arial"/>
              </a:rPr>
              <a:t>=10,5 tis. </a:t>
            </a:r>
            <a:r>
              <a:rPr b="1" lang="cs-CZ" sz="1000" spc="-1" strike="noStrike">
                <a:solidFill>
                  <a:srgbClr val="800000"/>
                </a:solidFill>
                <a:latin typeface="Arial"/>
              </a:rPr>
              <a:t>obsahuje</a:t>
            </a:r>
            <a:r>
              <a:rPr b="0" lang="cs-CZ" sz="1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800000"/>
                </a:solidFill>
                <a:latin typeface="Arial"/>
              </a:rPr>
              <a:t>nulu</a:t>
            </a:r>
            <a:r>
              <a:rPr b="0" lang="cs-CZ" sz="1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6156360" y="4797360"/>
            <a:ext cx="2592360" cy="647640"/>
          </a:xfrm>
          <a:prstGeom prst="wedgeRoundRectCallout">
            <a:avLst>
              <a:gd name="adj1" fmla="val -162555"/>
              <a:gd name="adj2" fmla="val 22132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0000"/>
                </a:solidFill>
                <a:latin typeface="Arial"/>
              </a:rPr>
              <a:t>H0 zamítáme</a:t>
            </a:r>
            <a:r>
              <a:rPr b="0" lang="cs-CZ" sz="1200" spc="-1" strike="noStrike">
                <a:solidFill>
                  <a:srgbClr val="800000"/>
                </a:solidFill>
                <a:latin typeface="Arial"/>
              </a:rPr>
              <a:t>: dosažená hladina významnosti </a:t>
            </a:r>
            <a:r>
              <a:rPr b="0" i="1" lang="cs-CZ" sz="12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cs-CZ" sz="1200" spc="-1" strike="noStrike">
                <a:solidFill>
                  <a:srgbClr val="800000"/>
                </a:solidFill>
                <a:latin typeface="Arial"/>
              </a:rPr>
              <a:t> je zde nižší než 0,05 i 0,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6551640" y="5734080"/>
            <a:ext cx="2592360" cy="70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Hodnota průměrného příjmu ve výběru 10 720 Kč se statisticky významně (na </a:t>
            </a:r>
            <a:r>
              <a:rPr b="0" i="1" lang="cs-CZ" sz="1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&lt; 0,01) </a:t>
            </a:r>
            <a:r>
              <a:rPr b="1" lang="cs-CZ" sz="1000" spc="-1" strike="noStrike">
                <a:solidFill>
                  <a:srgbClr val="333399"/>
                </a:solidFill>
                <a:latin typeface="Arial"/>
              </a:rPr>
              <a:t>liší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od testované-teoretické hodnoty 13 tis. Kč. Rozdíl 2280 Kč je nenáhodn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292720" y="3933720"/>
            <a:ext cx="3851280" cy="70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Hodnota průměrného příjmu ve výběru 10 720 Kč se statisticky významně (na </a:t>
            </a:r>
            <a:r>
              <a:rPr b="0" i="1" lang="cs-CZ" sz="1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&lt; 0,01) </a:t>
            </a:r>
            <a:r>
              <a:rPr b="1" lang="cs-CZ" sz="1000" spc="-1" strike="noStrike">
                <a:solidFill>
                  <a:srgbClr val="333399"/>
                </a:solidFill>
                <a:latin typeface="Arial"/>
              </a:rPr>
              <a:t>neliší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od testované-teoretické hodnoty 10 500 tis. Kč. Rozdíl 220 Kč je způsoben náhodnými vlivy, nelze ho zobecnit z výběru na populac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7093080" y="1700280"/>
            <a:ext cx="431640" cy="360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9"/>
          <p:cNvGrpSpPr/>
          <p:nvPr/>
        </p:nvGrpSpPr>
        <p:grpSpPr>
          <a:xfrm>
            <a:off x="3995640" y="2060280"/>
            <a:ext cx="3024360" cy="864000"/>
            <a:chOff x="3995640" y="2060280"/>
            <a:chExt cx="3024360" cy="864000"/>
          </a:xfrm>
        </p:grpSpPr>
        <p:sp>
          <p:nvSpPr>
            <p:cNvPr id="114" name="Line 15"/>
            <p:cNvSpPr/>
            <p:nvPr/>
          </p:nvSpPr>
          <p:spPr>
            <a:xfrm flipV="1">
              <a:off x="4140360" y="2060280"/>
              <a:ext cx="287964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3995640" y="2362320"/>
              <a:ext cx="581040" cy="561960"/>
            </a:xfrm>
            <a:custGeom>
              <a:avLst/>
              <a:gdLst/>
              <a:ahLst/>
              <a:rect l="l" t="t" r="r" b="b"/>
              <a:pathLst>
                <a:path w="366" h="354">
                  <a:moveTo>
                    <a:pt x="0" y="354"/>
                  </a:moveTo>
                  <a:lnTo>
                    <a:pt x="366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7"/>
          <p:cNvSpPr/>
          <p:nvPr/>
        </p:nvSpPr>
        <p:spPr>
          <a:xfrm>
            <a:off x="2916360" y="2276640"/>
            <a:ext cx="1224000" cy="215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3059280" y="5516640"/>
            <a:ext cx="115236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78"/>
          <p:cNvGraphicFramePr/>
          <p:nvPr/>
        </p:nvGraphicFramePr>
        <p:xfrm>
          <a:off x="324000" y="3789360"/>
          <a:ext cx="3384360" cy="7430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9" name="Object 17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3789360"/>
                    <a:ext cx="338436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79"/>
          <p:cNvSpPr/>
          <p:nvPr/>
        </p:nvSpPr>
        <p:spPr>
          <a:xfrm>
            <a:off x="250920" y="429264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0"/>
          <p:cNvSpPr/>
          <p:nvPr/>
        </p:nvSpPr>
        <p:spPr>
          <a:xfrm>
            <a:off x="3708360" y="3645000"/>
            <a:ext cx="1511280" cy="885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800000"/>
                </a:solidFill>
                <a:latin typeface="Arial"/>
              </a:rPr>
              <a:t>vypočítaná testová (0,960) &lt; kritická-tabulková 1,644)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hodnota → </a:t>
            </a:r>
            <a:r>
              <a:rPr b="1" lang="cs-CZ" sz="1000" spc="-1" strike="noStrike">
                <a:solidFill>
                  <a:srgbClr val="800000"/>
                </a:solidFill>
                <a:latin typeface="Arial"/>
              </a:rPr>
              <a:t>nelze zamítnout  H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1"/>
          <p:cNvSpPr/>
          <p:nvPr/>
        </p:nvSpPr>
        <p:spPr>
          <a:xfrm>
            <a:off x="324000" y="3465360"/>
            <a:ext cx="3456000" cy="317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Alternativní postup - porovnání s kritickou tabulkovou hodnotou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Kvantily t1-α/2 (n) Studentova </a:t>
            </a:r>
            <a:r>
              <a:rPr b="1" i="1" lang="cs-CZ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rozděle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2"/>
          <p:cNvSpPr/>
          <p:nvPr/>
        </p:nvSpPr>
        <p:spPr>
          <a:xfrm>
            <a:off x="395280" y="5805360"/>
            <a:ext cx="2592360" cy="383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800000"/>
                </a:solidFill>
                <a:latin typeface="Arial"/>
              </a:rPr>
              <a:t>vypočítaná testová (</a:t>
            </a:r>
            <a:r>
              <a:rPr b="1" lang="cs-CZ" sz="900" spc="-1" strike="noStrike">
                <a:solidFill>
                  <a:srgbClr val="800000"/>
                </a:solidFill>
                <a:latin typeface="Arial"/>
                <a:ea typeface="Arial"/>
              </a:rPr>
              <a:t>|</a:t>
            </a:r>
            <a:r>
              <a:rPr b="1" lang="cs-CZ" sz="900" spc="-1" strike="noStrike">
                <a:solidFill>
                  <a:srgbClr val="800000"/>
                </a:solidFill>
                <a:latin typeface="Arial"/>
              </a:rPr>
              <a:t>-9,964</a:t>
            </a:r>
            <a:r>
              <a:rPr b="1" lang="cs-CZ" sz="900" spc="-1" strike="noStrike">
                <a:solidFill>
                  <a:srgbClr val="800000"/>
                </a:solidFill>
                <a:latin typeface="Arial"/>
                <a:ea typeface="Arial"/>
              </a:rPr>
              <a:t>|</a:t>
            </a:r>
            <a:r>
              <a:rPr b="1" lang="cs-CZ" sz="900" spc="-1" strike="noStrike">
                <a:solidFill>
                  <a:srgbClr val="800000"/>
                </a:solidFill>
                <a:latin typeface="Arial"/>
              </a:rPr>
              <a:t>) &gt; kritická-tabulková 1,644)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 hodnota → </a:t>
            </a:r>
            <a:r>
              <a:rPr b="1" lang="cs-CZ" sz="900" spc="-1" strike="noStrike">
                <a:solidFill>
                  <a:srgbClr val="800000"/>
                </a:solidFill>
                <a:latin typeface="Arial"/>
              </a:rPr>
              <a:t>H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900" spc="-1" strike="noStrike">
                <a:solidFill>
                  <a:srgbClr val="800000"/>
                </a:solidFill>
                <a:latin typeface="Arial"/>
              </a:rPr>
              <a:t>zamítám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83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4"/>
          <p:cNvSpPr/>
          <p:nvPr/>
        </p:nvSpPr>
        <p:spPr>
          <a:xfrm>
            <a:off x="2268360" y="2924280"/>
            <a:ext cx="107964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85"/>
          <p:cNvSpPr/>
          <p:nvPr/>
        </p:nvSpPr>
        <p:spPr>
          <a:xfrm>
            <a:off x="1116000" y="2924280"/>
            <a:ext cx="107964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9"/>
          <p:cNvSpPr/>
          <p:nvPr/>
        </p:nvSpPr>
        <p:spPr>
          <a:xfrm flipH="1">
            <a:off x="755640" y="3284640"/>
            <a:ext cx="1224000" cy="11523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0"/>
          <p:cNvSpPr/>
          <p:nvPr/>
        </p:nvSpPr>
        <p:spPr>
          <a:xfrm>
            <a:off x="1332000" y="3357720"/>
            <a:ext cx="503280" cy="107928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91"/>
          <p:cNvSpPr/>
          <p:nvPr/>
        </p:nvSpPr>
        <p:spPr>
          <a:xfrm flipH="1">
            <a:off x="1476360" y="4508640"/>
            <a:ext cx="719280" cy="1873080"/>
          </a:xfrm>
          <a:prstGeom prst="line">
            <a:avLst/>
          </a:prstGeom>
          <a:ln w="648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2"/>
          <p:cNvSpPr/>
          <p:nvPr/>
        </p:nvSpPr>
        <p:spPr>
          <a:xfrm>
            <a:off x="7020000" y="6568920"/>
            <a:ext cx="1944720" cy="289080"/>
          </a:xfrm>
          <a:prstGeom prst="wedgeRoundRectCallout">
            <a:avLst>
              <a:gd name="adj1" fmla="val -132287"/>
              <a:gd name="adj2" fmla="val -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00000"/>
                </a:solidFill>
                <a:latin typeface="Arial"/>
              </a:rPr>
              <a:t>interval spolehlivosti pro rozdíl </a:t>
            </a:r>
            <a:r>
              <a:rPr b="0" i="1" lang="cs-CZ" sz="9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0" lang="cs-CZ" sz="900" spc="-1" strike="noStrike">
                <a:solidFill>
                  <a:srgbClr val="800000"/>
                </a:solidFill>
                <a:latin typeface="Arial"/>
              </a:rPr>
              <a:t> a </a:t>
            </a:r>
            <a:r>
              <a:rPr b="0" i="1" lang="cs-CZ" sz="9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0" lang="cs-CZ" sz="900" spc="-1" strike="noStrike">
                <a:solidFill>
                  <a:srgbClr val="800000"/>
                </a:solidFill>
                <a:latin typeface="Arial"/>
              </a:rPr>
              <a:t>=13 tis. </a:t>
            </a:r>
            <a:r>
              <a:rPr b="1" lang="cs-CZ" sz="900" spc="-1" strike="noStrike">
                <a:solidFill>
                  <a:srgbClr val="800000"/>
                </a:solidFill>
                <a:latin typeface="Arial"/>
              </a:rPr>
              <a:t>neobsahuje</a:t>
            </a:r>
            <a:r>
              <a:rPr b="0" lang="cs-CZ" sz="900" spc="-1" strike="noStrike">
                <a:solidFill>
                  <a:srgbClr val="800000"/>
                </a:solidFill>
                <a:latin typeface="Arial"/>
              </a:rPr>
              <a:t> nul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93"/>
          <p:cNvSpPr/>
          <p:nvPr/>
        </p:nvSpPr>
        <p:spPr>
          <a:xfrm>
            <a:off x="0" y="6659640"/>
            <a:ext cx="255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Zdroj: data ISSP 2007, Č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B7B4-4C7F-4839-9C99-9187A425F2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árový t-test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Pair-sampled t-test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ustranná alternativa (2-tailed)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Výstup v SP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473720" cy="1175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4572000" y="2905200"/>
            <a:ext cx="4133880" cy="1047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3"/>
          <a:stretch/>
        </p:blipFill>
        <p:spPr>
          <a:xfrm>
            <a:off x="276120" y="4076640"/>
            <a:ext cx="8591760" cy="17049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5076720" y="1989000"/>
            <a:ext cx="1871640" cy="792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50920" y="1413000"/>
            <a:ext cx="4176720" cy="1439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-TEST </a:t>
            </a:r>
            <a:r>
              <a:rPr b="1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PAI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q1_a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q1_b (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AIRED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0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ůměrná frekvenc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ledování T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avštěvování ki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stejná (v jednou soubor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68360" y="299736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328"/>
          <p:cNvGraphicFramePr/>
          <p:nvPr/>
        </p:nvGraphicFramePr>
        <p:xfrm>
          <a:off x="395280" y="3284640"/>
          <a:ext cx="3456000" cy="809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1" name="Object 3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3284640"/>
                    <a:ext cx="34560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AutoShape 329"/>
          <p:cNvSpPr/>
          <p:nvPr/>
        </p:nvSpPr>
        <p:spPr>
          <a:xfrm>
            <a:off x="6551640" y="3933720"/>
            <a:ext cx="2592360" cy="647640"/>
          </a:xfrm>
          <a:prstGeom prst="wedgeRoundRectCallout">
            <a:avLst>
              <a:gd name="adj1" fmla="val 25013"/>
              <a:gd name="adj2" fmla="val 11642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0000"/>
                </a:solidFill>
                <a:latin typeface="Arial"/>
              </a:rPr>
              <a:t>H0 zamítáme</a:t>
            </a:r>
            <a:r>
              <a:rPr b="0" lang="cs-CZ" sz="1200" spc="-1" strike="noStrike">
                <a:solidFill>
                  <a:srgbClr val="800000"/>
                </a:solidFill>
                <a:latin typeface="Arial"/>
              </a:rPr>
              <a:t>: dosažená hladina významnosti </a:t>
            </a:r>
            <a:r>
              <a:rPr b="0" i="1" lang="cs-CZ" sz="12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cs-CZ" sz="1200" spc="-1" strike="noStrike">
                <a:solidFill>
                  <a:srgbClr val="800000"/>
                </a:solidFill>
                <a:latin typeface="Arial"/>
              </a:rPr>
              <a:t> je zde nižší než 0,05 i 0,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30"/>
          <p:cNvSpPr/>
          <p:nvPr/>
        </p:nvSpPr>
        <p:spPr>
          <a:xfrm>
            <a:off x="2266920" y="4076640"/>
            <a:ext cx="4608720" cy="1079640"/>
          </a:xfrm>
          <a:prstGeom prst="line">
            <a:avLst/>
          </a:prstGeom>
          <a:ln w="648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31"/>
          <p:cNvSpPr/>
          <p:nvPr/>
        </p:nvSpPr>
        <p:spPr>
          <a:xfrm flipH="1">
            <a:off x="2627280" y="2421000"/>
            <a:ext cx="3960720" cy="25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32"/>
          <p:cNvSpPr/>
          <p:nvPr/>
        </p:nvSpPr>
        <p:spPr>
          <a:xfrm>
            <a:off x="6588000" y="5013360"/>
            <a:ext cx="2232000" cy="431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33"/>
          <p:cNvSpPr/>
          <p:nvPr/>
        </p:nvSpPr>
        <p:spPr>
          <a:xfrm>
            <a:off x="468360" y="5805360"/>
            <a:ext cx="835164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Průměrná frekvence sledování TV a chození do kina se statisticky významně (na </a:t>
            </a:r>
            <a:r>
              <a:rPr b="0" i="1" lang="cs-CZ" sz="1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&lt; 0,01) </a:t>
            </a:r>
            <a:r>
              <a:rPr b="1" lang="cs-CZ" sz="1000" spc="-1" strike="noStrike">
                <a:solidFill>
                  <a:srgbClr val="333399"/>
                </a:solidFill>
                <a:latin typeface="Arial"/>
              </a:rPr>
              <a:t>odlišuje.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Rozdíl 3 bodů (na 5ti bodové škále intenzity trávení volného času) není způsoben náhodnými vlivy, lze ho tedy zobecnit z výběru na populac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34"/>
          <p:cNvSpPr/>
          <p:nvPr/>
        </p:nvSpPr>
        <p:spPr>
          <a:xfrm>
            <a:off x="395280" y="2924280"/>
            <a:ext cx="3456000" cy="317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Alternativní postup - porovnání s kritickou tabulkovou hodnotou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Kvantily t1-α/2 (n) Studentova </a:t>
            </a:r>
            <a:r>
              <a:rPr b="1" i="1" lang="cs-CZ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rozděle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35"/>
          <p:cNvSpPr/>
          <p:nvPr/>
        </p:nvSpPr>
        <p:spPr>
          <a:xfrm>
            <a:off x="179280" y="6613560"/>
            <a:ext cx="25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droj: data ISSP 2007, Č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0B40-91D8-4CE0-8A30-0841F0B6D2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vouvýběrový t-tes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Independent-samples t-test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ustranná alternativa (2-tailed)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Výstup v SP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6076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šíření pro nezávislou proměnnou s více kategoriemi j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ednoduchá analýza rozptyl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mocí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F-test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 SPSS OneWay ANOV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495680" cy="1047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76320" y="2708280"/>
            <a:ext cx="8989920" cy="17352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250920" y="1413000"/>
            <a:ext cx="4176720" cy="1224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T-TES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800000"/>
                </a:solidFill>
                <a:uFillTx/>
                <a:latin typeface="Arial"/>
              </a:rPr>
              <a:t>GROUPS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30(1 2)/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VARIAB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prij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0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ůměrný příjem mužů a žen se neliší, tj. rozdíl v příjmech je nulov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5076720" y="1989000"/>
            <a:ext cx="2087640" cy="576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979640" y="2997360"/>
            <a:ext cx="1655640" cy="1368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 flipH="1">
            <a:off x="1763280" y="3933720"/>
            <a:ext cx="151308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1835280" y="4221000"/>
            <a:ext cx="1944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108000" y="3141720"/>
            <a:ext cx="1368360" cy="539640"/>
          </a:xfrm>
          <a:prstGeom prst="wedgeRoundRectCallout">
            <a:avLst>
              <a:gd name="adj1" fmla="val 100462"/>
              <a:gd name="adj2" fmla="val 23824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00000"/>
                </a:solidFill>
                <a:latin typeface="Arial"/>
              </a:rPr>
              <a:t>1. krok: </a:t>
            </a:r>
            <a:r>
              <a:rPr b="1" lang="cs-CZ" sz="1000" spc="-1" strike="noStrike">
                <a:solidFill>
                  <a:srgbClr val="800000"/>
                </a:solidFill>
                <a:latin typeface="Arial"/>
              </a:rPr>
              <a:t>Test rovnosti rozptylů (F-te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2"/>
          <p:cNvSpPr/>
          <p:nvPr/>
        </p:nvSpPr>
        <p:spPr>
          <a:xfrm>
            <a:off x="3708360" y="4797360"/>
            <a:ext cx="2448000" cy="647640"/>
          </a:xfrm>
          <a:prstGeom prst="wedgeRoundRectCallout">
            <a:avLst>
              <a:gd name="adj1" fmla="val 23930"/>
              <a:gd name="adj2" fmla="val -1269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0000"/>
                </a:solidFill>
                <a:latin typeface="Arial"/>
              </a:rPr>
              <a:t>H0 zamítáme</a:t>
            </a:r>
            <a:r>
              <a:rPr b="0" lang="cs-CZ" sz="1200" spc="-1" strike="noStrike">
                <a:solidFill>
                  <a:srgbClr val="800000"/>
                </a:solidFill>
                <a:latin typeface="Arial"/>
              </a:rPr>
              <a:t>: dosažená hladina významnosti </a:t>
            </a:r>
            <a:r>
              <a:rPr b="0" i="1" lang="cs-CZ" sz="12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cs-CZ" sz="1200" spc="-1" strike="noStrike">
                <a:solidFill>
                  <a:srgbClr val="800000"/>
                </a:solidFill>
                <a:latin typeface="Arial"/>
              </a:rPr>
              <a:t> je zde nižší než 0,05 i 0,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6227640" y="4797360"/>
            <a:ext cx="2735280" cy="576360"/>
          </a:xfrm>
          <a:prstGeom prst="wedgeRoundRectCallout">
            <a:avLst>
              <a:gd name="adj1" fmla="val 22606"/>
              <a:gd name="adj2" fmla="val -15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0" bIns="61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00000"/>
                </a:solidFill>
                <a:latin typeface="Arial"/>
              </a:rPr>
              <a:t>Výsledek testu (zamítnutí H0) potvrzuje i to, že </a:t>
            </a:r>
            <a:r>
              <a:rPr b="1" lang="cs-CZ" sz="1000" spc="-1" strike="noStrike">
                <a:solidFill>
                  <a:srgbClr val="800000"/>
                </a:solidFill>
                <a:latin typeface="Arial"/>
              </a:rPr>
              <a:t>interval spolehlivosti</a:t>
            </a:r>
            <a:r>
              <a:rPr b="0" lang="cs-CZ" sz="1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800000"/>
                </a:solidFill>
                <a:latin typeface="Arial"/>
              </a:rPr>
              <a:t>pro rozdíl</a:t>
            </a:r>
            <a:r>
              <a:rPr b="0" lang="cs-CZ" sz="1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800000"/>
                </a:solidFill>
                <a:latin typeface="Arial"/>
              </a:rPr>
              <a:t>X </a:t>
            </a:r>
            <a:r>
              <a:rPr b="0" i="1" lang="cs-CZ" sz="1000" spc="-1" strike="noStrike" baseline="-25000">
                <a:solidFill>
                  <a:srgbClr val="800000"/>
                </a:solidFill>
                <a:latin typeface="Arial"/>
              </a:rPr>
              <a:t>muži</a:t>
            </a:r>
            <a:r>
              <a:rPr b="0" lang="cs-CZ" sz="1000" spc="-1" strike="noStrike">
                <a:solidFill>
                  <a:srgbClr val="800000"/>
                </a:solidFill>
                <a:latin typeface="Arial"/>
              </a:rPr>
              <a:t> a </a:t>
            </a:r>
            <a:r>
              <a:rPr b="0" i="1" lang="cs-CZ" sz="1000" spc="-1" strike="noStrike">
                <a:solidFill>
                  <a:srgbClr val="800000"/>
                </a:solidFill>
                <a:latin typeface="Arial"/>
              </a:rPr>
              <a:t>X </a:t>
            </a:r>
            <a:r>
              <a:rPr b="0" i="1" lang="cs-CZ" sz="1000" spc="-1" strike="noStrike" baseline="-25000">
                <a:solidFill>
                  <a:srgbClr val="800000"/>
                </a:solidFill>
                <a:latin typeface="Arial"/>
              </a:rPr>
              <a:t>ženy</a:t>
            </a:r>
            <a:r>
              <a:rPr b="0" lang="cs-CZ" sz="1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800000"/>
                </a:solidFill>
                <a:latin typeface="Arial"/>
              </a:rPr>
              <a:t>neobsahuje</a:t>
            </a:r>
            <a:r>
              <a:rPr b="0" lang="cs-CZ" sz="1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800000"/>
                </a:solidFill>
                <a:latin typeface="Arial"/>
              </a:rPr>
              <a:t>nulu</a:t>
            </a:r>
            <a:r>
              <a:rPr b="0" lang="cs-CZ" sz="1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14"/>
          <p:cNvGraphicFramePr/>
          <p:nvPr/>
        </p:nvGraphicFramePr>
        <p:xfrm>
          <a:off x="108000" y="4869000"/>
          <a:ext cx="3456000" cy="80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3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4869000"/>
                    <a:ext cx="34560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15"/>
          <p:cNvSpPr/>
          <p:nvPr/>
        </p:nvSpPr>
        <p:spPr>
          <a:xfrm>
            <a:off x="108000" y="4508640"/>
            <a:ext cx="3456000" cy="317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Alternativní postup - porovnání s kritickou tabulkovou hodnotou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Kvantily t1-α/2 (n) Studentova </a:t>
            </a:r>
            <a:r>
              <a:rPr b="1" i="1" lang="cs-CZ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rozděle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 flipV="1">
            <a:off x="2050920" y="4365720"/>
            <a:ext cx="1873440" cy="1224000"/>
          </a:xfrm>
          <a:prstGeom prst="line">
            <a:avLst/>
          </a:prstGeom>
          <a:ln w="648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7"/>
          <p:cNvSpPr/>
          <p:nvPr/>
        </p:nvSpPr>
        <p:spPr>
          <a:xfrm flipH="1">
            <a:off x="6300360" y="2349360"/>
            <a:ext cx="576360" cy="1295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3780000" y="3645000"/>
            <a:ext cx="1871640" cy="647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3635280" y="5516640"/>
            <a:ext cx="532944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Hodnota průměrného příjmu v sub-populaci mužů 12 930 Kč se statisticky významně (na </a:t>
            </a:r>
            <a:r>
              <a:rPr b="0" i="1" lang="cs-CZ" sz="1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&lt; 0,01) </a:t>
            </a:r>
            <a:r>
              <a:rPr b="1" lang="cs-CZ" sz="1000" spc="-1" strike="noStrike">
                <a:solidFill>
                  <a:srgbClr val="333399"/>
                </a:solidFill>
                <a:latin typeface="Arial"/>
              </a:rPr>
              <a:t>liší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od průměrného příjmu žen 9 060 Kč. Rozdíl v příjmech 3 870 Kč není způsoben náhodnými vlivy a lze ho zobecnit z výběru na populac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179280" y="6613560"/>
            <a:ext cx="25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droj: data ISSP 2007, Č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7280" y="-171720"/>
            <a:ext cx="8856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vouvýběrový t-tes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Independent-samples t-t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7270920" y="6673680"/>
            <a:ext cx="1873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Zdroj: [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PSS Base User's Guide 13.0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: 358-59]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2"/>
          <a:stretch/>
        </p:blipFill>
        <p:spPr>
          <a:xfrm>
            <a:off x="3203640" y="981000"/>
            <a:ext cx="2050920" cy="11923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"/>
          <p:cNvSpPr/>
          <p:nvPr/>
        </p:nvSpPr>
        <p:spPr>
          <a:xfrm>
            <a:off x="3419640" y="549360"/>
            <a:ext cx="5724360" cy="35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333399"/>
                </a:solidFill>
                <a:latin typeface="Arial"/>
              </a:rPr>
              <a:t>T-TEST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700" spc="-1" strike="noStrike">
                <a:solidFill>
                  <a:srgbClr val="800000"/>
                </a:solidFill>
                <a:latin typeface="Arial"/>
              </a:rPr>
              <a:t>GROUPS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Treat (0 1)/ </a:t>
            </a:r>
            <a:r>
              <a:rPr b="1" lang="cs-CZ" sz="1700" spc="-1" strike="noStrike">
                <a:solidFill>
                  <a:srgbClr val="800000"/>
                </a:solidFill>
                <a:latin typeface="Arial"/>
              </a:rPr>
              <a:t>VARIABLES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Bloodprs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"/>
          <p:cNvPicPr/>
          <p:nvPr/>
        </p:nvPicPr>
        <p:blipFill>
          <a:blip r:embed="rId3"/>
          <a:stretch/>
        </p:blipFill>
        <p:spPr>
          <a:xfrm>
            <a:off x="0" y="4149720"/>
            <a:ext cx="7380360" cy="219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/>
          <p:cNvPicPr/>
          <p:nvPr/>
        </p:nvPicPr>
        <p:blipFill>
          <a:blip r:embed="rId4"/>
          <a:stretch/>
        </p:blipFill>
        <p:spPr>
          <a:xfrm>
            <a:off x="179280" y="2637000"/>
            <a:ext cx="5256360" cy="1079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5651640" y="981000"/>
            <a:ext cx="3492360" cy="3141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 výstupu máme k dispozici: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. konvenční t-test (</a:t>
            </a:r>
            <a:r>
              <a:rPr b="0" lang="cs-CZ" sz="1600" spc="-1" strike="noStrike">
                <a:solidFill>
                  <a:srgbClr val="cc3300"/>
                </a:solidFill>
                <a:latin typeface="Arial"/>
              </a:rPr>
              <a:t>Equal variances assumed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2. modifikovaný Welch's t-test (</a:t>
            </a:r>
            <a:r>
              <a:rPr b="0" lang="cs-CZ" sz="1600" spc="-1" strike="noStrike">
                <a:solidFill>
                  <a:srgbClr val="cc3300"/>
                </a:solidFill>
                <a:latin typeface="Arial"/>
              </a:rPr>
              <a:t>equal variances not assumed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kud je Levenův test statisticky signifikantní (tj. předpoklad o rovnosti rozptylů je porušen) → interpretujeme výsledek Welchova t-test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equal variances not assumed). Jeho použití se ostatně obecně doporuču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179280" y="3789360"/>
            <a:ext cx="223200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105902"/>
              <a:gd name="adj5" fmla="val 324921"/>
              <a:gd name="adj6" fmla="val 108462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cc3300"/>
                </a:solidFill>
                <a:latin typeface="Arial"/>
              </a:rPr>
              <a:t>Sig. &gt; 0,05</a:t>
            </a:r>
            <a:r>
              <a:rPr b="0" lang="cs-CZ" sz="1100" spc="-1" strike="noStrike">
                <a:solidFill>
                  <a:srgbClr val="cc3300"/>
                </a:solidFill>
                <a:latin typeface="Arial"/>
              </a:rPr>
              <a:t> → </a:t>
            </a:r>
            <a:r>
              <a:rPr b="1" lang="cs-CZ" sz="1100" spc="-1" strike="noStrike">
                <a:solidFill>
                  <a:srgbClr val="cc3300"/>
                </a:solidFill>
                <a:latin typeface="Arial"/>
              </a:rPr>
              <a:t>skupiny mají stejné rozptyly </a:t>
            </a:r>
            <a:br>
              <a:rPr sz="1100"/>
            </a:br>
            <a:r>
              <a:rPr b="0" lang="cs-CZ" sz="1000" spc="-1" strike="noStrike">
                <a:solidFill>
                  <a:srgbClr val="cc3300"/>
                </a:solidFill>
                <a:latin typeface="Arial"/>
              </a:rPr>
              <a:t>→ čteme první řádek: konvenční t-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2916360" y="4869000"/>
            <a:ext cx="1655640" cy="72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7451640" y="4221000"/>
            <a:ext cx="1692360" cy="221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sledek t-test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cc3300"/>
                </a:solidFill>
                <a:latin typeface="Arial"/>
              </a:rPr>
              <a:t>P-value</a:t>
            </a:r>
            <a:r>
              <a:rPr b="1" lang="cs-CZ" sz="1400" spc="-1" strike="noStrike">
                <a:solidFill>
                  <a:srgbClr val="cc3300"/>
                </a:solidFill>
                <a:latin typeface="Arial"/>
              </a:rPr>
              <a:t> &lt; 0,05 </a:t>
            </a:r>
            <a:br>
              <a:rPr sz="1400"/>
            </a:br>
            <a:r>
              <a:rPr b="1" lang="cs-CZ" sz="1400" spc="-1" strike="noStrike">
                <a:solidFill>
                  <a:srgbClr val="cc3300"/>
                </a:solidFill>
                <a:latin typeface="Arial"/>
              </a:rPr>
              <a:t>→ hypotézu o rovnosti průměrů nemůžeme přijmout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→ Krevní tlak je ve skupině s novým lékem (new drug) o 26 bodů nižší než ve skupině s placeb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0"/>
          <p:cNvSpPr/>
          <p:nvPr/>
        </p:nvSpPr>
        <p:spPr>
          <a:xfrm flipH="1" flipV="1">
            <a:off x="4571640" y="5589360"/>
            <a:ext cx="2879640" cy="144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108000" y="6308640"/>
            <a:ext cx="7200720" cy="45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cc3300"/>
                </a:solidFill>
                <a:latin typeface="Arial"/>
              </a:rPr>
              <a:t>Naměřená statistika </a:t>
            </a:r>
            <a:r>
              <a:rPr b="1" lang="cs-CZ" sz="1200" spc="-1" strike="noStrike">
                <a:solidFill>
                  <a:srgbClr val="cc3300"/>
                </a:solidFill>
                <a:latin typeface="Arial"/>
              </a:rPr>
              <a:t>t = (rozdíl průměrů / S.E. rozdílu průměrů)</a:t>
            </a:r>
            <a:r>
              <a:rPr b="0" lang="cs-CZ" sz="1200" spc="-1" strike="noStrike">
                <a:solidFill>
                  <a:srgbClr val="cc3300"/>
                </a:solidFill>
                <a:latin typeface="Arial"/>
              </a:rPr>
              <a:t> = 6,9 / 26,1 = 3,783</a:t>
            </a:r>
            <a:br>
              <a:rPr sz="1200"/>
            </a:br>
            <a:r>
              <a:rPr b="0" lang="cs-CZ" sz="1200" spc="-1" strike="noStrike">
                <a:solidFill>
                  <a:srgbClr val="cc3300"/>
                </a:solidFill>
                <a:latin typeface="Arial"/>
              </a:rPr>
              <a:t>Tabulková hodnota Studentova t-rozdělení: pro Alfa 5 % a 18 df je </a:t>
            </a:r>
            <a:r>
              <a:rPr b="1" lang="cs-CZ" sz="1200" spc="-1" strike="noStrike">
                <a:solidFill>
                  <a:srgbClr val="cc3300"/>
                </a:solidFill>
                <a:latin typeface="Arial"/>
              </a:rPr>
              <a:t>2,101 &lt; 3,783 → H0 zamítá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250920" y="2492280"/>
            <a:ext cx="46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2:08:07Z</dcterms:created>
  <dc:creator>Jiri Safr</dc:creator>
  <dc:description/>
  <dc:language>en-US</dc:language>
  <cp:lastModifiedBy>Jiří Šafr</cp:lastModifiedBy>
  <dcterms:modified xsi:type="dcterms:W3CDTF">2016-03-08T22:41:42Z</dcterms:modified>
  <cp:revision>266</cp:revision>
  <dc:subject/>
  <dc:title>Analýza kvantitativních dat III. – praktické aplikace vícerozměrných statistických metod</dc:title>
</cp:coreProperties>
</file>